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320" y="6477120"/>
            <a:ext cx="164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c-</a:t>
            </a:r>
            <a:fld id="{9BA88326-84C7-469E-BB61-2372A08D1E8F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arz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5" name=""/>
          <p:cNvGrpSpPr/>
          <p:nvPr/>
        </p:nvGrpSpPr>
        <p:grpSpPr>
          <a:xfrm>
            <a:off x="2513880" y="76320"/>
            <a:ext cx="5673600" cy="6563520"/>
            <a:chOff x="2513880" y="76320"/>
            <a:chExt cx="5673600" cy="6563520"/>
          </a:xfrm>
        </p:grpSpPr>
        <p:grpSp>
          <p:nvGrpSpPr>
            <p:cNvPr id="2726" name=""/>
            <p:cNvGrpSpPr/>
            <p:nvPr/>
          </p:nvGrpSpPr>
          <p:grpSpPr>
            <a:xfrm>
              <a:off x="2622240" y="81000"/>
              <a:ext cx="5565240" cy="6433200"/>
              <a:chOff x="2622240" y="81000"/>
              <a:chExt cx="5565240" cy="6433200"/>
            </a:xfrm>
          </p:grpSpPr>
          <p:sp>
            <p:nvSpPr>
              <p:cNvPr id="2727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531840" y="96624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600240" y="96624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212800" y="81000"/>
                <a:ext cx="2880" cy="45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>
                <a:off x="4869720" y="1907640"/>
                <a:ext cx="244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698280" y="2571480"/>
                <a:ext cx="1415520" cy="117000"/>
              </a:xfrm>
              <a:custGeom>
                <a:avLst/>
                <a:gdLst/>
                <a:ahLst/>
                <a:rect l="l" t="t" r="r" b="b"/>
                <a:pathLst>
                  <a:path w="892" h="74">
                    <a:moveTo>
                      <a:pt x="892" y="74"/>
                    </a:move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52400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59240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495560" y="43570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495560" y="437328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3a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02880" y="4879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445920" y="44510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80960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320720" y="3727080"/>
                <a:ext cx="591480" cy="201240"/>
              </a:xfrm>
              <a:custGeom>
                <a:avLst/>
                <a:gdLst/>
                <a:ahLst/>
                <a:rect l="l" t="t" r="r" b="b"/>
                <a:pathLst>
                  <a:path w="373" h="127">
                    <a:moveTo>
                      <a:pt x="373" y="127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573080" y="4149360"/>
                <a:ext cx="245520" cy="1080"/>
              </a:xfrm>
              <a:prstGeom prst="line">
                <a:avLst/>
              </a:prstGeom>
              <a:ln w="1260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973040" y="4149360"/>
                <a:ext cx="150480" cy="10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455280" y="3658680"/>
                <a:ext cx="358560" cy="79812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18720" y="3607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111280" y="435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111280" y="3906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049360" y="392220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0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817440" y="3509640"/>
                <a:ext cx="502920" cy="29952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2" y="189"/>
                    </a:lnTo>
                    <a:lnTo>
                      <a:pt x="272" y="187"/>
                    </a:lnTo>
                    <a:lnTo>
                      <a:pt x="282" y="183"/>
                    </a:lnTo>
                    <a:lnTo>
                      <a:pt x="290" y="177"/>
                    </a:lnTo>
                    <a:lnTo>
                      <a:pt x="298" y="171"/>
                    </a:lnTo>
                    <a:lnTo>
                      <a:pt x="304" y="163"/>
                    </a:lnTo>
                    <a:lnTo>
                      <a:pt x="308" y="155"/>
                    </a:lnTo>
                    <a:lnTo>
                      <a:pt x="312" y="147"/>
                    </a:lnTo>
                    <a:lnTo>
                      <a:pt x="315" y="137"/>
                    </a:lnTo>
                    <a:lnTo>
                      <a:pt x="317" y="127"/>
                    </a:lnTo>
                    <a:lnTo>
                      <a:pt x="317" y="62"/>
                    </a:lnTo>
                    <a:lnTo>
                      <a:pt x="315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4" y="26"/>
                    </a:lnTo>
                    <a:lnTo>
                      <a:pt x="298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2" y="187"/>
                    </a:lnTo>
                    <a:lnTo>
                      <a:pt x="52" y="189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964320" y="35413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01256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050360" y="3541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08240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120560" y="3541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144320" y="3541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182480" y="3541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92184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961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99996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1580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053600" y="3622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85640" y="3622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104000" y="36223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1205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60160" y="362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195080" y="36223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00932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044240" y="370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81680" y="3701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09824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809600" y="42541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47760" y="3960360"/>
                <a:ext cx="128160" cy="377640"/>
              </a:xfrm>
              <a:custGeom>
                <a:avLst/>
                <a:gdLst/>
                <a:ahLst/>
                <a:rect l="l" t="t" r="r" b="b"/>
                <a:pathLst>
                  <a:path w="81" h="238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2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4"/>
                    </a:lnTo>
                    <a:lnTo>
                      <a:pt x="53" y="236"/>
                    </a:lnTo>
                    <a:lnTo>
                      <a:pt x="47" y="236"/>
                    </a:lnTo>
                    <a:lnTo>
                      <a:pt x="41" y="238"/>
                    </a:lnTo>
                    <a:lnTo>
                      <a:pt x="35" y="236"/>
                    </a:lnTo>
                    <a:lnTo>
                      <a:pt x="29" y="236"/>
                    </a:lnTo>
                    <a:lnTo>
                      <a:pt x="23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>
                <a:off x="4748760" y="4274640"/>
                <a:ext cx="75960" cy="1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680720" y="423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879440" y="4044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38120" y="40446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893480" y="411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931640" y="41112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893480" y="4177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896720" y="3922200"/>
                <a:ext cx="3168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776040" y="3688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050720" y="38127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20"/>
                    </a:moveTo>
                    <a:lnTo>
                      <a:pt x="20" y="22"/>
                    </a:lnTo>
                    <a:lnTo>
                      <a:pt x="1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066560" y="3841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767" y="1281"/>
                    </a:moveTo>
                    <a:lnTo>
                      <a:pt x="815" y="1281"/>
                    </a:ln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111280" y="4130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rot="16200000">
                <a:off x="3421440" y="4133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rot="16200000">
                <a:off x="3407040" y="40996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rot="16200000">
                <a:off x="3421440" y="4072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rot="16200000">
                <a:off x="3421440" y="4053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rot="16200000">
                <a:off x="3401640" y="4015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rot="16200000">
                <a:off x="3391920" y="39549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rot="16200000">
                <a:off x="3419280" y="3922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rot="16200000">
                <a:off x="3423960" y="390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rot="16200000">
                <a:off x="3421440" y="3886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rot="16200000">
                <a:off x="3409560" y="385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rot="16200000">
                <a:off x="2645640" y="4761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rot="16200000">
                <a:off x="2643120" y="4712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rot="16200000">
                <a:off x="2633400" y="465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rot="16200000">
                <a:off x="2660760" y="461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rot="16200000">
                <a:off x="2665440" y="4601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rot="16200000">
                <a:off x="2662920" y="458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rot="16200000">
                <a:off x="2651040" y="455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4632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4816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531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55004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594320" y="6054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639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65804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70772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74588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780080" y="6054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796640" y="6054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82868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847400" y="605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887360" y="6054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08960" y="6054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57200" y="6054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698280" y="3704760"/>
                <a:ext cx="90000" cy="485280"/>
              </a:xfrm>
              <a:custGeom>
                <a:avLst/>
                <a:gdLst/>
                <a:ahLst/>
                <a:rect l="l" t="t" r="r" b="b"/>
                <a:pathLst>
                  <a:path w="57" h="306">
                    <a:moveTo>
                      <a:pt x="57" y="0"/>
                    </a:moveTo>
                    <a:lnTo>
                      <a:pt x="0" y="2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267520" y="337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289840" y="3376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3697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39856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45724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51772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546160" y="3376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5746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6350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69376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72868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788800" y="3376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851080" y="3376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531840" y="4262040"/>
                <a:ext cx="68040" cy="22644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600240" y="4265280"/>
                <a:ext cx="6624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31840" y="4036680"/>
                <a:ext cx="6804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600240" y="4036680"/>
                <a:ext cx="66240" cy="228240"/>
              </a:xfrm>
              <a:custGeom>
                <a:avLst/>
                <a:gdLst/>
                <a:ahLst/>
                <a:rect l="l" t="t" r="r" b="b"/>
                <a:pathLst>
                  <a:path w="42" h="144">
                    <a:moveTo>
                      <a:pt x="0" y="142"/>
                    </a:moveTo>
                    <a:lnTo>
                      <a:pt x="42" y="144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522480" y="4149360"/>
                <a:ext cx="29484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509880" y="4376160"/>
                <a:ext cx="1302840" cy="1863360"/>
              </a:xfrm>
              <a:custGeom>
                <a:avLst/>
                <a:gdLst/>
                <a:ahLst/>
                <a:rect l="l" t="t" r="r" b="b"/>
                <a:pathLst>
                  <a:path w="821" h="1174">
                    <a:moveTo>
                      <a:pt x="821" y="0"/>
                    </a:moveTo>
                    <a:lnTo>
                      <a:pt x="821" y="1174"/>
                    </a:lnTo>
                    <a:lnTo>
                      <a:pt x="0" y="117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H="1">
                <a:off x="6666480" y="5913000"/>
                <a:ext cx="8283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22480" y="5913000"/>
                <a:ext cx="220320" cy="17892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7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918960" y="5081040"/>
                <a:ext cx="3285720" cy="1433160"/>
              </a:xfrm>
              <a:custGeom>
                <a:avLst/>
                <a:gdLst/>
                <a:ahLst/>
                <a:rect l="l" t="t" r="r" b="b"/>
                <a:pathLst>
                  <a:path w="2070" h="903">
                    <a:moveTo>
                      <a:pt x="2070" y="698"/>
                    </a:moveTo>
                    <a:lnTo>
                      <a:pt x="2070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666840" y="4152600"/>
                <a:ext cx="831600" cy="223200"/>
              </a:xfrm>
              <a:custGeom>
                <a:avLst/>
                <a:gdLst/>
                <a:ahLst/>
                <a:rect l="l" t="t" r="r" b="b"/>
                <a:pathLst>
                  <a:path w="524" h="141">
                    <a:moveTo>
                      <a:pt x="524" y="141"/>
                    </a:moveTo>
                    <a:lnTo>
                      <a:pt x="480" y="141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814360" y="5544720"/>
                <a:ext cx="182160" cy="52200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2" y="45"/>
                    </a:lnTo>
                    <a:lnTo>
                      <a:pt x="65" y="45"/>
                    </a:lnTo>
                    <a:lnTo>
                      <a:pt x="65" y="329"/>
                    </a:lnTo>
                    <a:lnTo>
                      <a:pt x="115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814360" y="5019120"/>
                <a:ext cx="215640" cy="996840"/>
              </a:xfrm>
              <a:custGeom>
                <a:avLst/>
                <a:gdLst/>
                <a:ahLst/>
                <a:rect l="l" t="t" r="r" b="b"/>
                <a:pathLst>
                  <a:path w="136" h="628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8"/>
                    </a:lnTo>
                    <a:lnTo>
                      <a:pt x="136" y="628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698280" y="5865480"/>
                <a:ext cx="1422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798520" y="5522400"/>
                <a:ext cx="36000" cy="3132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2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798520" y="4997160"/>
                <a:ext cx="36000" cy="327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23" y="21"/>
                    </a:lnTo>
                    <a:lnTo>
                      <a:pt x="12" y="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484320" y="622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662240" y="4376160"/>
                <a:ext cx="15048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146200" y="4265280"/>
                <a:ext cx="134280" cy="22320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333320" y="50619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2667960" y="491760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2686320" y="50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727720" y="5052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891880" y="470016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102840" y="4700160"/>
                <a:ext cx="2142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29394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29584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997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02976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048840" y="50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07116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105720" y="5014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141000" y="50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159360" y="50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1726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212280" y="50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247560" y="5014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840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04236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077640" y="5094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131280" y="509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169800" y="509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193200" y="509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994080" y="4674600"/>
                <a:ext cx="421920" cy="784080"/>
              </a:xfrm>
              <a:custGeom>
                <a:avLst/>
                <a:gdLst/>
                <a:ahLst/>
                <a:rect l="l" t="t" r="r" b="b"/>
                <a:pathLst>
                  <a:path w="266" h="494">
                    <a:moveTo>
                      <a:pt x="266" y="494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6" y="494"/>
                    </a:lnTo>
                    <a:lnTo>
                      <a:pt x="266" y="494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3332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333320" y="52635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71608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716080" y="520164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068520" y="5311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5882400" y="53272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480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48080" y="52984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2788560" y="5090760"/>
                <a:ext cx="77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285372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86240" y="5003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3"/>
                    </a:lnTo>
                    <a:lnTo>
                      <a:pt x="2" y="27"/>
                    </a:lnTo>
                    <a:lnTo>
                      <a:pt x="4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8" y="13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77" y="27"/>
                    </a:lnTo>
                    <a:lnTo>
                      <a:pt x="79" y="33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8" y="224"/>
                    </a:lnTo>
                    <a:lnTo>
                      <a:pt x="62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754240" y="51415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4"/>
                    </a:lnTo>
                    <a:lnTo>
                      <a:pt x="2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7" y="28"/>
                    </a:lnTo>
                    <a:lnTo>
                      <a:pt x="79" y="34"/>
                    </a:lnTo>
                    <a:lnTo>
                      <a:pt x="79" y="40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588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33332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37148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620600" y="458748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475520" y="49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52520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56336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597560" y="49399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61376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646160" y="4939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664880" y="4939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704840" y="49399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726440" y="4939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993480" y="5192280"/>
                <a:ext cx="4194000" cy="1248840"/>
              </a:xfrm>
              <a:custGeom>
                <a:avLst/>
                <a:gdLst/>
                <a:ahLst/>
                <a:rect l="l" t="t" r="r" b="b"/>
                <a:pathLst>
                  <a:path w="2642" h="787">
                    <a:moveTo>
                      <a:pt x="222" y="55"/>
                    </a:moveTo>
                    <a:lnTo>
                      <a:pt x="0" y="55"/>
                    </a:lnTo>
                    <a:lnTo>
                      <a:pt x="0" y="787"/>
                    </a:lnTo>
                    <a:lnTo>
                      <a:pt x="2642" y="787"/>
                    </a:lnTo>
                    <a:lnTo>
                      <a:pt x="2642" y="0"/>
                    </a:lnTo>
                    <a:lnTo>
                      <a:pt x="2596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3701160" y="4681080"/>
                <a:ext cx="6440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785920" y="52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844600" y="52257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798520" y="52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834880" y="52891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798160" y="53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754240" y="5727240"/>
                <a:ext cx="124920" cy="371160"/>
              </a:xfrm>
              <a:custGeom>
                <a:avLst/>
                <a:gdLst/>
                <a:ahLst/>
                <a:rect l="l" t="t" r="r" b="b"/>
                <a:pathLst>
                  <a:path w="79" h="234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6" y="234"/>
                    </a:lnTo>
                    <a:lnTo>
                      <a:pt x="40" y="234"/>
                    </a:lnTo>
                    <a:lnTo>
                      <a:pt x="34" y="234"/>
                    </a:lnTo>
                    <a:lnTo>
                      <a:pt x="28" y="232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85920" y="5808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2513880" y="3379680"/>
              <a:ext cx="5613840" cy="3260160"/>
              <a:chOff x="2513880" y="3379680"/>
              <a:chExt cx="5613840" cy="3260160"/>
            </a:xfrm>
          </p:grpSpPr>
          <p:sp>
            <p:nvSpPr>
              <p:cNvPr id="2928" name=""/>
              <p:cNvSpPr/>
              <p:nvPr/>
            </p:nvSpPr>
            <p:spPr>
              <a:xfrm>
                <a:off x="5844960" y="5808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798880" y="587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835240" y="58748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798520" y="59432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018280" y="50875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075520" y="508752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030880" y="515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065800" y="5150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030520" y="5219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701880" y="4879440"/>
                <a:ext cx="64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108400" y="518580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4870080" y="52016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87528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96960" y="3860280"/>
                <a:ext cx="276120" cy="582480"/>
              </a:xfrm>
              <a:custGeom>
                <a:avLst/>
                <a:gdLst/>
                <a:ahLst/>
                <a:rect l="l" t="t" r="r" b="b"/>
                <a:pathLst>
                  <a:path w="174" h="367">
                    <a:moveTo>
                      <a:pt x="87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7"/>
                    </a:lnTo>
                    <a:lnTo>
                      <a:pt x="138" y="333"/>
                    </a:lnTo>
                    <a:lnTo>
                      <a:pt x="150" y="313"/>
                    </a:lnTo>
                    <a:lnTo>
                      <a:pt x="158" y="293"/>
                    </a:lnTo>
                    <a:lnTo>
                      <a:pt x="164" y="269"/>
                    </a:lnTo>
                    <a:lnTo>
                      <a:pt x="170" y="242"/>
                    </a:lnTo>
                    <a:lnTo>
                      <a:pt x="174" y="214"/>
                    </a:lnTo>
                    <a:lnTo>
                      <a:pt x="174" y="184"/>
                    </a:lnTo>
                    <a:lnTo>
                      <a:pt x="174" y="154"/>
                    </a:lnTo>
                    <a:lnTo>
                      <a:pt x="170" y="125"/>
                    </a:lnTo>
                    <a:lnTo>
                      <a:pt x="164" y="99"/>
                    </a:lnTo>
                    <a:lnTo>
                      <a:pt x="158" y="75"/>
                    </a:lnTo>
                    <a:lnTo>
                      <a:pt x="150" y="53"/>
                    </a:lnTo>
                    <a:lnTo>
                      <a:pt x="138" y="35"/>
                    </a:lnTo>
                    <a:lnTo>
                      <a:pt x="127" y="21"/>
                    </a:lnTo>
                    <a:lnTo>
                      <a:pt x="115" y="9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61" y="9"/>
                    </a:lnTo>
                    <a:lnTo>
                      <a:pt x="47" y="21"/>
                    </a:lnTo>
                    <a:lnTo>
                      <a:pt x="37" y="35"/>
                    </a:lnTo>
                    <a:lnTo>
                      <a:pt x="27" y="53"/>
                    </a:lnTo>
                    <a:lnTo>
                      <a:pt x="17" y="75"/>
                    </a:lnTo>
                    <a:lnTo>
                      <a:pt x="10" y="99"/>
                    </a:lnTo>
                    <a:lnTo>
                      <a:pt x="4" y="125"/>
                    </a:lnTo>
                    <a:lnTo>
                      <a:pt x="2" y="154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9"/>
                    </a:lnTo>
                    <a:lnTo>
                      <a:pt x="17" y="293"/>
                    </a:lnTo>
                    <a:lnTo>
                      <a:pt x="27" y="313"/>
                    </a:lnTo>
                    <a:lnTo>
                      <a:pt x="37" y="333"/>
                    </a:lnTo>
                    <a:lnTo>
                      <a:pt x="47" y="347"/>
                    </a:lnTo>
                    <a:lnTo>
                      <a:pt x="61" y="359"/>
                    </a:lnTo>
                    <a:lnTo>
                      <a:pt x="73" y="365"/>
                    </a:lnTo>
                    <a:lnTo>
                      <a:pt x="87" y="367"/>
                    </a:lnTo>
                    <a:lnTo>
                      <a:pt x="87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417480" y="4488840"/>
                <a:ext cx="133200" cy="1552320"/>
              </a:xfrm>
              <a:custGeom>
                <a:avLst/>
                <a:gdLst/>
                <a:ahLst/>
                <a:rect l="l" t="t" r="r" b="b"/>
                <a:pathLst>
                  <a:path w="84" h="978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4" y="978"/>
                    </a:lnTo>
                    <a:lnTo>
                      <a:pt x="84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146560" y="4488840"/>
                <a:ext cx="134280" cy="155232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6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379680" y="5074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314520" y="5090760"/>
                <a:ext cx="74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10840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4870080" y="4677840"/>
                <a:ext cx="2440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108400" y="5648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776400" y="4681080"/>
                <a:ext cx="1341000" cy="985320"/>
              </a:xfrm>
              <a:custGeom>
                <a:avLst/>
                <a:gdLst/>
                <a:ahLst/>
                <a:rect l="l" t="t" r="r" b="b"/>
                <a:pathLst>
                  <a:path w="845" h="621">
                    <a:moveTo>
                      <a:pt x="845" y="619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17428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2189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146560" y="4036680"/>
                <a:ext cx="134280" cy="228240"/>
              </a:xfrm>
              <a:custGeom>
                <a:avLst/>
                <a:gdLst/>
                <a:ahLst/>
                <a:rect l="l" t="t" r="r" b="b"/>
                <a:pathLst>
                  <a:path w="85" h="144">
                    <a:moveTo>
                      <a:pt x="83" y="142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5" y="144"/>
                    </a:lnTo>
                    <a:lnTo>
                      <a:pt x="85" y="1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184720" y="41112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146560" y="3812760"/>
                <a:ext cx="134280" cy="22356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165280" y="38872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225040" y="3887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494400" y="4341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281200" y="4152600"/>
                <a:ext cx="1222200" cy="207360"/>
              </a:xfrm>
              <a:custGeom>
                <a:avLst/>
                <a:gdLst/>
                <a:ahLst/>
                <a:rect l="l" t="t" r="r" b="b"/>
                <a:pathLst>
                  <a:path w="770" h="131">
                    <a:moveTo>
                      <a:pt x="770" y="131"/>
                    </a:moveTo>
                    <a:lnTo>
                      <a:pt x="695" y="131"/>
                    </a:lnTo>
                    <a:lnTo>
                      <a:pt x="695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494400" y="41335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278320" y="392544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530840" y="4265280"/>
                <a:ext cx="131400" cy="22320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548120" y="4338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11120" y="433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49440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6321240" y="5065200"/>
                <a:ext cx="1821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489440" y="50493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7662240" y="5065200"/>
                <a:ext cx="3013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>
                <a:off x="7419240" y="5065200"/>
                <a:ext cx="7596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48944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662600" y="5314680"/>
                <a:ext cx="301320" cy="219960"/>
              </a:xfrm>
              <a:custGeom>
                <a:avLst/>
                <a:gdLst/>
                <a:ahLst/>
                <a:rect l="l" t="t" r="r" b="b"/>
                <a:pathLst>
                  <a:path w="190" h="139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>
                <a:off x="6890760" y="5532120"/>
                <a:ext cx="604440" cy="25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133400" y="49892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183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21800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237080" y="4989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275240" y="49892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0866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1402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180200" y="5068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233840" y="506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272000" y="506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293960" y="506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103800" y="4728600"/>
                <a:ext cx="217080" cy="674280"/>
              </a:xfrm>
              <a:custGeom>
                <a:avLst/>
                <a:gdLst/>
                <a:ahLst/>
                <a:rect l="l" t="t" r="r" b="b"/>
                <a:pathLst>
                  <a:path w="137" h="425">
                    <a:moveTo>
                      <a:pt x="0" y="0"/>
                    </a:moveTo>
                    <a:lnTo>
                      <a:pt x="2" y="173"/>
                    </a:lnTo>
                    <a:lnTo>
                      <a:pt x="44" y="214"/>
                    </a:lnTo>
                    <a:lnTo>
                      <a:pt x="2" y="254"/>
                    </a:lnTo>
                    <a:lnTo>
                      <a:pt x="2" y="425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754600" y="461592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7" y="29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9" y="198"/>
                    </a:lnTo>
                    <a:lnTo>
                      <a:pt x="79" y="204"/>
                    </a:lnTo>
                    <a:lnTo>
                      <a:pt x="77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786280" y="4700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844960" y="47001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798880" y="476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835240" y="4763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98520" y="4831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0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994000" y="5990760"/>
                <a:ext cx="500040" cy="29952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250" y="189"/>
                    </a:moveTo>
                    <a:lnTo>
                      <a:pt x="263" y="189"/>
                    </a:lnTo>
                    <a:lnTo>
                      <a:pt x="273" y="185"/>
                    </a:lnTo>
                    <a:lnTo>
                      <a:pt x="281" y="183"/>
                    </a:lnTo>
                    <a:lnTo>
                      <a:pt x="289" y="177"/>
                    </a:lnTo>
                    <a:lnTo>
                      <a:pt x="297" y="171"/>
                    </a:lnTo>
                    <a:lnTo>
                      <a:pt x="303" y="163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5" y="137"/>
                    </a:lnTo>
                    <a:lnTo>
                      <a:pt x="315" y="127"/>
                    </a:lnTo>
                    <a:lnTo>
                      <a:pt x="315" y="64"/>
                    </a:lnTo>
                    <a:lnTo>
                      <a:pt x="315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3" y="26"/>
                    </a:lnTo>
                    <a:lnTo>
                      <a:pt x="297" y="18"/>
                    </a:lnTo>
                    <a:lnTo>
                      <a:pt x="289" y="12"/>
                    </a:lnTo>
                    <a:lnTo>
                      <a:pt x="281" y="8"/>
                    </a:lnTo>
                    <a:lnTo>
                      <a:pt x="273" y="4"/>
                    </a:lnTo>
                    <a:lnTo>
                      <a:pt x="263" y="2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3"/>
                    </a:lnTo>
                    <a:lnTo>
                      <a:pt x="19" y="171"/>
                    </a:lnTo>
                    <a:lnTo>
                      <a:pt x="27" y="177"/>
                    </a:lnTo>
                    <a:lnTo>
                      <a:pt x="35" y="183"/>
                    </a:lnTo>
                    <a:lnTo>
                      <a:pt x="43" y="185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078240" y="60638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1196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15456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176160" y="6063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22584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264000" y="60638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28632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323760" y="6063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3370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374880" y="6063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411600" y="6063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18624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222600" y="6144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260040" y="61448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273720" y="6144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716440" y="4911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068880" y="47858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>
                <a:off x="5882760" y="4801680"/>
                <a:ext cx="19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16440" y="4782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716440" y="46620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5281200" y="4677840"/>
                <a:ext cx="450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547800" y="5090760"/>
                <a:ext cx="1537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701880" y="4152600"/>
                <a:ext cx="1415520" cy="1826640"/>
              </a:xfrm>
              <a:custGeom>
                <a:avLst/>
                <a:gdLst/>
                <a:ahLst/>
                <a:rect l="l" t="t" r="r" b="b"/>
                <a:pathLst>
                  <a:path w="892" h="1151">
                    <a:moveTo>
                      <a:pt x="892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108400" y="57463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849480" y="4882680"/>
                <a:ext cx="1267920" cy="88236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108400" y="58496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108400" y="59605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686040" y="58496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760560" y="46652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833640" y="4863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489440" y="589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724440" y="590040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522840" y="5916240"/>
                <a:ext cx="1217160" cy="27576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500520" y="617184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500520" y="6073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500520" y="612396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951600" y="504936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2" y="22"/>
                    </a:lnTo>
                    <a:lnTo>
                      <a:pt x="23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6666840" y="5065200"/>
                <a:ext cx="2934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875280" y="551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189560" y="617652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rot="16200000">
                <a:off x="3626640" y="498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3614760" y="4958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rot="16200000">
                <a:off x="3616920" y="4920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rot="16200000">
                <a:off x="3626640" y="489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6200000">
                <a:off x="3624480" y="4877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rot="16200000">
                <a:off x="3614760" y="4845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rot="16200000">
                <a:off x="3616920" y="4812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rot="16200000">
                <a:off x="3626640" y="4787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200000">
                <a:off x="3629160" y="4775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rot="16200000">
                <a:off x="3614760" y="4742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rot="16200000">
                <a:off x="3614760" y="4704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484440" y="3399840"/>
                <a:ext cx="10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468600" y="4354200"/>
                <a:ext cx="31320" cy="7236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20" y="0"/>
                    </a:moveTo>
                    <a:lnTo>
                      <a:pt x="2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41136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430440" y="4350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47148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487320" y="43509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505680" y="4350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4844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5380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6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65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7177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747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804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8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8937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922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984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04136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0734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1018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160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213160" y="3399840"/>
                <a:ext cx="1080" cy="41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197320" y="370476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1274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145840" y="3701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194080" y="370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21244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256720" y="37015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600600" y="3399840"/>
                <a:ext cx="10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65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7147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77520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8054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86268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8972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95772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0196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0797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582960" y="3928680"/>
                <a:ext cx="33120" cy="7272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47136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51564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561000" y="3925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58008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34800" y="3925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80160" y="3925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596000" y="3399840"/>
                <a:ext cx="288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652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7101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7720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8004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857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8958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545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80182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8075160" y="33796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80160" y="4152600"/>
                <a:ext cx="34560" cy="7236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45776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51104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557840" y="4152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611840" y="4152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630560" y="4152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693560" y="4152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5146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574720" y="3379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6110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63952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7000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5724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78568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81916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87604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9365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965320" y="337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99520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055680" y="3379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513880" y="6411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8" name=""/>
            <p:cNvGrpSpPr/>
            <p:nvPr/>
          </p:nvGrpSpPr>
          <p:grpSpPr>
            <a:xfrm>
              <a:off x="2589840" y="210960"/>
              <a:ext cx="5072040" cy="6428880"/>
              <a:chOff x="2589840" y="210960"/>
              <a:chExt cx="5072040" cy="6428880"/>
            </a:xfrm>
          </p:grpSpPr>
          <p:sp>
            <p:nvSpPr>
              <p:cNvPr id="3129" name=""/>
              <p:cNvSpPr/>
              <p:nvPr/>
            </p:nvSpPr>
            <p:spPr>
              <a:xfrm>
                <a:off x="2589840" y="6411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61720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674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728080" y="6411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782440" y="6411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812320" y="6411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641040" y="366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3830040" y="4787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833280" y="4588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647520" y="3755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9921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029920" y="3833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39532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433480" y="3827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9921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0270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9921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02704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029920" y="5676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50299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029920" y="5884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31252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347440" y="4585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312520" y="5109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347080" y="5109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312160" y="5676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312520" y="557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293440" y="578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326120" y="4114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37436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40928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447440" y="4114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466520" y="411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4488840" y="411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524480" y="4114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185160" y="50302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31960" y="5030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69400" y="5030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531840" y="4488840"/>
                <a:ext cx="68040" cy="155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600240" y="448884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6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lnTo>
                      <a:pt x="83" y="9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530480" y="4488840"/>
                <a:ext cx="131400" cy="155232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6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60024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595640" y="604152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5280840" y="5201640"/>
                <a:ext cx="4507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212800" y="6041520"/>
                <a:ext cx="10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000" y="433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50560" y="4111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615360" y="4111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050720" y="5187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809600" y="9601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480960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4896720" y="628200"/>
                <a:ext cx="3168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0" y="0"/>
                    </a:lnTo>
                    <a:lnTo>
                      <a:pt x="10" y="2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320720" y="423360"/>
                <a:ext cx="591480" cy="210960"/>
              </a:xfrm>
              <a:custGeom>
                <a:avLst/>
                <a:gdLst/>
                <a:ahLst/>
                <a:rect l="l" t="t" r="r" b="b"/>
                <a:pathLst>
                  <a:path w="373" h="133">
                    <a:moveTo>
                      <a:pt x="373" y="133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573080" y="852120"/>
                <a:ext cx="24552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973040" y="852120"/>
                <a:ext cx="150480" cy="2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3442680" y="11520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455280" y="361440"/>
                <a:ext cx="358560" cy="796680"/>
              </a:xfrm>
              <a:custGeom>
                <a:avLst/>
                <a:gdLst/>
                <a:ahLst/>
                <a:rect l="l" t="t" r="r" b="b"/>
                <a:pathLst>
                  <a:path w="226" h="502">
                    <a:moveTo>
                      <a:pt x="0" y="502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18720" y="313920"/>
                <a:ext cx="1098360" cy="1277640"/>
              </a:xfrm>
              <a:custGeom>
                <a:avLst/>
                <a:gdLst/>
                <a:ahLst/>
                <a:rect l="l" t="t" r="r" b="b"/>
                <a:pathLst>
                  <a:path w="692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02880" y="158544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0"/>
                    </a:lnTo>
                    <a:lnTo>
                      <a:pt x="10" y="2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111280" y="1063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11280" y="60768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049360" y="624960"/>
                <a:ext cx="74160" cy="453600"/>
              </a:xfrm>
              <a:custGeom>
                <a:avLst/>
                <a:gdLst/>
                <a:ahLst/>
                <a:rect l="l" t="t" r="r" b="b"/>
                <a:pathLst>
                  <a:path w="47" h="286">
                    <a:moveTo>
                      <a:pt x="45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7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  <a:lnTo>
                      <a:pt x="252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817440" y="210960"/>
                <a:ext cx="502920" cy="304560"/>
              </a:xfrm>
              <a:custGeom>
                <a:avLst/>
                <a:gdLst/>
                <a:ahLst/>
                <a:rect l="l" t="t" r="r" b="b"/>
                <a:pathLst>
                  <a:path w="317" h="192">
                    <a:moveTo>
                      <a:pt x="252" y="190"/>
                    </a:moveTo>
                    <a:lnTo>
                      <a:pt x="262" y="190"/>
                    </a:lnTo>
                    <a:lnTo>
                      <a:pt x="272" y="188"/>
                    </a:lnTo>
                    <a:lnTo>
                      <a:pt x="282" y="184"/>
                    </a:lnTo>
                    <a:lnTo>
                      <a:pt x="290" y="180"/>
                    </a:lnTo>
                    <a:lnTo>
                      <a:pt x="298" y="172"/>
                    </a:lnTo>
                    <a:lnTo>
                      <a:pt x="304" y="166"/>
                    </a:lnTo>
                    <a:lnTo>
                      <a:pt x="308" y="158"/>
                    </a:lnTo>
                    <a:lnTo>
                      <a:pt x="312" y="148"/>
                    </a:lnTo>
                    <a:lnTo>
                      <a:pt x="315" y="138"/>
                    </a:lnTo>
                    <a:lnTo>
                      <a:pt x="317" y="127"/>
                    </a:lnTo>
                    <a:lnTo>
                      <a:pt x="317" y="65"/>
                    </a:lnTo>
                    <a:lnTo>
                      <a:pt x="315" y="55"/>
                    </a:lnTo>
                    <a:lnTo>
                      <a:pt x="312" y="45"/>
                    </a:lnTo>
                    <a:lnTo>
                      <a:pt x="308" y="35"/>
                    </a:lnTo>
                    <a:lnTo>
                      <a:pt x="304" y="27"/>
                    </a:lnTo>
                    <a:lnTo>
                      <a:pt x="298" y="21"/>
                    </a:lnTo>
                    <a:lnTo>
                      <a:pt x="290" y="13"/>
                    </a:lnTo>
                    <a:lnTo>
                      <a:pt x="282" y="8"/>
                    </a:lnTo>
                    <a:lnTo>
                      <a:pt x="272" y="4"/>
                    </a:lnTo>
                    <a:lnTo>
                      <a:pt x="262" y="2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3"/>
                    </a:lnTo>
                    <a:lnTo>
                      <a:pt x="18" y="21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6" y="158"/>
                    </a:lnTo>
                    <a:lnTo>
                      <a:pt x="12" y="166"/>
                    </a:lnTo>
                    <a:lnTo>
                      <a:pt x="18" y="172"/>
                    </a:lnTo>
                    <a:lnTo>
                      <a:pt x="26" y="180"/>
                    </a:lnTo>
                    <a:lnTo>
                      <a:pt x="34" y="184"/>
                    </a:lnTo>
                    <a:lnTo>
                      <a:pt x="42" y="188"/>
                    </a:lnTo>
                    <a:lnTo>
                      <a:pt x="52" y="190"/>
                    </a:lnTo>
                    <a:lnTo>
                      <a:pt x="62" y="192"/>
                    </a:lnTo>
                    <a:lnTo>
                      <a:pt x="252" y="192"/>
                    </a:lnTo>
                    <a:lnTo>
                      <a:pt x="252" y="192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964320" y="244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01256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050360" y="24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08240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20560" y="2440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144320" y="244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182480" y="2440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92184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961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399996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01580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053600" y="326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85640" y="326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104000" y="326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1205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160160" y="326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195080" y="32652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0932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044240" y="407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081680" y="407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098240" y="407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847760" y="666360"/>
                <a:ext cx="12816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8"/>
                    </a:lnTo>
                    <a:lnTo>
                      <a:pt x="81" y="197"/>
                    </a:lnTo>
                    <a:lnTo>
                      <a:pt x="79" y="203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3" y="230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3" y="232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2" y="210"/>
                    </a:lnTo>
                    <a:lnTo>
                      <a:pt x="2" y="203"/>
                    </a:lnTo>
                    <a:lnTo>
                      <a:pt x="0" y="197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4743000" y="975960"/>
                <a:ext cx="7560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674600" y="942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879440" y="747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938120" y="7473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893480" y="813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931640" y="813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4893480" y="880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3776040" y="39636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2" y="21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4066560" y="547200"/>
                <a:ext cx="1293480" cy="2307960"/>
              </a:xfrm>
              <a:custGeom>
                <a:avLst/>
                <a:gdLst/>
                <a:ahLst/>
                <a:rect l="l" t="t" r="r" b="b"/>
                <a:pathLst>
                  <a:path w="815" h="1454">
                    <a:moveTo>
                      <a:pt x="815" y="1279"/>
                    </a:moveTo>
                    <a:lnTo>
                      <a:pt x="815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11280" y="836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rot="16200000">
                <a:off x="3421440" y="83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rot="16200000">
                <a:off x="3407040" y="8024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rot="16200000">
                <a:off x="3421440" y="778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rot="16200000">
                <a:off x="3421440" y="759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rot="16200000">
                <a:off x="3401640" y="721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rot="16200000">
                <a:off x="3391920" y="6606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rot="16200000">
                <a:off x="3419280" y="6256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rot="16200000">
                <a:off x="3423960" y="609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rot="16200000">
                <a:off x="3421440" y="589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rot="16200000">
                <a:off x="3409560" y="562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rot="16200000">
                <a:off x="2645280" y="14626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rot="16200000">
                <a:off x="2642760" y="1415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rot="16200000">
                <a:off x="2633040" y="135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rot="16200000">
                <a:off x="2660400" y="1324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rot="16200000">
                <a:off x="2665080" y="1306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rot="16200000">
                <a:off x="2662560" y="1286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rot="16200000">
                <a:off x="2650680" y="1256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4632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4816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531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55004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594320" y="2760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639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65804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70772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74588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780080" y="2760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796640" y="2760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82868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847400" y="2760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887360" y="2760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908960" y="27601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957200" y="276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698280" y="408960"/>
                <a:ext cx="90000" cy="487080"/>
              </a:xfrm>
              <a:custGeom>
                <a:avLst/>
                <a:gdLst/>
                <a:ahLst/>
                <a:rect l="l" t="t" r="r" b="b"/>
                <a:pathLst>
                  <a:path w="57" h="307">
                    <a:moveTo>
                      <a:pt x="57" y="0"/>
                    </a:moveTo>
                    <a:lnTo>
                      <a:pt x="0" y="0"/>
                    </a:lnTo>
                    <a:lnTo>
                      <a:pt x="0" y="30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326840" y="36468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6872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7073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755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77396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818240" y="288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863600" y="288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87944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9381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4976280" y="288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029560" y="288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07924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11740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152320" y="28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349160" y="380520"/>
                <a:ext cx="1010880" cy="477360"/>
              </a:xfrm>
              <a:custGeom>
                <a:avLst/>
                <a:gdLst/>
                <a:ahLst/>
                <a:rect l="l" t="t" r="r" b="b"/>
                <a:pathLst>
                  <a:path w="637" h="301">
                    <a:moveTo>
                      <a:pt x="637" y="301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344560" y="84240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323600" y="365868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21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4345920" y="367452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6904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71024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75884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77396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818240" y="35888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863600" y="3588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88412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9413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976280" y="3588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32800" y="35888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8248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12064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155560" y="3588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4349160" y="3677760"/>
                <a:ext cx="1010880" cy="474480"/>
              </a:xfrm>
              <a:custGeom>
                <a:avLst/>
                <a:gdLst/>
                <a:ahLst/>
                <a:rect l="l" t="t" r="r" b="b"/>
                <a:pathLst>
                  <a:path w="637" h="299">
                    <a:moveTo>
                      <a:pt x="637" y="299"/>
                    </a:moveTo>
                    <a:lnTo>
                      <a:pt x="63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344560" y="413640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955840" y="28299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0"/>
                    </a:moveTo>
                    <a:lnTo>
                      <a:pt x="0" y="20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94040" y="175356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065280" y="2017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065280" y="14918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716080" y="136656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0" y="21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716080" y="18918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968440" y="290952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21"/>
                    </a:lnTo>
                    <a:lnTo>
                      <a:pt x="2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490800" y="10472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490800" y="83916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149080" y="966240"/>
                <a:ext cx="66600" cy="2282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216040" y="966240"/>
                <a:ext cx="67680" cy="2282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142"/>
                    </a:moveTo>
                    <a:lnTo>
                      <a:pt x="43" y="144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149080" y="742680"/>
                <a:ext cx="66600" cy="22320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216040" y="742680"/>
                <a:ext cx="67680" cy="22320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149080" y="515520"/>
                <a:ext cx="66600" cy="226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42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2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216040" y="518760"/>
                <a:ext cx="67680" cy="22356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187600" y="8139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167800" y="590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227920" y="590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146200" y="1191600"/>
                <a:ext cx="66240" cy="155232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42" y="0"/>
                    </a:moveTo>
                    <a:lnTo>
                      <a:pt x="0" y="2"/>
                    </a:lnTo>
                    <a:lnTo>
                      <a:pt x="0" y="978"/>
                    </a:lnTo>
                    <a:lnTo>
                      <a:pt x="42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212800" y="1194840"/>
                <a:ext cx="67680" cy="154908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0472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9640" y="1290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04720" y="181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8920" y="1815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5680" y="2382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2668320" y="76320"/>
              <a:ext cx="5515920" cy="3141000"/>
              <a:chOff x="2668320" y="76320"/>
              <a:chExt cx="5515920" cy="3141000"/>
            </a:xfrm>
          </p:grpSpPr>
          <p:sp>
            <p:nvSpPr>
              <p:cNvPr id="3330" name=""/>
              <p:cNvSpPr/>
              <p:nvPr/>
            </p:nvSpPr>
            <p:spPr>
              <a:xfrm>
                <a:off x="5036400" y="2273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36400" y="2482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6525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70976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771680" y="76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80012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857360" y="763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8922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542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8014680" y="76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8074800" y="763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522480" y="855720"/>
                <a:ext cx="294840" cy="199008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509880" y="1079280"/>
                <a:ext cx="1302840" cy="186660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21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666480" y="2612880"/>
                <a:ext cx="8283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522480" y="2612880"/>
                <a:ext cx="217080" cy="182160"/>
              </a:xfrm>
              <a:custGeom>
                <a:avLst/>
                <a:gdLst/>
                <a:ahLst/>
                <a:rect l="l" t="t" r="r" b="b"/>
                <a:pathLst>
                  <a:path w="137" h="115">
                    <a:moveTo>
                      <a:pt x="137" y="0"/>
                    </a:moveTo>
                    <a:lnTo>
                      <a:pt x="137" y="115"/>
                    </a:lnTo>
                    <a:lnTo>
                      <a:pt x="0" y="115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918960" y="1787400"/>
                <a:ext cx="3285720" cy="1429920"/>
              </a:xfrm>
              <a:custGeom>
                <a:avLst/>
                <a:gdLst/>
                <a:ahLst/>
                <a:rect l="l" t="t" r="r" b="b"/>
                <a:pathLst>
                  <a:path w="2070" h="901">
                    <a:moveTo>
                      <a:pt x="2070" y="697"/>
                    </a:moveTo>
                    <a:lnTo>
                      <a:pt x="2070" y="901"/>
                    </a:lnTo>
                    <a:lnTo>
                      <a:pt x="0" y="901"/>
                    </a:lnTo>
                    <a:lnTo>
                      <a:pt x="0" y="0"/>
                    </a:lnTo>
                    <a:lnTo>
                      <a:pt x="269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666840" y="855720"/>
                <a:ext cx="831600" cy="226440"/>
              </a:xfrm>
              <a:custGeom>
                <a:avLst/>
                <a:gdLst/>
                <a:ahLst/>
                <a:rect l="l" t="t" r="r" b="b"/>
                <a:pathLst>
                  <a:path w="524" h="143">
                    <a:moveTo>
                      <a:pt x="524" y="141"/>
                    </a:moveTo>
                    <a:lnTo>
                      <a:pt x="480" y="143"/>
                    </a:ln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814360" y="2251080"/>
                <a:ext cx="182160" cy="518760"/>
              </a:xfrm>
              <a:custGeom>
                <a:avLst/>
                <a:gdLst/>
                <a:ahLst/>
                <a:rect l="l" t="t" r="r" b="b"/>
                <a:pathLst>
                  <a:path w="115" h="327">
                    <a:moveTo>
                      <a:pt x="0" y="0"/>
                    </a:moveTo>
                    <a:lnTo>
                      <a:pt x="2" y="44"/>
                    </a:lnTo>
                    <a:lnTo>
                      <a:pt x="63" y="44"/>
                    </a:lnTo>
                    <a:lnTo>
                      <a:pt x="63" y="327"/>
                    </a:lnTo>
                    <a:lnTo>
                      <a:pt x="115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814360" y="1725480"/>
                <a:ext cx="212400" cy="995040"/>
              </a:xfrm>
              <a:custGeom>
                <a:avLst/>
                <a:gdLst/>
                <a:ahLst/>
                <a:rect l="l" t="t" r="r" b="b"/>
                <a:pathLst>
                  <a:path w="134" h="627">
                    <a:moveTo>
                      <a:pt x="0" y="0"/>
                    </a:moveTo>
                    <a:lnTo>
                      <a:pt x="2" y="45"/>
                    </a:lnTo>
                    <a:lnTo>
                      <a:pt x="89" y="45"/>
                    </a:lnTo>
                    <a:lnTo>
                      <a:pt x="89" y="627"/>
                    </a:lnTo>
                    <a:lnTo>
                      <a:pt x="134" y="6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3698280" y="2571840"/>
                <a:ext cx="1418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798520" y="222552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798520" y="170028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20"/>
                    </a:moveTo>
                    <a:lnTo>
                      <a:pt x="23" y="22"/>
                    </a:lnTo>
                    <a:lnTo>
                      <a:pt x="12" y="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484320" y="2927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62240" y="1079280"/>
                <a:ext cx="150480" cy="288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333320" y="176832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  <a:lnTo>
                      <a:pt x="76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2668320" y="1623960"/>
                <a:ext cx="123480" cy="34884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76" y="22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78" y="220"/>
                    </a:lnTo>
                    <a:lnTo>
                      <a:pt x="78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2683080" y="17589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2727720" y="1758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2891880" y="1406520"/>
                <a:ext cx="21060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102840" y="1406520"/>
                <a:ext cx="214200" cy="78372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2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29394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29584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2997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02976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048840" y="1720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07116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105720" y="1720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141000" y="1720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159360" y="1720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1726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212280" y="1720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247560" y="1720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9840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0394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077640" y="1800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131280" y="1800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169800" y="1800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193200" y="1800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  <a:lnTo>
                      <a:pt x="266" y="4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994080" y="1379520"/>
                <a:ext cx="421920" cy="785520"/>
              </a:xfrm>
              <a:custGeom>
                <a:avLst/>
                <a:gdLst/>
                <a:ahLst/>
                <a:rect l="l" t="t" r="r" b="b"/>
                <a:pathLst>
                  <a:path w="266" h="495">
                    <a:moveTo>
                      <a:pt x="266" y="493"/>
                    </a:moveTo>
                    <a:lnTo>
                      <a:pt x="266" y="0"/>
                    </a:lnTo>
                    <a:lnTo>
                      <a:pt x="0" y="0"/>
                    </a:lnTo>
                    <a:lnTo>
                      <a:pt x="0" y="495"/>
                    </a:lnTo>
                    <a:lnTo>
                      <a:pt x="266" y="495"/>
                    </a:lnTo>
                    <a:lnTo>
                      <a:pt x="266" y="495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33332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333320" y="19666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5879520" y="20336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48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48080" y="20016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88560" y="1797120"/>
                <a:ext cx="774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537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86240" y="170964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0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0" y="220"/>
                    </a:lnTo>
                    <a:lnTo>
                      <a:pt x="66" y="224"/>
                    </a:lnTo>
                    <a:lnTo>
                      <a:pt x="62" y="228"/>
                    </a:lnTo>
                    <a:lnTo>
                      <a:pt x="58" y="230"/>
                    </a:lnTo>
                    <a:lnTo>
                      <a:pt x="52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2" y="234"/>
                    </a:lnTo>
                    <a:lnTo>
                      <a:pt x="26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754240" y="184788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258800" y="83952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333320" y="1585800"/>
                <a:ext cx="900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333320" y="156528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0"/>
                    </a:moveTo>
                    <a:lnTo>
                      <a:pt x="0" y="23"/>
                    </a:lnTo>
                    <a:lnTo>
                      <a:pt x="20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371480" y="1293840"/>
                <a:ext cx="248760" cy="78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620600" y="1293840"/>
                <a:ext cx="248760" cy="783720"/>
              </a:xfrm>
              <a:custGeom>
                <a:avLst/>
                <a:gdLst/>
                <a:ahLst/>
                <a:rect l="l" t="t" r="r" b="b"/>
                <a:pathLst>
                  <a:path w="157" h="494">
                    <a:moveTo>
                      <a:pt x="0" y="492"/>
                    </a:moveTo>
                    <a:lnTo>
                      <a:pt x="157" y="494"/>
                    </a:lnTo>
                    <a:lnTo>
                      <a:pt x="15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475520" y="1646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52520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56336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597560" y="16462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61376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646160" y="1646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664880" y="164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704840" y="1646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726440" y="1646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993480" y="1895400"/>
                <a:ext cx="4190760" cy="124884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7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>
                <a:off x="3701520" y="1384200"/>
                <a:ext cx="640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785920" y="19288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841360" y="19288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798520" y="199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834880" y="19954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79816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754240" y="2436840"/>
                <a:ext cx="124920" cy="37404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8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0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8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785920" y="25178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841360" y="25178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798520" y="258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34880" y="25844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798160" y="2651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017920" y="17906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071920" y="179064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03052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065440" y="18572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030160" y="1925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701520" y="1585800"/>
                <a:ext cx="6440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108040" y="18921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108040" y="1908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874920" y="175392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296600" y="563400"/>
                <a:ext cx="276120" cy="585360"/>
              </a:xfrm>
              <a:custGeom>
                <a:avLst/>
                <a:gdLst/>
                <a:ahLst/>
                <a:rect l="l" t="t" r="r" b="b"/>
                <a:pathLst>
                  <a:path w="174" h="369">
                    <a:moveTo>
                      <a:pt x="87" y="367"/>
                    </a:moveTo>
                    <a:lnTo>
                      <a:pt x="101" y="367"/>
                    </a:lnTo>
                    <a:lnTo>
                      <a:pt x="115" y="359"/>
                    </a:lnTo>
                    <a:lnTo>
                      <a:pt x="127" y="349"/>
                    </a:lnTo>
                    <a:lnTo>
                      <a:pt x="138" y="333"/>
                    </a:lnTo>
                    <a:lnTo>
                      <a:pt x="148" y="315"/>
                    </a:lnTo>
                    <a:lnTo>
                      <a:pt x="158" y="293"/>
                    </a:lnTo>
                    <a:lnTo>
                      <a:pt x="164" y="268"/>
                    </a:lnTo>
                    <a:lnTo>
                      <a:pt x="170" y="242"/>
                    </a:lnTo>
                    <a:lnTo>
                      <a:pt x="172" y="214"/>
                    </a:lnTo>
                    <a:lnTo>
                      <a:pt x="174" y="184"/>
                    </a:lnTo>
                    <a:lnTo>
                      <a:pt x="172" y="156"/>
                    </a:lnTo>
                    <a:lnTo>
                      <a:pt x="170" y="127"/>
                    </a:lnTo>
                    <a:lnTo>
                      <a:pt x="164" y="99"/>
                    </a:lnTo>
                    <a:lnTo>
                      <a:pt x="158" y="77"/>
                    </a:lnTo>
                    <a:lnTo>
                      <a:pt x="148" y="55"/>
                    </a:lnTo>
                    <a:lnTo>
                      <a:pt x="138" y="37"/>
                    </a:lnTo>
                    <a:lnTo>
                      <a:pt x="127" y="20"/>
                    </a:lnTo>
                    <a:lnTo>
                      <a:pt x="115" y="10"/>
                    </a:lnTo>
                    <a:lnTo>
                      <a:pt x="101" y="2"/>
                    </a:lnTo>
                    <a:lnTo>
                      <a:pt x="87" y="0"/>
                    </a:lnTo>
                    <a:lnTo>
                      <a:pt x="73" y="2"/>
                    </a:lnTo>
                    <a:lnTo>
                      <a:pt x="59" y="10"/>
                    </a:lnTo>
                    <a:lnTo>
                      <a:pt x="47" y="20"/>
                    </a:lnTo>
                    <a:lnTo>
                      <a:pt x="37" y="37"/>
                    </a:lnTo>
                    <a:lnTo>
                      <a:pt x="27" y="55"/>
                    </a:lnTo>
                    <a:lnTo>
                      <a:pt x="17" y="77"/>
                    </a:lnTo>
                    <a:lnTo>
                      <a:pt x="10" y="99"/>
                    </a:lnTo>
                    <a:lnTo>
                      <a:pt x="4" y="127"/>
                    </a:lnTo>
                    <a:lnTo>
                      <a:pt x="2" y="156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4" y="242"/>
                    </a:lnTo>
                    <a:lnTo>
                      <a:pt x="10" y="268"/>
                    </a:lnTo>
                    <a:lnTo>
                      <a:pt x="17" y="293"/>
                    </a:lnTo>
                    <a:lnTo>
                      <a:pt x="27" y="315"/>
                    </a:lnTo>
                    <a:lnTo>
                      <a:pt x="37" y="333"/>
                    </a:lnTo>
                    <a:lnTo>
                      <a:pt x="47" y="349"/>
                    </a:lnTo>
                    <a:lnTo>
                      <a:pt x="59" y="359"/>
                    </a:lnTo>
                    <a:lnTo>
                      <a:pt x="73" y="367"/>
                    </a:lnTo>
                    <a:lnTo>
                      <a:pt x="87" y="369"/>
                    </a:lnTo>
                    <a:lnTo>
                      <a:pt x="87" y="36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  <a:lnTo>
                      <a:pt x="82" y="9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3417120" y="1195200"/>
                <a:ext cx="133200" cy="1549080"/>
              </a:xfrm>
              <a:custGeom>
                <a:avLst/>
                <a:gdLst/>
                <a:ahLst/>
                <a:rect l="l" t="t" r="r" b="b"/>
                <a:pathLst>
                  <a:path w="84" h="976">
                    <a:moveTo>
                      <a:pt x="82" y="976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976"/>
                    </a:lnTo>
                    <a:lnTo>
                      <a:pt x="84" y="976"/>
                    </a:lnTo>
                    <a:lnTo>
                      <a:pt x="84" y="97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3379320" y="178092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3314160" y="1797120"/>
                <a:ext cx="74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08040" y="1366920"/>
                <a:ext cx="34560" cy="3600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H="1">
                <a:off x="4869720" y="1384200"/>
                <a:ext cx="244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08040" y="23540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3776040" y="1387440"/>
                <a:ext cx="1341000" cy="982080"/>
              </a:xfrm>
              <a:custGeom>
                <a:avLst/>
                <a:gdLst/>
                <a:ahLst/>
                <a:rect l="l" t="t" r="r" b="b"/>
                <a:pathLst>
                  <a:path w="845" h="619">
                    <a:moveTo>
                      <a:pt x="845" y="619"/>
                    </a:move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17392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2185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280840" y="855720"/>
                <a:ext cx="1222200" cy="210600"/>
              </a:xfrm>
              <a:custGeom>
                <a:avLst/>
                <a:gdLst/>
                <a:ahLst/>
                <a:rect l="l" t="t" r="r" b="b"/>
                <a:pathLst>
                  <a:path w="770" h="133">
                    <a:moveTo>
                      <a:pt x="770" y="131"/>
                    </a:moveTo>
                    <a:lnTo>
                      <a:pt x="693" y="133"/>
                    </a:lnTo>
                    <a:lnTo>
                      <a:pt x="69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277960" y="628560"/>
                <a:ext cx="1228320" cy="226800"/>
              </a:xfrm>
              <a:custGeom>
                <a:avLst/>
                <a:gdLst/>
                <a:ahLst/>
                <a:rect l="l" t="t" r="r" b="b"/>
                <a:pathLst>
                  <a:path w="774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4" y="143"/>
                    </a:lnTo>
                  </a:path>
                </a:pathLst>
              </a:custGeom>
              <a:noFill/>
              <a:ln w="1260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530480" y="966600"/>
                <a:ext cx="131400" cy="22824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83" y="144"/>
                    </a:lnTo>
                    <a:lnTo>
                      <a:pt x="83" y="14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547760" y="10414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610760" y="1041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H="1">
                <a:off x="6320880" y="1771560"/>
                <a:ext cx="18216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489080" y="106344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489080" y="175392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H="1">
                <a:off x="7661880" y="1771560"/>
                <a:ext cx="3013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H="1">
                <a:off x="7416000" y="1771560"/>
                <a:ext cx="7884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489080" y="22222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662240" y="2020680"/>
                <a:ext cx="301320" cy="217080"/>
              </a:xfrm>
              <a:custGeom>
                <a:avLst/>
                <a:gdLst/>
                <a:ahLst/>
                <a:rect l="l" t="t" r="r" b="b"/>
                <a:pathLst>
                  <a:path w="190" h="137">
                    <a:moveTo>
                      <a:pt x="190" y="0"/>
                    </a:moveTo>
                    <a:lnTo>
                      <a:pt x="141" y="0"/>
                    </a:lnTo>
                    <a:lnTo>
                      <a:pt x="141" y="137"/>
                    </a:lnTo>
                    <a:lnTo>
                      <a:pt x="0" y="137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flipH="1">
                <a:off x="6890400" y="2238120"/>
                <a:ext cx="60444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13304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182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21764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23672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274880" y="169380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0862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1398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179840" y="1774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233480" y="1774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271640" y="1774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293600" y="1774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103440" y="1434960"/>
                <a:ext cx="217080" cy="671040"/>
              </a:xfrm>
              <a:custGeom>
                <a:avLst/>
                <a:gdLst/>
                <a:ahLst/>
                <a:rect l="l" t="t" r="r" b="b"/>
                <a:pathLst>
                  <a:path w="137" h="423">
                    <a:moveTo>
                      <a:pt x="0" y="0"/>
                    </a:moveTo>
                    <a:lnTo>
                      <a:pt x="2" y="171"/>
                    </a:lnTo>
                    <a:lnTo>
                      <a:pt x="44" y="212"/>
                    </a:lnTo>
                    <a:lnTo>
                      <a:pt x="2" y="252"/>
                    </a:lnTo>
                    <a:lnTo>
                      <a:pt x="2" y="423"/>
                    </a:lnTo>
                    <a:lnTo>
                      <a:pt x="137" y="294"/>
                    </a:lnTo>
                    <a:lnTo>
                      <a:pt x="137" y="13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754240" y="1322280"/>
                <a:ext cx="124920" cy="374400"/>
              </a:xfrm>
              <a:custGeom>
                <a:avLst/>
                <a:gdLst/>
                <a:ahLst/>
                <a:rect l="l" t="t" r="r" b="b"/>
                <a:pathLst>
                  <a:path w="79" h="236">
                    <a:moveTo>
                      <a:pt x="0" y="39"/>
                    </a:moveTo>
                    <a:lnTo>
                      <a:pt x="2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3" y="8"/>
                    </a:lnTo>
                    <a:lnTo>
                      <a:pt x="67" y="12"/>
                    </a:lnTo>
                    <a:lnTo>
                      <a:pt x="71" y="16"/>
                    </a:lnTo>
                    <a:lnTo>
                      <a:pt x="75" y="20"/>
                    </a:lnTo>
                    <a:lnTo>
                      <a:pt x="77" y="26"/>
                    </a:lnTo>
                    <a:lnTo>
                      <a:pt x="79" y="32"/>
                    </a:lnTo>
                    <a:lnTo>
                      <a:pt x="79" y="39"/>
                    </a:lnTo>
                    <a:lnTo>
                      <a:pt x="79" y="196"/>
                    </a:lnTo>
                    <a:lnTo>
                      <a:pt x="79" y="202"/>
                    </a:lnTo>
                    <a:lnTo>
                      <a:pt x="77" y="208"/>
                    </a:lnTo>
                    <a:lnTo>
                      <a:pt x="75" y="214"/>
                    </a:lnTo>
                    <a:lnTo>
                      <a:pt x="71" y="220"/>
                    </a:lnTo>
                    <a:lnTo>
                      <a:pt x="67" y="224"/>
                    </a:lnTo>
                    <a:lnTo>
                      <a:pt x="63" y="228"/>
                    </a:lnTo>
                    <a:lnTo>
                      <a:pt x="59" y="230"/>
                    </a:lnTo>
                    <a:lnTo>
                      <a:pt x="53" y="234"/>
                    </a:lnTo>
                    <a:lnTo>
                      <a:pt x="46" y="234"/>
                    </a:lnTo>
                    <a:lnTo>
                      <a:pt x="40" y="236"/>
                    </a:lnTo>
                    <a:lnTo>
                      <a:pt x="34" y="234"/>
                    </a:lnTo>
                    <a:lnTo>
                      <a:pt x="28" y="234"/>
                    </a:lnTo>
                    <a:lnTo>
                      <a:pt x="22" y="230"/>
                    </a:lnTo>
                    <a:lnTo>
                      <a:pt x="16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4" y="214"/>
                    </a:lnTo>
                    <a:lnTo>
                      <a:pt x="2" y="208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785920" y="1403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841360" y="140328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798520" y="146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834880" y="1469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798160" y="15382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  <a:lnTo>
                      <a:pt x="250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93640" y="2695320"/>
                <a:ext cx="500040" cy="301320"/>
              </a:xfrm>
              <a:custGeom>
                <a:avLst/>
                <a:gdLst/>
                <a:ahLst/>
                <a:rect l="l" t="t" r="r" b="b"/>
                <a:pathLst>
                  <a:path w="315" h="190">
                    <a:moveTo>
                      <a:pt x="250" y="188"/>
                    </a:moveTo>
                    <a:lnTo>
                      <a:pt x="263" y="188"/>
                    </a:lnTo>
                    <a:lnTo>
                      <a:pt x="273" y="186"/>
                    </a:lnTo>
                    <a:lnTo>
                      <a:pt x="281" y="182"/>
                    </a:lnTo>
                    <a:lnTo>
                      <a:pt x="289" y="178"/>
                    </a:lnTo>
                    <a:lnTo>
                      <a:pt x="297" y="170"/>
                    </a:lnTo>
                    <a:lnTo>
                      <a:pt x="303" y="164"/>
                    </a:lnTo>
                    <a:lnTo>
                      <a:pt x="309" y="156"/>
                    </a:lnTo>
                    <a:lnTo>
                      <a:pt x="311" y="146"/>
                    </a:lnTo>
                    <a:lnTo>
                      <a:pt x="315" y="135"/>
                    </a:lnTo>
                    <a:lnTo>
                      <a:pt x="315" y="125"/>
                    </a:lnTo>
                    <a:lnTo>
                      <a:pt x="315" y="63"/>
                    </a:lnTo>
                    <a:lnTo>
                      <a:pt x="315" y="53"/>
                    </a:lnTo>
                    <a:lnTo>
                      <a:pt x="311" y="43"/>
                    </a:lnTo>
                    <a:lnTo>
                      <a:pt x="309" y="35"/>
                    </a:lnTo>
                    <a:lnTo>
                      <a:pt x="303" y="27"/>
                    </a:lnTo>
                    <a:lnTo>
                      <a:pt x="297" y="19"/>
                    </a:lnTo>
                    <a:lnTo>
                      <a:pt x="289" y="12"/>
                    </a:lnTo>
                    <a:lnTo>
                      <a:pt x="281" y="6"/>
                    </a:lnTo>
                    <a:lnTo>
                      <a:pt x="273" y="2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5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2" y="27"/>
                    </a:lnTo>
                    <a:lnTo>
                      <a:pt x="6" y="35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125"/>
                    </a:lnTo>
                    <a:lnTo>
                      <a:pt x="0" y="135"/>
                    </a:lnTo>
                    <a:lnTo>
                      <a:pt x="2" y="146"/>
                    </a:lnTo>
                    <a:lnTo>
                      <a:pt x="6" y="156"/>
                    </a:lnTo>
                    <a:lnTo>
                      <a:pt x="12" y="164"/>
                    </a:lnTo>
                    <a:lnTo>
                      <a:pt x="19" y="170"/>
                    </a:lnTo>
                    <a:lnTo>
                      <a:pt x="27" y="178"/>
                    </a:lnTo>
                    <a:lnTo>
                      <a:pt x="35" y="182"/>
                    </a:lnTo>
                    <a:lnTo>
                      <a:pt x="43" y="186"/>
                    </a:lnTo>
                    <a:lnTo>
                      <a:pt x="53" y="188"/>
                    </a:lnTo>
                    <a:lnTo>
                      <a:pt x="63" y="190"/>
                    </a:lnTo>
                    <a:lnTo>
                      <a:pt x="252" y="190"/>
                    </a:lnTo>
                    <a:lnTo>
                      <a:pt x="252" y="19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077880" y="27669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1192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15420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175800" y="2766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22548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263640" y="2766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28596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320160" y="2766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3367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374520" y="2766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411240" y="2766960"/>
                <a:ext cx="36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18588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222240" y="284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259680" y="284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273360" y="284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5879520" y="1508040"/>
                <a:ext cx="1980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H="1">
                <a:off x="5280840" y="1384200"/>
                <a:ext cx="45072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547440" y="1797120"/>
                <a:ext cx="150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3698280" y="855720"/>
                <a:ext cx="566280" cy="1715760"/>
              </a:xfrm>
              <a:custGeom>
                <a:avLst/>
                <a:gdLst/>
                <a:ahLst/>
                <a:rect l="l" t="t" r="r" b="b"/>
                <a:pathLst>
                  <a:path w="357" h="1081">
                    <a:moveTo>
                      <a:pt x="357" y="0"/>
                    </a:moveTo>
                    <a:lnTo>
                      <a:pt x="2" y="0"/>
                    </a:lnTo>
                    <a:lnTo>
                      <a:pt x="0" y="10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108040" y="24526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3849120" y="1585800"/>
                <a:ext cx="1267920" cy="885600"/>
              </a:xfrm>
              <a:custGeom>
                <a:avLst/>
                <a:gdLst/>
                <a:ahLst/>
                <a:rect l="l" t="t" r="r" b="b"/>
                <a:pathLst>
                  <a:path w="799" h="558">
                    <a:moveTo>
                      <a:pt x="799" y="556"/>
                    </a:moveTo>
                    <a:lnTo>
                      <a:pt x="0" y="55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104800" y="267336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08040" y="255276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685680" y="255564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760200" y="1366920"/>
                <a:ext cx="31320" cy="360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8" y="21"/>
                    </a:moveTo>
                    <a:lnTo>
                      <a:pt x="12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833280" y="1568520"/>
                <a:ext cx="34560" cy="327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489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6724080" y="259704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522480" y="2612880"/>
                <a:ext cx="1217160" cy="280800"/>
              </a:xfrm>
              <a:custGeom>
                <a:avLst/>
                <a:gdLst/>
                <a:ahLst/>
                <a:rect l="l" t="t" r="r" b="b"/>
                <a:pathLst>
                  <a:path w="767" h="177">
                    <a:moveTo>
                      <a:pt x="0" y="177"/>
                    </a:moveTo>
                    <a:lnTo>
                      <a:pt x="767" y="177"/>
                    </a:lnTo>
                    <a:lnTo>
                      <a:pt x="767" y="0"/>
                    </a:lnTo>
                    <a:lnTo>
                      <a:pt x="71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496920" y="287820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6496920" y="277956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0"/>
                    </a:moveTo>
                    <a:lnTo>
                      <a:pt x="22" y="20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496920" y="2827080"/>
                <a:ext cx="3456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2" y="2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951240" y="175392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2" y="23"/>
                    </a:lnTo>
                    <a:lnTo>
                      <a:pt x="23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>
                <a:off x="6666480" y="1771560"/>
                <a:ext cx="293400" cy="10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874920" y="222228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189200" y="287820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rot="16200000">
                <a:off x="3626280" y="1690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rot="16200000">
                <a:off x="3614400" y="1662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rot="16200000">
                <a:off x="3616560" y="1627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rot="16200000">
                <a:off x="3626280" y="1604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rot="16200000">
                <a:off x="3624120" y="1583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rot="16200000">
                <a:off x="3614400" y="1551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rot="16200000">
                <a:off x="3616560" y="15159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 rot="16200000">
                <a:off x="3626280" y="1491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rot="16200000">
                <a:off x="3628800" y="1476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rot="16200000">
                <a:off x="3614400" y="1445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rot="16200000">
                <a:off x="3614400" y="141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480840" y="106200"/>
                <a:ext cx="2880" cy="108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468240" y="106020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20" y="0"/>
                    </a:moveTo>
                    <a:lnTo>
                      <a:pt x="20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341136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430440" y="10573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46860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487320" y="1057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505680" y="1057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4812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194080" y="406440"/>
              <a:ext cx="34560" cy="7416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22" y="0"/>
                  </a:moveTo>
                  <a:lnTo>
                    <a:pt x="22" y="47"/>
                  </a:lnTo>
                  <a:lnTo>
                    <a:pt x="0" y="4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1307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148720" y="4078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97320" y="407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521244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256720" y="4078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600600" y="106200"/>
              <a:ext cx="1080" cy="63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582960" y="631800"/>
              <a:ext cx="3312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1" y="0"/>
                  </a:moveTo>
                  <a:lnTo>
                    <a:pt x="21" y="46"/>
                  </a:lnTo>
                  <a:lnTo>
                    <a:pt x="0" y="46"/>
                  </a:lnTo>
                  <a:lnTo>
                    <a:pt x="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47136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51564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561000" y="631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8008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4800" y="631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680160" y="6318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596000" y="106200"/>
              <a:ext cx="2880" cy="86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580160" y="858600"/>
              <a:ext cx="3132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20" y="0"/>
                  </a:moveTo>
                  <a:lnTo>
                    <a:pt x="20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45776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51104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557840" y="855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611840" y="855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630560" y="8557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693560" y="8557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53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5905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649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709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738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800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8573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8857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9174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974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0366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06540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0938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153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53560" y="7632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77320" y="763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6543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6828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7429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80196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83364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8620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91932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9812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0161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0762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13532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281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3416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989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427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8928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242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5843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64624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70672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6513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1148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68720" y="76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9896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859440" y="76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8940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95448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7016400" y="76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073640" y="7632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513880" y="31176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589840" y="31176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61756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674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728440" y="3117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779560" y="31176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812680" y="311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830400" y="1290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634920" y="38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829680" y="14889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34560" y="468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9924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030280" y="534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326480" y="8175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7472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40964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447800" y="817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466880" y="8175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489200" y="817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524840" y="8175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185520" y="17334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232320" y="17334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266520" y="17334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32200" y="1191960"/>
              <a:ext cx="68040" cy="1552320"/>
            </a:xfrm>
            <a:custGeom>
              <a:avLst/>
              <a:gdLst/>
              <a:ahLst/>
              <a:rect l="l" t="t" r="r" b="b"/>
              <a:pathLst>
                <a:path w="43" h="978">
                  <a:moveTo>
                    <a:pt x="43" y="0"/>
                  </a:moveTo>
                  <a:lnTo>
                    <a:pt x="0" y="2"/>
                  </a:lnTo>
                  <a:lnTo>
                    <a:pt x="0" y="978"/>
                  </a:lnTo>
                  <a:lnTo>
                    <a:pt x="4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600600" y="1195200"/>
              <a:ext cx="66240" cy="154908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530840" y="1195200"/>
              <a:ext cx="131400" cy="1549080"/>
            </a:xfrm>
            <a:custGeom>
              <a:avLst/>
              <a:gdLst/>
              <a:ahLst/>
              <a:rect l="l" t="t" r="r" b="b"/>
              <a:pathLst>
                <a:path w="83" h="976">
                  <a:moveTo>
                    <a:pt x="83" y="976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6"/>
                  </a:lnTo>
                  <a:lnTo>
                    <a:pt x="83" y="976"/>
                  </a:lnTo>
                  <a:lnTo>
                    <a:pt x="83" y="976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60060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596000" y="2744640"/>
              <a:ext cx="28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5281200" y="1908000"/>
              <a:ext cx="450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213160" y="2744640"/>
              <a:ext cx="1080" cy="601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32200" y="743040"/>
              <a:ext cx="680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00600" y="743040"/>
              <a:ext cx="66240" cy="223200"/>
            </a:xfrm>
            <a:prstGeom prst="rect">
              <a:avLst/>
            </a:prstGeom>
            <a:noFill/>
            <a:ln w="9360">
              <a:solidFill>
                <a:srgbClr val="f7c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570360" y="10414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550920" y="81756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12480" y="8175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719680" y="1498680"/>
              <a:ext cx="9000" cy="25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716440" y="1485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716440" y="161748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284440" y="246852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284440" y="2679480"/>
              <a:ext cx="43488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281200" y="2574720"/>
              <a:ext cx="45396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284440" y="236988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0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879880" y="2612880"/>
              <a:ext cx="6170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719680" y="2663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5716440" y="255888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94400" y="259704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97280" y="261288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H="1">
              <a:off x="6497280" y="2612880"/>
              <a:ext cx="9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4920" y="256212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635440" y="3128760"/>
              <a:ext cx="32760" cy="3456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1" y="20"/>
                  </a:moveTo>
                  <a:lnTo>
                    <a:pt x="13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652720" y="150156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581440" y="1633320"/>
              <a:ext cx="1306080" cy="1436400"/>
            </a:xfrm>
            <a:custGeom>
              <a:avLst/>
              <a:gdLst/>
              <a:ahLst/>
              <a:rect l="l" t="t" r="r" b="b"/>
              <a:pathLst>
                <a:path w="823" h="905">
                  <a:moveTo>
                    <a:pt x="821" y="87"/>
                  </a:moveTo>
                  <a:lnTo>
                    <a:pt x="823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9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5952960" y="61308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968800" y="621180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284440" y="5769000"/>
              <a:ext cx="696600" cy="458280"/>
            </a:xfrm>
            <a:custGeom>
              <a:avLst/>
              <a:gdLst/>
              <a:ahLst/>
              <a:rect l="l" t="t" r="r" b="b"/>
              <a:pathLst>
                <a:path w="439" h="289">
                  <a:moveTo>
                    <a:pt x="439" y="289"/>
                  </a:moveTo>
                  <a:lnTo>
                    <a:pt x="84" y="289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284440" y="5979960"/>
              <a:ext cx="43164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290920" y="5875200"/>
              <a:ext cx="4410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284440" y="5667120"/>
              <a:ext cx="677520" cy="47916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0" y="0"/>
                  </a:moveTo>
                  <a:lnTo>
                    <a:pt x="119" y="2"/>
                  </a:lnTo>
                  <a:lnTo>
                    <a:pt x="119" y="302"/>
                  </a:lnTo>
                  <a:lnTo>
                    <a:pt x="427" y="30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879880" y="5916600"/>
              <a:ext cx="614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716440" y="596088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713200" y="586260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491160" y="58975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494400" y="5916600"/>
              <a:ext cx="900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6494040" y="5916600"/>
              <a:ext cx="9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344920" y="585936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635440" y="6422760"/>
              <a:ext cx="3276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1" y="20"/>
                  </a:move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652720" y="4802040"/>
              <a:ext cx="72720" cy="163656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81440" y="4930560"/>
              <a:ext cx="1306080" cy="1441080"/>
            </a:xfrm>
            <a:custGeom>
              <a:avLst/>
              <a:gdLst/>
              <a:ahLst/>
              <a:rect l="l" t="t" r="r" b="b"/>
              <a:pathLst>
                <a:path w="823" h="908">
                  <a:moveTo>
                    <a:pt x="821" y="89"/>
                  </a:moveTo>
                  <a:lnTo>
                    <a:pt x="823" y="908"/>
                  </a:lnTo>
                  <a:lnTo>
                    <a:pt x="0" y="908"/>
                  </a:lnTo>
                  <a:lnTo>
                    <a:pt x="0" y="0"/>
                  </a:lnTo>
                  <a:lnTo>
                    <a:pt x="93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98720" y="458640"/>
              <a:ext cx="3132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698640" y="47448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801960" y="37591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698640" y="3774960"/>
              <a:ext cx="115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716440" y="5321160"/>
              <a:ext cx="34560" cy="313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H="1">
              <a:off x="5658840" y="5337000"/>
              <a:ext cx="759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638680" y="532116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5581080" y="5443560"/>
              <a:ext cx="15372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716440" y="5427720"/>
              <a:ext cx="34560" cy="34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565600" y="5430600"/>
              <a:ext cx="3456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722560" y="2020680"/>
              <a:ext cx="31680" cy="345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H="1">
              <a:off x="5662440" y="2036520"/>
              <a:ext cx="75600" cy="288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638680" y="2023920"/>
              <a:ext cx="32760" cy="313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0"/>
                  </a:moveTo>
                  <a:lnTo>
                    <a:pt x="13" y="20"/>
                  </a:lnTo>
                  <a:lnTo>
                    <a:pt x="13" y="20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584680" y="2144520"/>
              <a:ext cx="15336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722560" y="212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568840" y="2128680"/>
              <a:ext cx="3456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1"/>
                  </a:moveTo>
                  <a:lnTo>
                    <a:pt x="12" y="23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g 49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2592360" y="79200"/>
            <a:ext cx="5568840" cy="6559560"/>
            <a:chOff x="2592360" y="79200"/>
            <a:chExt cx="5568840" cy="6559560"/>
          </a:xfrm>
        </p:grpSpPr>
        <p:grpSp>
          <p:nvGrpSpPr>
            <p:cNvPr id="3693" name=""/>
            <p:cNvGrpSpPr/>
            <p:nvPr/>
          </p:nvGrpSpPr>
          <p:grpSpPr>
            <a:xfrm>
              <a:off x="2592360" y="210960"/>
              <a:ext cx="5568840" cy="6078600"/>
              <a:chOff x="2592360" y="210960"/>
              <a:chExt cx="5568840" cy="60786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792760" y="5022720"/>
                <a:ext cx="211320" cy="992160"/>
              </a:xfrm>
              <a:custGeom>
                <a:avLst/>
                <a:gdLst/>
                <a:ahLst/>
                <a:rect l="l" t="t" r="r" b="b"/>
                <a:pathLst>
                  <a:path w="133" h="625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5"/>
                    </a:lnTo>
                    <a:lnTo>
                      <a:pt x="133" y="6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776920" y="49957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21"/>
                    </a:moveTo>
                    <a:lnTo>
                      <a:pt x="20" y="21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969160" y="5992920"/>
                <a:ext cx="498240" cy="296640"/>
              </a:xfrm>
              <a:custGeom>
                <a:avLst/>
                <a:gdLst/>
                <a:ahLst/>
                <a:rect l="l" t="t" r="r" b="b"/>
                <a:pathLst>
                  <a:path w="314" h="187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5"/>
                    </a:lnTo>
                    <a:lnTo>
                      <a:pt x="296" y="169"/>
                    </a:lnTo>
                    <a:lnTo>
                      <a:pt x="302" y="161"/>
                    </a:lnTo>
                    <a:lnTo>
                      <a:pt x="308" y="153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2"/>
                    </a:lnTo>
                    <a:lnTo>
                      <a:pt x="302" y="24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8" y="32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3"/>
                    </a:lnTo>
                    <a:lnTo>
                      <a:pt x="12" y="161"/>
                    </a:lnTo>
                    <a:lnTo>
                      <a:pt x="18" y="169"/>
                    </a:lnTo>
                    <a:lnTo>
                      <a:pt x="26" y="175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7"/>
                    </a:lnTo>
                    <a:lnTo>
                      <a:pt x="252" y="187"/>
                    </a:lnTo>
                    <a:lnTo>
                      <a:pt x="252" y="18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792760" y="1728720"/>
                <a:ext cx="211320" cy="995400"/>
              </a:xfrm>
              <a:custGeom>
                <a:avLst/>
                <a:gdLst/>
                <a:ahLst/>
                <a:rect l="l" t="t" r="r" b="b"/>
                <a:pathLst>
                  <a:path w="133" h="627">
                    <a:moveTo>
                      <a:pt x="0" y="0"/>
                    </a:moveTo>
                    <a:lnTo>
                      <a:pt x="0" y="44"/>
                    </a:lnTo>
                    <a:lnTo>
                      <a:pt x="86" y="44"/>
                    </a:lnTo>
                    <a:lnTo>
                      <a:pt x="86" y="627"/>
                    </a:lnTo>
                    <a:lnTo>
                      <a:pt x="133" y="62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776920" y="170172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0" y="21"/>
                    </a:moveTo>
                    <a:lnTo>
                      <a:pt x="20" y="2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  <a:lnTo>
                      <a:pt x="252" y="18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969160" y="2698920"/>
                <a:ext cx="498240" cy="299880"/>
              </a:xfrm>
              <a:custGeom>
                <a:avLst/>
                <a:gdLst/>
                <a:ahLst/>
                <a:rect l="l" t="t" r="r" b="b"/>
                <a:pathLst>
                  <a:path w="314" h="189">
                    <a:moveTo>
                      <a:pt x="252" y="187"/>
                    </a:moveTo>
                    <a:lnTo>
                      <a:pt x="262" y="187"/>
                    </a:lnTo>
                    <a:lnTo>
                      <a:pt x="272" y="185"/>
                    </a:lnTo>
                    <a:lnTo>
                      <a:pt x="282" y="181"/>
                    </a:lnTo>
                    <a:lnTo>
                      <a:pt x="290" y="177"/>
                    </a:lnTo>
                    <a:lnTo>
                      <a:pt x="296" y="169"/>
                    </a:lnTo>
                    <a:lnTo>
                      <a:pt x="302" y="163"/>
                    </a:lnTo>
                    <a:lnTo>
                      <a:pt x="308" y="155"/>
                    </a:lnTo>
                    <a:lnTo>
                      <a:pt x="312" y="145"/>
                    </a:lnTo>
                    <a:lnTo>
                      <a:pt x="314" y="135"/>
                    </a:lnTo>
                    <a:lnTo>
                      <a:pt x="314" y="125"/>
                    </a:lnTo>
                    <a:lnTo>
                      <a:pt x="314" y="62"/>
                    </a:lnTo>
                    <a:lnTo>
                      <a:pt x="314" y="52"/>
                    </a:lnTo>
                    <a:lnTo>
                      <a:pt x="312" y="42"/>
                    </a:lnTo>
                    <a:lnTo>
                      <a:pt x="308" y="34"/>
                    </a:lnTo>
                    <a:lnTo>
                      <a:pt x="302" y="26"/>
                    </a:lnTo>
                    <a:lnTo>
                      <a:pt x="296" y="18"/>
                    </a:lnTo>
                    <a:lnTo>
                      <a:pt x="290" y="12"/>
                    </a:lnTo>
                    <a:lnTo>
                      <a:pt x="282" y="6"/>
                    </a:lnTo>
                    <a:lnTo>
                      <a:pt x="272" y="2"/>
                    </a:lnTo>
                    <a:lnTo>
                      <a:pt x="262" y="0"/>
                    </a:lnTo>
                    <a:lnTo>
                      <a:pt x="25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5"/>
                    </a:lnTo>
                    <a:lnTo>
                      <a:pt x="2" y="135"/>
                    </a:lnTo>
                    <a:lnTo>
                      <a:pt x="4" y="145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18" y="169"/>
                    </a:lnTo>
                    <a:lnTo>
                      <a:pt x="26" y="177"/>
                    </a:lnTo>
                    <a:lnTo>
                      <a:pt x="34" y="181"/>
                    </a:lnTo>
                    <a:lnTo>
                      <a:pt x="44" y="185"/>
                    </a:lnTo>
                    <a:lnTo>
                      <a:pt x="52" y="187"/>
                    </a:lnTo>
                    <a:lnTo>
                      <a:pt x="62" y="189"/>
                    </a:lnTo>
                    <a:lnTo>
                      <a:pt x="252" y="189"/>
                    </a:lnTo>
                    <a:lnTo>
                      <a:pt x="252" y="18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307040" y="196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1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1800" y="200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59600" y="1708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970440" y="1897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H="1">
                <a:off x="7638840" y="1770120"/>
                <a:ext cx="2984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639200" y="2019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038480" y="542880"/>
                <a:ext cx="129240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4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894120" y="1785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698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H="1">
                <a:off x="6864480" y="1770120"/>
                <a:ext cx="712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24600" y="175428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3" y="22"/>
                    </a:lnTo>
                    <a:lnTo>
                      <a:pt x="23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929280" y="177012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0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468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307040" y="5262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307040" y="50641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461280" y="6222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473880" y="6164280"/>
                <a:ext cx="3168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50096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027320" y="38116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3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792680" y="42544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2" y="20"/>
                    </a:lnTo>
                    <a:lnTo>
                      <a:pt x="23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789440" y="41292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20"/>
                    </a:lnTo>
                    <a:lnTo>
                      <a:pt x="21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76920" y="3917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300560" y="3716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1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552920" y="4145040"/>
                <a:ext cx="2462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952880" y="4145040"/>
                <a:ext cx="14760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422520" y="44467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0" y="0"/>
                    </a:moveTo>
                    <a:lnTo>
                      <a:pt x="0" y="2"/>
                    </a:lnTo>
                    <a:lnTo>
                      <a:pt x="12" y="2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435480" y="3654360"/>
                <a:ext cx="358560" cy="798480"/>
              </a:xfrm>
              <a:custGeom>
                <a:avLst/>
                <a:gdLst/>
                <a:ahLst/>
                <a:rect l="l" t="t" r="r" b="b"/>
                <a:pathLst>
                  <a:path w="226" h="503">
                    <a:moveTo>
                      <a:pt x="0" y="503"/>
                    </a:moveTo>
                    <a:lnTo>
                      <a:pt x="2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2697120" y="3603600"/>
                <a:ext cx="1096920" cy="1281240"/>
              </a:xfrm>
              <a:custGeom>
                <a:avLst/>
                <a:gdLst/>
                <a:ahLst/>
                <a:rect l="l" t="t" r="r" b="b"/>
                <a:pathLst>
                  <a:path w="691" h="807">
                    <a:moveTo>
                      <a:pt x="0" y="807"/>
                    </a:moveTo>
                    <a:lnTo>
                      <a:pt x="2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82720" y="487836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1" y="0"/>
                    </a:moveTo>
                    <a:lnTo>
                      <a:pt x="0" y="0"/>
                    </a:lnTo>
                    <a:lnTo>
                      <a:pt x="11" y="2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91120" y="4352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91120" y="3902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0640" y="3917880"/>
                <a:ext cx="69840" cy="453960"/>
              </a:xfrm>
              <a:custGeom>
                <a:avLst/>
                <a:gdLst/>
                <a:ahLst/>
                <a:rect l="l" t="t" r="r" b="b"/>
                <a:pathLst>
                  <a:path w="44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4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794040" y="3505320"/>
                <a:ext cx="506520" cy="2998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254" y="189"/>
                    </a:moveTo>
                    <a:lnTo>
                      <a:pt x="264" y="189"/>
                    </a:lnTo>
                    <a:lnTo>
                      <a:pt x="275" y="187"/>
                    </a:lnTo>
                    <a:lnTo>
                      <a:pt x="285" y="183"/>
                    </a:lnTo>
                    <a:lnTo>
                      <a:pt x="293" y="177"/>
                    </a:lnTo>
                    <a:lnTo>
                      <a:pt x="299" y="171"/>
                    </a:lnTo>
                    <a:lnTo>
                      <a:pt x="305" y="163"/>
                    </a:lnTo>
                    <a:lnTo>
                      <a:pt x="311" y="155"/>
                    </a:lnTo>
                    <a:lnTo>
                      <a:pt x="315" y="147"/>
                    </a:lnTo>
                    <a:lnTo>
                      <a:pt x="317" y="137"/>
                    </a:lnTo>
                    <a:lnTo>
                      <a:pt x="319" y="127"/>
                    </a:lnTo>
                    <a:lnTo>
                      <a:pt x="319" y="62"/>
                    </a:lnTo>
                    <a:lnTo>
                      <a:pt x="317" y="52"/>
                    </a:lnTo>
                    <a:lnTo>
                      <a:pt x="315" y="44"/>
                    </a:lnTo>
                    <a:lnTo>
                      <a:pt x="311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3" y="12"/>
                    </a:lnTo>
                    <a:lnTo>
                      <a:pt x="285" y="8"/>
                    </a:lnTo>
                    <a:lnTo>
                      <a:pt x="275" y="4"/>
                    </a:lnTo>
                    <a:lnTo>
                      <a:pt x="264" y="0"/>
                    </a:lnTo>
                    <a:lnTo>
                      <a:pt x="254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5" y="4"/>
                    </a:lnTo>
                    <a:lnTo>
                      <a:pt x="35" y="8"/>
                    </a:lnTo>
                    <a:lnTo>
                      <a:pt x="26" y="12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8" y="34"/>
                    </a:lnTo>
                    <a:lnTo>
                      <a:pt x="4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127"/>
                    </a:lnTo>
                    <a:lnTo>
                      <a:pt x="2" y="137"/>
                    </a:lnTo>
                    <a:lnTo>
                      <a:pt x="4" y="147"/>
                    </a:lnTo>
                    <a:lnTo>
                      <a:pt x="8" y="155"/>
                    </a:lnTo>
                    <a:lnTo>
                      <a:pt x="12" y="163"/>
                    </a:lnTo>
                    <a:lnTo>
                      <a:pt x="20" y="171"/>
                    </a:lnTo>
                    <a:lnTo>
                      <a:pt x="26" y="177"/>
                    </a:lnTo>
                    <a:lnTo>
                      <a:pt x="35" y="183"/>
                    </a:lnTo>
                    <a:lnTo>
                      <a:pt x="45" y="187"/>
                    </a:lnTo>
                    <a:lnTo>
                      <a:pt x="55" y="189"/>
                    </a:lnTo>
                    <a:lnTo>
                      <a:pt x="65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944520" y="3537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99240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030560" y="3537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06404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102560" y="3537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124160" y="35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159080" y="3537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9038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941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97656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99564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033800" y="3618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067280" y="3618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085640" y="3618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10220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137120" y="3618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175280" y="3618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98952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024440" y="369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063320" y="3697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079880" y="3697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29040" y="3956040"/>
                <a:ext cx="123840" cy="378000"/>
              </a:xfrm>
              <a:custGeom>
                <a:avLst/>
                <a:gdLst/>
                <a:ahLst/>
                <a:rect l="l" t="t" r="r" b="b"/>
                <a:pathLst>
                  <a:path w="78" h="238">
                    <a:moveTo>
                      <a:pt x="0" y="40"/>
                    </a:moveTo>
                    <a:lnTo>
                      <a:pt x="0" y="34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6"/>
                    </a:lnTo>
                    <a:lnTo>
                      <a:pt x="62" y="8"/>
                    </a:lnTo>
                    <a:lnTo>
                      <a:pt x="68" y="12"/>
                    </a:lnTo>
                    <a:lnTo>
                      <a:pt x="70" y="16"/>
                    </a:lnTo>
                    <a:lnTo>
                      <a:pt x="74" y="22"/>
                    </a:lnTo>
                    <a:lnTo>
                      <a:pt x="76" y="28"/>
                    </a:lnTo>
                    <a:lnTo>
                      <a:pt x="78" y="34"/>
                    </a:lnTo>
                    <a:lnTo>
                      <a:pt x="78" y="40"/>
                    </a:lnTo>
                    <a:lnTo>
                      <a:pt x="78" y="198"/>
                    </a:lnTo>
                    <a:lnTo>
                      <a:pt x="78" y="206"/>
                    </a:lnTo>
                    <a:lnTo>
                      <a:pt x="76" y="212"/>
                    </a:lnTo>
                    <a:lnTo>
                      <a:pt x="74" y="216"/>
                    </a:lnTo>
                    <a:lnTo>
                      <a:pt x="70" y="222"/>
                    </a:lnTo>
                    <a:lnTo>
                      <a:pt x="68" y="226"/>
                    </a:lnTo>
                    <a:lnTo>
                      <a:pt x="62" y="230"/>
                    </a:lnTo>
                    <a:lnTo>
                      <a:pt x="58" y="234"/>
                    </a:lnTo>
                    <a:lnTo>
                      <a:pt x="52" y="236"/>
                    </a:lnTo>
                    <a:lnTo>
                      <a:pt x="46" y="238"/>
                    </a:lnTo>
                    <a:lnTo>
                      <a:pt x="40" y="238"/>
                    </a:lnTo>
                    <a:lnTo>
                      <a:pt x="34" y="238"/>
                    </a:lnTo>
                    <a:lnTo>
                      <a:pt x="26" y="236"/>
                    </a:lnTo>
                    <a:lnTo>
                      <a:pt x="22" y="234"/>
                    </a:lnTo>
                    <a:lnTo>
                      <a:pt x="16" y="230"/>
                    </a:lnTo>
                    <a:lnTo>
                      <a:pt x="12" y="226"/>
                    </a:lnTo>
                    <a:lnTo>
                      <a:pt x="8" y="222"/>
                    </a:lnTo>
                    <a:lnTo>
                      <a:pt x="4" y="216"/>
                    </a:lnTo>
                    <a:lnTo>
                      <a:pt x="2" y="212"/>
                    </a:lnTo>
                    <a:lnTo>
                      <a:pt x="0" y="206"/>
                    </a:lnTo>
                    <a:lnTo>
                      <a:pt x="0" y="198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H="1">
                <a:off x="4728960" y="4270320"/>
                <a:ext cx="75960" cy="180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662360" y="4232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61440" y="4040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917960" y="4040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73680" y="4106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908600" y="4106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73320" y="4173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755880" y="36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048200" y="3836880"/>
                <a:ext cx="1292040" cy="2308320"/>
              </a:xfrm>
              <a:custGeom>
                <a:avLst/>
                <a:gdLst/>
                <a:ahLst/>
                <a:rect l="l" t="t" r="r" b="b"/>
                <a:pathLst>
                  <a:path w="814" h="1454">
                    <a:moveTo>
                      <a:pt x="812" y="1281"/>
                    </a:moveTo>
                    <a:lnTo>
                      <a:pt x="814" y="1454"/>
                    </a:lnTo>
                    <a:lnTo>
                      <a:pt x="0" y="145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91120" y="4125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rot="16200000">
                <a:off x="3401280" y="412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rot="16200000">
                <a:off x="3386880" y="4096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rot="16200000">
                <a:off x="3401280" y="4069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rot="16200000">
                <a:off x="3401280" y="4050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rot="16200000">
                <a:off x="3381480" y="4015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rot="16200000">
                <a:off x="3371760" y="395568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rot="16200000">
                <a:off x="3399120" y="3918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rot="16200000">
                <a:off x="3403800" y="3902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rot="16200000">
                <a:off x="3401280" y="3883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rot="16200000">
                <a:off x="3389400" y="385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rot="16200000">
                <a:off x="2625480" y="4757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rot="16200000">
                <a:off x="2622960" y="4708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rot="16200000">
                <a:off x="2613240" y="46494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rot="16200000">
                <a:off x="2640600" y="4614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rot="16200000">
                <a:off x="2645280" y="4597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rot="16200000">
                <a:off x="2642760" y="458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rot="16200000">
                <a:off x="2630880" y="4550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4449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46364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5115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53024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574520" y="6049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62132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63968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68792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7228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760280" y="6049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776480" y="6049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80996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829040" y="6049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867560" y="6049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888800" y="6049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937040" y="604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676680" y="3703680"/>
                <a:ext cx="92160" cy="485640"/>
              </a:xfrm>
              <a:custGeom>
                <a:avLst/>
                <a:gdLst/>
                <a:ahLst/>
                <a:rect l="l" t="t" r="r" b="b"/>
                <a:pathLst>
                  <a:path w="58" h="306">
                    <a:moveTo>
                      <a:pt x="58" y="0"/>
                    </a:moveTo>
                    <a:lnTo>
                      <a:pt x="0" y="0"/>
                    </a:lnTo>
                    <a:lnTo>
                      <a:pt x="0" y="3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466040" y="1062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473880" y="2778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20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462800" y="2602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462800" y="175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2642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30208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2642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30208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2768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2768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91320" y="252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664400" y="5829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2768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6505560" y="74448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85" h="142">
                    <a:moveTo>
                      <a:pt x="83" y="140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5" y="142"/>
                    </a:lnTo>
                    <a:lnTo>
                      <a:pt x="85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6505560" y="969840"/>
                <a:ext cx="135000" cy="223920"/>
              </a:xfrm>
              <a:custGeom>
                <a:avLst/>
                <a:gdLst/>
                <a:ahLst/>
                <a:rect l="l" t="t" r="r" b="b"/>
                <a:pathLst>
                  <a:path w="85" h="141">
                    <a:moveTo>
                      <a:pt x="83" y="141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5" y="141"/>
                    </a:lnTo>
                    <a:lnTo>
                      <a:pt x="85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504200" y="96696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43" h="143">
                    <a:moveTo>
                      <a:pt x="43" y="0"/>
                    </a:moveTo>
                    <a:lnTo>
                      <a:pt x="0" y="2"/>
                    </a:lnTo>
                    <a:lnTo>
                      <a:pt x="0" y="143"/>
                    </a:lnTo>
                    <a:lnTo>
                      <a:pt x="4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572240" y="969840"/>
                <a:ext cx="66960" cy="223920"/>
              </a:xfrm>
              <a:prstGeom prst="rect">
                <a:avLst/>
              </a:prstGeom>
              <a:noFill/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521480" y="10429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5844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500960" y="1193760"/>
                <a:ext cx="68400" cy="1552680"/>
              </a:xfrm>
              <a:custGeom>
                <a:avLst/>
                <a:gdLst/>
                <a:ahLst/>
                <a:rect l="l" t="t" r="r" b="b"/>
                <a:pathLst>
                  <a:path w="43" h="978">
                    <a:moveTo>
                      <a:pt x="41" y="0"/>
                    </a:moveTo>
                    <a:lnTo>
                      <a:pt x="0" y="0"/>
                    </a:lnTo>
                    <a:lnTo>
                      <a:pt x="0" y="978"/>
                    </a:lnTo>
                    <a:lnTo>
                      <a:pt x="4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  <a:lnTo>
                      <a:pt x="0" y="9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566120" y="1193760"/>
                <a:ext cx="66600" cy="155268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0" y="978"/>
                    </a:moveTo>
                    <a:lnTo>
                      <a:pt x="42" y="978"/>
                    </a:lnTo>
                    <a:lnTo>
                      <a:pt x="4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021200" y="51768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20"/>
                    </a:moveTo>
                    <a:lnTo>
                      <a:pt x="23" y="20"/>
                    </a:lnTo>
                    <a:lnTo>
                      <a:pt x="11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786200" y="9604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0" y="20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780080" y="83520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0" y="22"/>
                    </a:lnTo>
                    <a:lnTo>
                      <a:pt x="23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867200" y="6238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290840" y="422280"/>
                <a:ext cx="592200" cy="208080"/>
              </a:xfrm>
              <a:custGeom>
                <a:avLst/>
                <a:gdLst/>
                <a:ahLst/>
                <a:rect l="l" t="t" r="r" b="b"/>
                <a:pathLst>
                  <a:path w="373" h="131">
                    <a:moveTo>
                      <a:pt x="373" y="131"/>
                    </a:moveTo>
                    <a:lnTo>
                      <a:pt x="3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543560" y="851040"/>
                <a:ext cx="24588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943520" y="851040"/>
                <a:ext cx="15084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416400" y="11523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0" y="2"/>
                    </a:lnTo>
                    <a:lnTo>
                      <a:pt x="10" y="2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429000" y="360360"/>
                <a:ext cx="355680" cy="798480"/>
              </a:xfrm>
              <a:custGeom>
                <a:avLst/>
                <a:gdLst/>
                <a:ahLst/>
                <a:rect l="l" t="t" r="r" b="b"/>
                <a:pathLst>
                  <a:path w="224" h="503">
                    <a:moveTo>
                      <a:pt x="0" y="503"/>
                    </a:moveTo>
                    <a:lnTo>
                      <a:pt x="0" y="0"/>
                    </a:lnTo>
                    <a:lnTo>
                      <a:pt x="224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690640" y="312840"/>
                <a:ext cx="1097280" cy="1278000"/>
              </a:xfrm>
              <a:custGeom>
                <a:avLst/>
                <a:gdLst/>
                <a:ahLst/>
                <a:rect l="l" t="t" r="r" b="b"/>
                <a:pathLst>
                  <a:path w="691" h="805">
                    <a:moveTo>
                      <a:pt x="0" y="805"/>
                    </a:moveTo>
                    <a:lnTo>
                      <a:pt x="0" y="0"/>
                    </a:lnTo>
                    <a:lnTo>
                      <a:pt x="69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673360" y="15843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1" y="0"/>
                    </a:moveTo>
                    <a:lnTo>
                      <a:pt x="0" y="0"/>
                    </a:lnTo>
                    <a:lnTo>
                      <a:pt x="11" y="2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5081760" y="1058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081760" y="608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021280" y="623880"/>
                <a:ext cx="73080" cy="453960"/>
              </a:xfrm>
              <a:custGeom>
                <a:avLst/>
                <a:gdLst/>
                <a:ahLst/>
                <a:rect l="l" t="t" r="r" b="b"/>
                <a:pathLst>
                  <a:path w="46" h="286">
                    <a:moveTo>
                      <a:pt x="44" y="0"/>
                    </a:moveTo>
                    <a:lnTo>
                      <a:pt x="0" y="2"/>
                    </a:lnTo>
                    <a:lnTo>
                      <a:pt x="0" y="286"/>
                    </a:lnTo>
                    <a:lnTo>
                      <a:pt x="46" y="286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  <a:lnTo>
                      <a:pt x="252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787920" y="210960"/>
                <a:ext cx="502920" cy="300240"/>
              </a:xfrm>
              <a:custGeom>
                <a:avLst/>
                <a:gdLst/>
                <a:ahLst/>
                <a:rect l="l" t="t" r="r" b="b"/>
                <a:pathLst>
                  <a:path w="317" h="189">
                    <a:moveTo>
                      <a:pt x="252" y="189"/>
                    </a:moveTo>
                    <a:lnTo>
                      <a:pt x="264" y="189"/>
                    </a:lnTo>
                    <a:lnTo>
                      <a:pt x="272" y="187"/>
                    </a:lnTo>
                    <a:lnTo>
                      <a:pt x="283" y="183"/>
                    </a:lnTo>
                    <a:lnTo>
                      <a:pt x="291" y="177"/>
                    </a:lnTo>
                    <a:lnTo>
                      <a:pt x="299" y="171"/>
                    </a:lnTo>
                    <a:lnTo>
                      <a:pt x="305" y="165"/>
                    </a:lnTo>
                    <a:lnTo>
                      <a:pt x="309" y="155"/>
                    </a:lnTo>
                    <a:lnTo>
                      <a:pt x="313" y="147"/>
                    </a:lnTo>
                    <a:lnTo>
                      <a:pt x="317" y="137"/>
                    </a:lnTo>
                    <a:lnTo>
                      <a:pt x="317" y="127"/>
                    </a:lnTo>
                    <a:lnTo>
                      <a:pt x="317" y="64"/>
                    </a:lnTo>
                    <a:lnTo>
                      <a:pt x="317" y="52"/>
                    </a:lnTo>
                    <a:lnTo>
                      <a:pt x="313" y="44"/>
                    </a:lnTo>
                    <a:lnTo>
                      <a:pt x="309" y="34"/>
                    </a:lnTo>
                    <a:lnTo>
                      <a:pt x="305" y="26"/>
                    </a:lnTo>
                    <a:lnTo>
                      <a:pt x="299" y="18"/>
                    </a:lnTo>
                    <a:lnTo>
                      <a:pt x="291" y="12"/>
                    </a:lnTo>
                    <a:lnTo>
                      <a:pt x="283" y="8"/>
                    </a:lnTo>
                    <a:lnTo>
                      <a:pt x="272" y="4"/>
                    </a:lnTo>
                    <a:lnTo>
                      <a:pt x="264" y="2"/>
                    </a:lnTo>
                    <a:lnTo>
                      <a:pt x="25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3" y="4"/>
                    </a:lnTo>
                    <a:lnTo>
                      <a:pt x="34" y="8"/>
                    </a:lnTo>
                    <a:lnTo>
                      <a:pt x="26" y="12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127"/>
                    </a:lnTo>
                    <a:lnTo>
                      <a:pt x="0" y="137"/>
                    </a:lnTo>
                    <a:lnTo>
                      <a:pt x="2" y="147"/>
                    </a:lnTo>
                    <a:lnTo>
                      <a:pt x="6" y="155"/>
                    </a:lnTo>
                    <a:lnTo>
                      <a:pt x="12" y="165"/>
                    </a:lnTo>
                    <a:lnTo>
                      <a:pt x="18" y="171"/>
                    </a:lnTo>
                    <a:lnTo>
                      <a:pt x="26" y="177"/>
                    </a:lnTo>
                    <a:lnTo>
                      <a:pt x="34" y="183"/>
                    </a:lnTo>
                    <a:lnTo>
                      <a:pt x="43" y="187"/>
                    </a:lnTo>
                    <a:lnTo>
                      <a:pt x="53" y="189"/>
                    </a:lnTo>
                    <a:lnTo>
                      <a:pt x="63" y="189"/>
                    </a:lnTo>
                    <a:lnTo>
                      <a:pt x="254" y="189"/>
                    </a:lnTo>
                    <a:lnTo>
                      <a:pt x="254" y="18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934800" y="243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98304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020840" y="24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05432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092840" y="243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114800" y="2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152960" y="243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389412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932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97044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39862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024080" y="32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060800" y="32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075920" y="324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09248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130640" y="32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165560" y="32400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97980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017960" y="40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053600" y="403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070520" y="403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19680" y="665280"/>
                <a:ext cx="127080" cy="374400"/>
              </a:xfrm>
              <a:custGeom>
                <a:avLst/>
                <a:gdLst/>
                <a:ahLst/>
                <a:rect l="l" t="t" r="r" b="b"/>
                <a:pathLst>
                  <a:path w="80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4" y="6"/>
                    </a:lnTo>
                    <a:lnTo>
                      <a:pt x="68" y="10"/>
                    </a:lnTo>
                    <a:lnTo>
                      <a:pt x="72" y="16"/>
                    </a:lnTo>
                    <a:lnTo>
                      <a:pt x="74" y="20"/>
                    </a:lnTo>
                    <a:lnTo>
                      <a:pt x="78" y="26"/>
                    </a:lnTo>
                    <a:lnTo>
                      <a:pt x="78" y="32"/>
                    </a:lnTo>
                    <a:lnTo>
                      <a:pt x="80" y="38"/>
                    </a:lnTo>
                    <a:lnTo>
                      <a:pt x="80" y="196"/>
                    </a:lnTo>
                    <a:lnTo>
                      <a:pt x="78" y="204"/>
                    </a:lnTo>
                    <a:lnTo>
                      <a:pt x="78" y="21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68" y="224"/>
                    </a:lnTo>
                    <a:lnTo>
                      <a:pt x="64" y="228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6"/>
                    </a:lnTo>
                    <a:lnTo>
                      <a:pt x="2" y="38"/>
                    </a:lnTo>
                    <a:lnTo>
                      <a:pt x="2" y="3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H="1">
                <a:off x="4719600" y="976320"/>
                <a:ext cx="7632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653000" y="938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7c594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720" y="7462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908600" y="746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63960" y="812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902120" y="8128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63960" y="879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3749760" y="39384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5081760" y="8352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rot="16200000">
                <a:off x="3391920" y="835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 rot="16200000">
                <a:off x="3377520" y="8020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rot="16200000">
                <a:off x="3391920" y="775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 rot="16200000">
                <a:off x="3391920" y="759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 rot="16200000">
                <a:off x="3372120" y="721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rot="16200000">
                <a:off x="3362400" y="6613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rot="16200000">
                <a:off x="3389760" y="6249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rot="16200000">
                <a:off x="3394440" y="608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16200000">
                <a:off x="3391920" y="589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16200000">
                <a:off x="3380040" y="558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16200000">
                <a:off x="2615760" y="1463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rot="16200000">
                <a:off x="2613240" y="1414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rot="16200000">
                <a:off x="2603520" y="13550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rot="16200000">
                <a:off x="2630880" y="132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4" name=""/>
            <p:cNvGrpSpPr/>
            <p:nvPr/>
          </p:nvGrpSpPr>
          <p:grpSpPr>
            <a:xfrm>
              <a:off x="2592360" y="79200"/>
              <a:ext cx="5476320" cy="3265560"/>
              <a:chOff x="2592360" y="79200"/>
              <a:chExt cx="5476320" cy="3265560"/>
            </a:xfrm>
          </p:grpSpPr>
          <p:sp>
            <p:nvSpPr>
              <p:cNvPr id="3895" name=""/>
              <p:cNvSpPr/>
              <p:nvPr/>
            </p:nvSpPr>
            <p:spPr>
              <a:xfrm rot="16200000">
                <a:off x="2635560" y="130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rot="16200000">
                <a:off x="2633040" y="128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rot="16200000">
                <a:off x="2621160" y="1256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43880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4539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502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52052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565160" y="2759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61016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63032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67820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71636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750560" y="2759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767120" y="275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0204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19680" y="27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8200" y="27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79440" y="2759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927680" y="27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3676680" y="409680"/>
                <a:ext cx="85680" cy="444240"/>
              </a:xfrm>
              <a:custGeom>
                <a:avLst/>
                <a:gdLst/>
                <a:ahLst/>
                <a:rect l="l" t="t" r="r" b="b"/>
                <a:pathLst>
                  <a:path w="54" h="280">
                    <a:moveTo>
                      <a:pt x="54" y="0"/>
                    </a:moveTo>
                    <a:lnTo>
                      <a:pt x="0" y="0"/>
                    </a:lnTo>
                    <a:lnTo>
                      <a:pt x="0" y="2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496200" y="853920"/>
                <a:ext cx="295200" cy="199080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486480" y="1087560"/>
                <a:ext cx="1303560" cy="1857240"/>
              </a:xfrm>
              <a:custGeom>
                <a:avLst/>
                <a:gdLst/>
                <a:ahLst/>
                <a:rect l="l" t="t" r="r" b="b"/>
                <a:pathLst>
                  <a:path w="821" h="1170">
                    <a:moveTo>
                      <a:pt x="819" y="0"/>
                    </a:moveTo>
                    <a:lnTo>
                      <a:pt x="821" y="1170"/>
                    </a:lnTo>
                    <a:lnTo>
                      <a:pt x="0" y="1170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 flipH="1">
                <a:off x="6643440" y="2617920"/>
                <a:ext cx="82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496200" y="2617920"/>
                <a:ext cx="220680" cy="179280"/>
              </a:xfrm>
              <a:custGeom>
                <a:avLst/>
                <a:gdLst/>
                <a:ahLst/>
                <a:rect l="l" t="t" r="r" b="b"/>
                <a:pathLst>
                  <a:path w="139" h="113">
                    <a:moveTo>
                      <a:pt x="139" y="0"/>
                    </a:moveTo>
                    <a:lnTo>
                      <a:pt x="139" y="113"/>
                    </a:lnTo>
                    <a:lnTo>
                      <a:pt x="0" y="1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5792760" y="2249640"/>
                <a:ext cx="179280" cy="522000"/>
              </a:xfrm>
              <a:custGeom>
                <a:avLst/>
                <a:gdLst/>
                <a:ahLst/>
                <a:rect l="l" t="t" r="r" b="b"/>
                <a:pathLst>
                  <a:path w="113" h="329">
                    <a:moveTo>
                      <a:pt x="0" y="0"/>
                    </a:moveTo>
                    <a:lnTo>
                      <a:pt x="0" y="45"/>
                    </a:lnTo>
                    <a:lnTo>
                      <a:pt x="64" y="45"/>
                    </a:lnTo>
                    <a:lnTo>
                      <a:pt x="64" y="329"/>
                    </a:lnTo>
                    <a:lnTo>
                      <a:pt x="113" y="329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3676680" y="2570040"/>
                <a:ext cx="14176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5776920" y="2227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461280" y="292896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639200" y="1081080"/>
                <a:ext cx="150840" cy="1440"/>
              </a:xfrm>
              <a:prstGeom prst="line">
                <a:avLst/>
              </a:prstGeom>
              <a:ln w="9360">
                <a:solidFill>
                  <a:srgbClr val="f7c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5122800" y="969840"/>
                <a:ext cx="131760" cy="22392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307040" y="1766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641680" y="1622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660040" y="1760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706120" y="1760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865600" y="1405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078000" y="1405080"/>
                <a:ext cx="214560" cy="784080"/>
              </a:xfrm>
              <a:custGeom>
                <a:avLst/>
                <a:gdLst/>
                <a:ahLst/>
                <a:rect l="l" t="t" r="r" b="b"/>
                <a:pathLst>
                  <a:path w="135" h="494">
                    <a:moveTo>
                      <a:pt x="0" y="494"/>
                    </a:moveTo>
                    <a:lnTo>
                      <a:pt x="135" y="494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1780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36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7144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300672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3022920" y="1719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30448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3084480" y="1719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116160" y="1719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134520" y="1719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315108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3186000" y="1719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3224160" y="1719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6280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301608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3051360" y="1798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3110040" y="179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3144960" y="1798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3166920" y="1798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  <a:lnTo>
                      <a:pt x="266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6967440" y="1379520"/>
                <a:ext cx="425520" cy="784080"/>
              </a:xfrm>
              <a:custGeom>
                <a:avLst/>
                <a:gdLst/>
                <a:ahLst/>
                <a:rect l="l" t="t" r="r" b="b"/>
                <a:pathLst>
                  <a:path w="268" h="494">
                    <a:moveTo>
                      <a:pt x="266" y="494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4"/>
                    </a:lnTo>
                    <a:lnTo>
                      <a:pt x="268" y="494"/>
                    </a:lnTo>
                    <a:lnTo>
                      <a:pt x="268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430704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568944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041880" y="2016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 flipH="1">
                <a:off x="5856120" y="203184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766960" y="1795320"/>
                <a:ext cx="73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82744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727600" y="1846440"/>
                <a:ext cx="128520" cy="37440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4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4"/>
                    </a:lnTo>
                    <a:lnTo>
                      <a:pt x="81" y="40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0"/>
                    </a:lnTo>
                    <a:lnTo>
                      <a:pt x="2" y="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423396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4307040" y="1568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4344840" y="1292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0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594320" y="1292400"/>
                <a:ext cx="253800" cy="784080"/>
              </a:xfrm>
              <a:custGeom>
                <a:avLst/>
                <a:gdLst/>
                <a:ahLst/>
                <a:rect l="l" t="t" r="r" b="b"/>
                <a:pathLst>
                  <a:path w="160" h="494">
                    <a:moveTo>
                      <a:pt x="0" y="494"/>
                    </a:moveTo>
                    <a:lnTo>
                      <a:pt x="160" y="494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165800" y="1382760"/>
                <a:ext cx="220680" cy="780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4453920" y="1647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450216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45370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4574520" y="1647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458784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4624560" y="1647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4643280" y="1647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4678560" y="1647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4700520" y="1647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H="1">
                <a:off x="3676680" y="1386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5762880" y="1930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818320" y="1930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773680" y="199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811840" y="19969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5773680" y="2062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727600" y="24415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8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8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6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762880" y="25257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5818320" y="2525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773680" y="2592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811840" y="259236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5773680" y="2657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94880" y="1792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8048520" y="1792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8004240" y="1857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8042400" y="18572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8003880" y="1924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676680" y="1584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5081760" y="1890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H="1">
                <a:off x="4848120" y="19098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851520" y="175752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272120" y="566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8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2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2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8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39084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122800" y="1193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352680" y="177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292560" y="1795320"/>
                <a:ext cx="69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081760" y="1366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flipH="1">
                <a:off x="4848120" y="1382760"/>
                <a:ext cx="2397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081760" y="2352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749760" y="1386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15088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193720" y="1042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lnTo>
                      <a:pt x="83" y="14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122800" y="744480"/>
                <a:ext cx="131760" cy="22536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0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505560" y="1193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3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158080" y="8161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122800" y="517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138640" y="592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5203080" y="592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470640" y="10494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5254560" y="857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70640" y="83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5254560" y="630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0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470640" y="1754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H="1">
                <a:off x="6297120" y="1770120"/>
                <a:ext cx="1796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flipH="1">
                <a:off x="7392600" y="1770120"/>
                <a:ext cx="79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462800" y="2220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H="1">
                <a:off x="6867000" y="2236680"/>
                <a:ext cx="60516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106760" y="1693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15644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194600" y="1693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213680" y="1693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248600" y="169380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0599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1168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153560" y="177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210440" y="177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245720" y="177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267320" y="177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080040" y="1436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2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5727600" y="132084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9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6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6"/>
                    </a:lnTo>
                    <a:lnTo>
                      <a:pt x="65" y="9"/>
                    </a:lnTo>
                    <a:lnTo>
                      <a:pt x="69" y="13"/>
                    </a:lnTo>
                    <a:lnTo>
                      <a:pt x="73" y="17"/>
                    </a:lnTo>
                    <a:lnTo>
                      <a:pt x="75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6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5762880" y="1405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5818320" y="1405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5773680" y="1473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5811840" y="1473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5773680" y="1536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041880" y="1490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flipH="1">
                <a:off x="5856120" y="1506600"/>
                <a:ext cx="198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3525840" y="1795320"/>
                <a:ext cx="150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3676680" y="857160"/>
                <a:ext cx="1414440" cy="1827360"/>
              </a:xfrm>
              <a:custGeom>
                <a:avLst/>
                <a:gdLst/>
                <a:ahLst/>
                <a:rect l="l" t="t" r="r" b="b"/>
                <a:pathLst>
                  <a:path w="891" h="1151">
                    <a:moveTo>
                      <a:pt x="891" y="1149"/>
                    </a:moveTo>
                    <a:lnTo>
                      <a:pt x="0" y="1151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5081760" y="245412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3825720" y="1587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5081760" y="2554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5081760" y="26654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3660840" y="2554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3733920" y="1370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3809880" y="156852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22"/>
                    </a:moveTo>
                    <a:lnTo>
                      <a:pt x="12" y="22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700680" y="26020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496200" y="2620800"/>
                <a:ext cx="1217520" cy="276480"/>
              </a:xfrm>
              <a:custGeom>
                <a:avLst/>
                <a:gdLst/>
                <a:ahLst/>
                <a:rect l="l" t="t" r="r" b="b"/>
                <a:pathLst>
                  <a:path w="767" h="174">
                    <a:moveTo>
                      <a:pt x="0" y="172"/>
                    </a:moveTo>
                    <a:lnTo>
                      <a:pt x="767" y="174"/>
                    </a:lnTo>
                    <a:lnTo>
                      <a:pt x="767" y="0"/>
                    </a:lnTo>
                    <a:lnTo>
                      <a:pt x="72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473880" y="287640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20" y="23"/>
                    </a:lnTo>
                    <a:lnTo>
                      <a:pt x="0" y="1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473880" y="2828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20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492960" y="28447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 flipH="1">
                <a:off x="6643440" y="1770120"/>
                <a:ext cx="2206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851520" y="22240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162920" y="287964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 rot="16200000">
                <a:off x="3600000" y="1694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rot="16200000">
                <a:off x="3588120" y="166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rot="16200000">
                <a:off x="3590280" y="162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rot="16200000">
                <a:off x="3600000" y="1603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rot="16200000">
                <a:off x="3597840" y="1582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rot="16200000">
                <a:off x="3588120" y="155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 rot="16200000">
                <a:off x="3590280" y="1517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rot="16200000">
                <a:off x="3600000" y="1492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rot="16200000">
                <a:off x="3602520" y="14796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rot="16200000">
                <a:off x="3588120" y="1448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rot="16200000">
                <a:off x="3588120" y="140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459240" y="104760"/>
                <a:ext cx="1440" cy="108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441600" y="1058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38472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403440" y="105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44484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465360" y="105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480840" y="105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459240" y="2746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513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5733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3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5" name=""/>
            <p:cNvGrpSpPr/>
            <p:nvPr/>
          </p:nvGrpSpPr>
          <p:grpSpPr>
            <a:xfrm>
              <a:off x="2641680" y="79200"/>
              <a:ext cx="5519520" cy="6434280"/>
              <a:chOff x="2641680" y="79200"/>
              <a:chExt cx="5519520" cy="6434280"/>
            </a:xfrm>
          </p:grpSpPr>
          <p:sp>
            <p:nvSpPr>
              <p:cNvPr id="4096" name=""/>
              <p:cNvSpPr/>
              <p:nvPr/>
            </p:nvSpPr>
            <p:spPr>
              <a:xfrm>
                <a:off x="36925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7209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7814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8386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8685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9006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9574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0179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0482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076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1371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5186520" y="104760"/>
                <a:ext cx="2880" cy="41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524520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30208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36256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5421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548100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55040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5170320" y="40968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21" y="0"/>
                    </a:moveTo>
                    <a:lnTo>
                      <a:pt x="21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10372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5119200" y="406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5167440" y="406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18580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231880" y="406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573960" y="104760"/>
                <a:ext cx="2880" cy="63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630120" y="79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652800" y="79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72948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759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819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8803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9087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9390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9674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99624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02792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05636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558120" y="63324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44472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48900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534000" y="633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55524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608160" y="633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653520" y="633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572240" y="104760"/>
                <a:ext cx="1800" cy="86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626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68672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745400" y="79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7738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834680" y="79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8692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279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91640" y="79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8048520" y="79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553160" y="857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43148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48440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531560" y="85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588080" y="857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603920" y="857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7666920" y="857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650680" y="3116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2728080" y="3116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75112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81124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862000" y="3116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2917800" y="3116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2946240" y="3116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80376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602160" y="38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803760" y="149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602160" y="460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496872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0054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66900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703920" y="771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8624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324400" y="538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9658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005440" y="129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9658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005440" y="1814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008680" y="2381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008680" y="2276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008680" y="2589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299840" y="8190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34808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38624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422600" y="819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442040" y="819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464000" y="81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501440" y="819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160320" y="1735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205680" y="1735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243120" y="1735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57396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572240" y="2746440"/>
                <a:ext cx="180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 flipH="1">
                <a:off x="5254200" y="1909800"/>
                <a:ext cx="45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186520" y="2746440"/>
                <a:ext cx="288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548760" y="1042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6524640" y="81612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6589080" y="8161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66499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7104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769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6829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6885720" y="33670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69120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597080" y="3373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619400" y="33735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69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72956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786800" y="3373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8469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8757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056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3440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6608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945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8023320" y="3373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H="1">
                <a:off x="5254200" y="4680000"/>
                <a:ext cx="45108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867360" y="5067360"/>
                <a:ext cx="68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496200" y="4148280"/>
                <a:ext cx="295200" cy="1990440"/>
              </a:xfrm>
              <a:custGeom>
                <a:avLst/>
                <a:gdLst/>
                <a:ahLst/>
                <a:rect l="l" t="t" r="r" b="b"/>
                <a:pathLst>
                  <a:path w="186" h="1254">
                    <a:moveTo>
                      <a:pt x="186" y="0"/>
                    </a:moveTo>
                    <a:lnTo>
                      <a:pt x="186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486480" y="4375080"/>
                <a:ext cx="1303560" cy="1866960"/>
              </a:xfrm>
              <a:custGeom>
                <a:avLst/>
                <a:gdLst/>
                <a:ahLst/>
                <a:rect l="l" t="t" r="r" b="b"/>
                <a:pathLst>
                  <a:path w="821" h="1176">
                    <a:moveTo>
                      <a:pt x="819" y="0"/>
                    </a:moveTo>
                    <a:lnTo>
                      <a:pt x="821" y="1176"/>
                    </a:lnTo>
                    <a:lnTo>
                      <a:pt x="0" y="11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496200" y="5918040"/>
                <a:ext cx="220680" cy="173160"/>
              </a:xfrm>
              <a:custGeom>
                <a:avLst/>
                <a:gdLst/>
                <a:ahLst/>
                <a:rect l="l" t="t" r="r" b="b"/>
                <a:pathLst>
                  <a:path w="139" h="109">
                    <a:moveTo>
                      <a:pt x="139" y="0"/>
                    </a:moveTo>
                    <a:lnTo>
                      <a:pt x="139" y="109"/>
                    </a:lnTo>
                    <a:lnTo>
                      <a:pt x="0" y="10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94120" y="5079960"/>
                <a:ext cx="3284640" cy="1433520"/>
              </a:xfrm>
              <a:custGeom>
                <a:avLst/>
                <a:gdLst/>
                <a:ahLst/>
                <a:rect l="l" t="t" r="r" b="b"/>
                <a:pathLst>
                  <a:path w="2069" h="903">
                    <a:moveTo>
                      <a:pt x="2069" y="700"/>
                    </a:moveTo>
                    <a:lnTo>
                      <a:pt x="2069" y="903"/>
                    </a:lnTo>
                    <a:lnTo>
                      <a:pt x="0" y="903"/>
                    </a:lnTo>
                    <a:lnTo>
                      <a:pt x="0" y="0"/>
                    </a:lnTo>
                    <a:lnTo>
                      <a:pt x="26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640560" y="4151160"/>
                <a:ext cx="834840" cy="223920"/>
              </a:xfrm>
              <a:custGeom>
                <a:avLst/>
                <a:gdLst/>
                <a:ahLst/>
                <a:rect l="l" t="t" r="r" b="b"/>
                <a:pathLst>
                  <a:path w="526" h="141">
                    <a:moveTo>
                      <a:pt x="526" y="141"/>
                    </a:moveTo>
                    <a:lnTo>
                      <a:pt x="482" y="141"/>
                    </a:lnTo>
                    <a:lnTo>
                      <a:pt x="482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792760" y="5546880"/>
                <a:ext cx="176400" cy="519120"/>
              </a:xfrm>
              <a:custGeom>
                <a:avLst/>
                <a:gdLst/>
                <a:ahLst/>
                <a:rect l="l" t="t" r="r" b="b"/>
                <a:pathLst>
                  <a:path w="111" h="327">
                    <a:moveTo>
                      <a:pt x="0" y="0"/>
                    </a:moveTo>
                    <a:lnTo>
                      <a:pt x="0" y="45"/>
                    </a:lnTo>
                    <a:lnTo>
                      <a:pt x="60" y="45"/>
                    </a:lnTo>
                    <a:lnTo>
                      <a:pt x="60" y="327"/>
                    </a:lnTo>
                    <a:lnTo>
                      <a:pt x="111" y="327"/>
                    </a:lnTo>
                  </a:path>
                </a:pathLst>
              </a:custGeom>
              <a:noFill/>
              <a:ln w="936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676680" y="5864400"/>
                <a:ext cx="141768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776920" y="55213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20"/>
                    </a:moveTo>
                    <a:lnTo>
                      <a:pt x="20" y="20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639200" y="4375080"/>
                <a:ext cx="15084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6473880" y="612288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2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122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2641680" y="4916520"/>
                <a:ext cx="125280" cy="352440"/>
              </a:xfrm>
              <a:custGeom>
                <a:avLst/>
                <a:gdLst/>
                <a:ahLst/>
                <a:rect l="l" t="t" r="r" b="b"/>
                <a:pathLst>
                  <a:path w="79" h="222">
                    <a:moveTo>
                      <a:pt x="79" y="220"/>
                    </a:moveTo>
                    <a:lnTo>
                      <a:pt x="79" y="0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79" y="222"/>
                    </a:lnTo>
                    <a:lnTo>
                      <a:pt x="79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2660040" y="5054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2706120" y="5054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2865600" y="4699080"/>
                <a:ext cx="215640" cy="784080"/>
              </a:xfrm>
              <a:custGeom>
                <a:avLst/>
                <a:gdLst/>
                <a:ahLst/>
                <a:rect l="l" t="t" r="r" b="b"/>
                <a:pathLst>
                  <a:path w="136" h="494">
                    <a:moveTo>
                      <a:pt x="134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36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078000" y="4702320"/>
                <a:ext cx="214560" cy="780840"/>
              </a:xfrm>
              <a:custGeom>
                <a:avLst/>
                <a:gdLst/>
                <a:ahLst/>
                <a:rect l="l" t="t" r="r" b="b"/>
                <a:pathLst>
                  <a:path w="135" h="492">
                    <a:moveTo>
                      <a:pt x="0" y="492"/>
                    </a:moveTo>
                    <a:lnTo>
                      <a:pt x="135" y="492"/>
                    </a:lnTo>
                    <a:lnTo>
                      <a:pt x="135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291780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2936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297144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00672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022920" y="501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0448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084480" y="5013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116160" y="50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134520" y="5013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15108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186000" y="50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224160" y="50133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96280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01608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051360" y="50925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110040" y="5092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144960" y="5092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166920" y="5092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  <a:lnTo>
                      <a:pt x="266" y="4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967440" y="4676760"/>
                <a:ext cx="425520" cy="781200"/>
              </a:xfrm>
              <a:custGeom>
                <a:avLst/>
                <a:gdLst/>
                <a:ahLst/>
                <a:rect l="l" t="t" r="r" b="b"/>
                <a:pathLst>
                  <a:path w="268" h="492">
                    <a:moveTo>
                      <a:pt x="266" y="492"/>
                    </a:moveTo>
                    <a:lnTo>
                      <a:pt x="268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268" y="492"/>
                    </a:lnTo>
                    <a:lnTo>
                      <a:pt x="268" y="49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307040" y="4664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568944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041880" y="531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5856120" y="5329080"/>
                <a:ext cx="198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21800" y="5297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2766960" y="5092560"/>
                <a:ext cx="73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82744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59600" y="5002200"/>
                <a:ext cx="12888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41"/>
                    </a:moveTo>
                    <a:lnTo>
                      <a:pt x="2" y="35"/>
                    </a:lnTo>
                    <a:lnTo>
                      <a:pt x="4" y="29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22" y="7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7"/>
                    </a:lnTo>
                    <a:lnTo>
                      <a:pt x="64" y="9"/>
                    </a:lnTo>
                    <a:lnTo>
                      <a:pt x="68" y="13"/>
                    </a:lnTo>
                    <a:lnTo>
                      <a:pt x="72" y="17"/>
                    </a:lnTo>
                    <a:lnTo>
                      <a:pt x="74" y="23"/>
                    </a:lnTo>
                    <a:lnTo>
                      <a:pt x="79" y="29"/>
                    </a:lnTo>
                    <a:lnTo>
                      <a:pt x="79" y="35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4" y="216"/>
                    </a:lnTo>
                    <a:lnTo>
                      <a:pt x="72" y="220"/>
                    </a:lnTo>
                    <a:lnTo>
                      <a:pt x="68" y="226"/>
                    </a:lnTo>
                    <a:lnTo>
                      <a:pt x="64" y="230"/>
                    </a:lnTo>
                    <a:lnTo>
                      <a:pt x="58" y="232"/>
                    </a:lnTo>
                    <a:lnTo>
                      <a:pt x="52" y="234"/>
                    </a:lnTo>
                    <a:lnTo>
                      <a:pt x="46" y="236"/>
                    </a:lnTo>
                    <a:lnTo>
                      <a:pt x="40" y="236"/>
                    </a:lnTo>
                    <a:lnTo>
                      <a:pt x="34" y="236"/>
                    </a:lnTo>
                    <a:lnTo>
                      <a:pt x="28" y="234"/>
                    </a:lnTo>
                    <a:lnTo>
                      <a:pt x="22" y="232"/>
                    </a:lnTo>
                    <a:lnTo>
                      <a:pt x="18" y="230"/>
                    </a:lnTo>
                    <a:lnTo>
                      <a:pt x="12" y="226"/>
                    </a:lnTo>
                    <a:lnTo>
                      <a:pt x="8" y="220"/>
                    </a:lnTo>
                    <a:lnTo>
                      <a:pt x="6" y="216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5727600" y="5143680"/>
                <a:ext cx="128520" cy="371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0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69" y="10"/>
                    </a:lnTo>
                    <a:lnTo>
                      <a:pt x="73" y="16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23396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307040" y="4862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344840" y="4586400"/>
                <a:ext cx="252720" cy="784080"/>
              </a:xfrm>
              <a:custGeom>
                <a:avLst/>
                <a:gdLst/>
                <a:ahLst/>
                <a:rect l="l" t="t" r="r" b="b"/>
                <a:pathLst>
                  <a:path w="159" h="494">
                    <a:moveTo>
                      <a:pt x="157" y="0"/>
                    </a:moveTo>
                    <a:lnTo>
                      <a:pt x="0" y="2"/>
                    </a:lnTo>
                    <a:lnTo>
                      <a:pt x="0" y="494"/>
                    </a:lnTo>
                    <a:lnTo>
                      <a:pt x="159" y="4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594320" y="4589640"/>
                <a:ext cx="253800" cy="780840"/>
              </a:xfrm>
              <a:custGeom>
                <a:avLst/>
                <a:gdLst/>
                <a:ahLst/>
                <a:rect l="l" t="t" r="r" b="b"/>
                <a:pathLst>
                  <a:path w="160" h="492">
                    <a:moveTo>
                      <a:pt x="0" y="492"/>
                    </a:moveTo>
                    <a:lnTo>
                      <a:pt x="160" y="492"/>
                    </a:lnTo>
                    <a:lnTo>
                      <a:pt x="160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453920" y="49417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50216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5370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574520" y="49417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58784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4560" y="4941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43280" y="49417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678560" y="49417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700520" y="4941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970440" y="5191200"/>
                <a:ext cx="4190760" cy="1249200"/>
              </a:xfrm>
              <a:custGeom>
                <a:avLst/>
                <a:gdLst/>
                <a:ahLst/>
                <a:rect l="l" t="t" r="r" b="b"/>
                <a:pathLst>
                  <a:path w="2640" h="787">
                    <a:moveTo>
                      <a:pt x="220" y="55"/>
                    </a:moveTo>
                    <a:lnTo>
                      <a:pt x="0" y="57"/>
                    </a:lnTo>
                    <a:lnTo>
                      <a:pt x="0" y="787"/>
                    </a:lnTo>
                    <a:lnTo>
                      <a:pt x="2640" y="787"/>
                    </a:lnTo>
                    <a:lnTo>
                      <a:pt x="2640" y="0"/>
                    </a:lnTo>
                    <a:lnTo>
                      <a:pt x="25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3676680" y="4680000"/>
                <a:ext cx="64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762880" y="5224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818320" y="52243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773680" y="5291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811840" y="52912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773680" y="5359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727600" y="5722920"/>
                <a:ext cx="128520" cy="37476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0" y="38"/>
                    </a:moveTo>
                    <a:lnTo>
                      <a:pt x="2" y="32"/>
                    </a:lnTo>
                    <a:lnTo>
                      <a:pt x="4" y="26"/>
                    </a:lnTo>
                    <a:lnTo>
                      <a:pt x="6" y="22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9" y="12"/>
                    </a:lnTo>
                    <a:lnTo>
                      <a:pt x="73" y="16"/>
                    </a:lnTo>
                    <a:lnTo>
                      <a:pt x="75" y="22"/>
                    </a:lnTo>
                    <a:lnTo>
                      <a:pt x="79" y="26"/>
                    </a:lnTo>
                    <a:lnTo>
                      <a:pt x="79" y="32"/>
                    </a:lnTo>
                    <a:lnTo>
                      <a:pt x="81" y="41"/>
                    </a:lnTo>
                    <a:lnTo>
                      <a:pt x="81" y="198"/>
                    </a:lnTo>
                    <a:lnTo>
                      <a:pt x="79" y="204"/>
                    </a:lnTo>
                    <a:lnTo>
                      <a:pt x="79" y="210"/>
                    </a:lnTo>
                    <a:lnTo>
                      <a:pt x="75" y="214"/>
                    </a:lnTo>
                    <a:lnTo>
                      <a:pt x="73" y="220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2"/>
                    </a:lnTo>
                    <a:lnTo>
                      <a:pt x="53" y="234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29" y="234"/>
                    </a:lnTo>
                    <a:lnTo>
                      <a:pt x="22" y="232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20"/>
                    </a:lnTo>
                    <a:lnTo>
                      <a:pt x="6" y="214"/>
                    </a:lnTo>
                    <a:lnTo>
                      <a:pt x="4" y="210"/>
                    </a:lnTo>
                    <a:lnTo>
                      <a:pt x="2" y="204"/>
                    </a:lnTo>
                    <a:lnTo>
                      <a:pt x="2" y="198"/>
                    </a:lnTo>
                    <a:lnTo>
                      <a:pt x="2" y="41"/>
                    </a:lnTo>
                    <a:lnTo>
                      <a:pt x="2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5762880" y="5807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5818320" y="58071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773680" y="5870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6" name=""/>
            <p:cNvGrpSpPr/>
            <p:nvPr/>
          </p:nvGrpSpPr>
          <p:grpSpPr>
            <a:xfrm>
              <a:off x="2650680" y="1360440"/>
              <a:ext cx="5418000" cy="5278320"/>
              <a:chOff x="2650680" y="1360440"/>
              <a:chExt cx="5418000" cy="5278320"/>
            </a:xfrm>
          </p:grpSpPr>
          <p:sp>
            <p:nvSpPr>
              <p:cNvPr id="4297" name=""/>
              <p:cNvSpPr/>
              <p:nvPr/>
            </p:nvSpPr>
            <p:spPr>
              <a:xfrm>
                <a:off x="5811840" y="58705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5773680" y="593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94880" y="50864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8048520" y="508644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8004240" y="5154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8042400" y="515448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8003880" y="5218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676680" y="4878360"/>
                <a:ext cx="64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081760" y="5184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4848120" y="5205240"/>
                <a:ext cx="239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272120" y="3860640"/>
                <a:ext cx="274320" cy="582840"/>
              </a:xfrm>
              <a:custGeom>
                <a:avLst/>
                <a:gdLst/>
                <a:ahLst/>
                <a:rect l="l" t="t" r="r" b="b"/>
                <a:pathLst>
                  <a:path w="173" h="367">
                    <a:moveTo>
                      <a:pt x="86" y="367"/>
                    </a:moveTo>
                    <a:lnTo>
                      <a:pt x="101" y="365"/>
                    </a:lnTo>
                    <a:lnTo>
                      <a:pt x="115" y="359"/>
                    </a:lnTo>
                    <a:lnTo>
                      <a:pt x="127" y="346"/>
                    </a:lnTo>
                    <a:lnTo>
                      <a:pt x="139" y="332"/>
                    </a:lnTo>
                    <a:lnTo>
                      <a:pt x="149" y="314"/>
                    </a:lnTo>
                    <a:lnTo>
                      <a:pt x="157" y="292"/>
                    </a:lnTo>
                    <a:lnTo>
                      <a:pt x="165" y="268"/>
                    </a:lnTo>
                    <a:lnTo>
                      <a:pt x="169" y="242"/>
                    </a:lnTo>
                    <a:lnTo>
                      <a:pt x="173" y="213"/>
                    </a:lnTo>
                    <a:lnTo>
                      <a:pt x="173" y="183"/>
                    </a:lnTo>
                    <a:lnTo>
                      <a:pt x="173" y="153"/>
                    </a:lnTo>
                    <a:lnTo>
                      <a:pt x="169" y="125"/>
                    </a:lnTo>
                    <a:lnTo>
                      <a:pt x="165" y="98"/>
                    </a:lnTo>
                    <a:lnTo>
                      <a:pt x="157" y="74"/>
                    </a:lnTo>
                    <a:lnTo>
                      <a:pt x="149" y="54"/>
                    </a:lnTo>
                    <a:lnTo>
                      <a:pt x="139" y="34"/>
                    </a:lnTo>
                    <a:lnTo>
                      <a:pt x="127" y="20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6" y="0"/>
                    </a:lnTo>
                    <a:lnTo>
                      <a:pt x="72" y="2"/>
                    </a:lnTo>
                    <a:lnTo>
                      <a:pt x="60" y="8"/>
                    </a:lnTo>
                    <a:lnTo>
                      <a:pt x="48" y="20"/>
                    </a:lnTo>
                    <a:lnTo>
                      <a:pt x="36" y="34"/>
                    </a:lnTo>
                    <a:lnTo>
                      <a:pt x="26" y="54"/>
                    </a:lnTo>
                    <a:lnTo>
                      <a:pt x="18" y="74"/>
                    </a:lnTo>
                    <a:lnTo>
                      <a:pt x="10" y="98"/>
                    </a:lnTo>
                    <a:lnTo>
                      <a:pt x="6" y="125"/>
                    </a:lnTo>
                    <a:lnTo>
                      <a:pt x="2" y="153"/>
                    </a:lnTo>
                    <a:lnTo>
                      <a:pt x="0" y="183"/>
                    </a:lnTo>
                    <a:lnTo>
                      <a:pt x="2" y="213"/>
                    </a:lnTo>
                    <a:lnTo>
                      <a:pt x="6" y="242"/>
                    </a:lnTo>
                    <a:lnTo>
                      <a:pt x="10" y="268"/>
                    </a:lnTo>
                    <a:lnTo>
                      <a:pt x="18" y="292"/>
                    </a:lnTo>
                    <a:lnTo>
                      <a:pt x="26" y="314"/>
                    </a:lnTo>
                    <a:lnTo>
                      <a:pt x="36" y="332"/>
                    </a:lnTo>
                    <a:lnTo>
                      <a:pt x="48" y="346"/>
                    </a:lnTo>
                    <a:lnTo>
                      <a:pt x="60" y="359"/>
                    </a:lnTo>
                    <a:lnTo>
                      <a:pt x="72" y="365"/>
                    </a:lnTo>
                    <a:lnTo>
                      <a:pt x="86" y="367"/>
                    </a:lnTo>
                    <a:lnTo>
                      <a:pt x="86" y="36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390840" y="4487760"/>
                <a:ext cx="135000" cy="1552680"/>
              </a:xfrm>
              <a:custGeom>
                <a:avLst/>
                <a:gdLst/>
                <a:ahLst/>
                <a:rect l="l" t="t" r="r" b="b"/>
                <a:pathLst>
                  <a:path w="85" h="978">
                    <a:moveTo>
                      <a:pt x="85" y="978"/>
                    </a:moveTo>
                    <a:lnTo>
                      <a:pt x="85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5" y="978"/>
                    </a:lnTo>
                    <a:lnTo>
                      <a:pt x="85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22800" y="4487760"/>
                <a:ext cx="131760" cy="1552680"/>
              </a:xfrm>
              <a:custGeom>
                <a:avLst/>
                <a:gdLst/>
                <a:ahLst/>
                <a:rect l="l" t="t" r="r" b="b"/>
                <a:pathLst>
                  <a:path w="83" h="978">
                    <a:moveTo>
                      <a:pt x="83" y="978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978"/>
                    </a:lnTo>
                    <a:lnTo>
                      <a:pt x="83" y="978"/>
                    </a:lnTo>
                    <a:lnTo>
                      <a:pt x="83" y="9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352680" y="5073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292560" y="5092560"/>
                <a:ext cx="69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08176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flipH="1">
                <a:off x="4848120" y="4680000"/>
                <a:ext cx="23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5081760" y="56498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749760" y="4680000"/>
                <a:ext cx="1344600" cy="985680"/>
              </a:xfrm>
              <a:custGeom>
                <a:avLst/>
                <a:gdLst/>
                <a:ahLst/>
                <a:rect l="l" t="t" r="r" b="b"/>
                <a:pathLst>
                  <a:path w="847" h="621">
                    <a:moveTo>
                      <a:pt x="847" y="621"/>
                    </a:moveTo>
                    <a:lnTo>
                      <a:pt x="0" y="6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15088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5193720" y="43369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5122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5158080" y="4113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5122800" y="3811680"/>
                <a:ext cx="131760" cy="226800"/>
              </a:xfrm>
              <a:custGeom>
                <a:avLst/>
                <a:gdLst/>
                <a:ahLst/>
                <a:rect l="l" t="t" r="r" b="b"/>
                <a:pathLst>
                  <a:path w="83" h="143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83" y="143"/>
                    </a:lnTo>
                    <a:lnTo>
                      <a:pt x="83" y="14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5138640" y="38862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203080" y="3886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508800" y="4264200"/>
                <a:ext cx="131760" cy="223560"/>
              </a:xfrm>
              <a:custGeom>
                <a:avLst/>
                <a:gdLst/>
                <a:ahLst/>
                <a:rect l="l" t="t" r="r" b="b"/>
                <a:pathLst>
                  <a:path w="83" h="141">
                    <a:moveTo>
                      <a:pt x="83" y="141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1"/>
                    </a:lnTo>
                    <a:lnTo>
                      <a:pt x="83" y="141"/>
                    </a:lnTo>
                    <a:lnTo>
                      <a:pt x="83" y="14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548760" y="4336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508800" y="4038480"/>
                <a:ext cx="131760" cy="225720"/>
              </a:xfrm>
              <a:custGeom>
                <a:avLst/>
                <a:gdLst/>
                <a:ahLst/>
                <a:rect l="l" t="t" r="r" b="b"/>
                <a:pathLst>
                  <a:path w="83" h="142">
                    <a:moveTo>
                      <a:pt x="83" y="142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83" y="142"/>
                    </a:lnTo>
                    <a:lnTo>
                      <a:pt x="83" y="14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524640" y="411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589080" y="4113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6470640" y="434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5254560" y="4151160"/>
                <a:ext cx="1225440" cy="208080"/>
              </a:xfrm>
              <a:custGeom>
                <a:avLst/>
                <a:gdLst/>
                <a:ahLst/>
                <a:rect l="l" t="t" r="r" b="b"/>
                <a:pathLst>
                  <a:path w="772" h="131">
                    <a:moveTo>
                      <a:pt x="772" y="131"/>
                    </a:moveTo>
                    <a:lnTo>
                      <a:pt x="696" y="131"/>
                    </a:lnTo>
                    <a:lnTo>
                      <a:pt x="69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647064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254560" y="3924360"/>
                <a:ext cx="1225440" cy="226800"/>
              </a:xfrm>
              <a:custGeom>
                <a:avLst/>
                <a:gdLst/>
                <a:ahLst/>
                <a:rect l="l" t="t" r="r" b="b"/>
                <a:pathLst>
                  <a:path w="772" h="143">
                    <a:moveTo>
                      <a:pt x="0" y="0"/>
                    </a:moveTo>
                    <a:lnTo>
                      <a:pt x="728" y="2"/>
                    </a:lnTo>
                    <a:lnTo>
                      <a:pt x="728" y="143"/>
                    </a:lnTo>
                    <a:lnTo>
                      <a:pt x="772" y="143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470640" y="504828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6297120" y="5067360"/>
                <a:ext cx="179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66040" y="43592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0" y="20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462800" y="5048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H="1">
                <a:off x="7638840" y="5067360"/>
                <a:ext cx="29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H="1">
                <a:off x="7392600" y="5067360"/>
                <a:ext cx="795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466040" y="5514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39200" y="5313240"/>
                <a:ext cx="298440" cy="220680"/>
              </a:xfrm>
              <a:custGeom>
                <a:avLst/>
                <a:gdLst/>
                <a:ahLst/>
                <a:rect l="l" t="t" r="r" b="b"/>
                <a:pathLst>
                  <a:path w="188" h="139">
                    <a:moveTo>
                      <a:pt x="188" y="0"/>
                    </a:moveTo>
                    <a:lnTo>
                      <a:pt x="141" y="2"/>
                    </a:lnTo>
                    <a:lnTo>
                      <a:pt x="141" y="139"/>
                    </a:lnTo>
                    <a:lnTo>
                      <a:pt x="0" y="13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H="1">
                <a:off x="6867000" y="5533920"/>
                <a:ext cx="6051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106760" y="49910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15644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194600" y="4991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213680" y="49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248600" y="499104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0599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1168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153560" y="5070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210440" y="5070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7245720" y="50706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7267320" y="50706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6080040" y="4730760"/>
                <a:ext cx="217440" cy="673200"/>
              </a:xfrm>
              <a:custGeom>
                <a:avLst/>
                <a:gdLst/>
                <a:ahLst/>
                <a:rect l="l" t="t" r="r" b="b"/>
                <a:pathLst>
                  <a:path w="137" h="424">
                    <a:moveTo>
                      <a:pt x="0" y="0"/>
                    </a:moveTo>
                    <a:lnTo>
                      <a:pt x="0" y="171"/>
                    </a:lnTo>
                    <a:lnTo>
                      <a:pt x="42" y="212"/>
                    </a:lnTo>
                    <a:lnTo>
                      <a:pt x="0" y="252"/>
                    </a:lnTo>
                    <a:lnTo>
                      <a:pt x="0" y="424"/>
                    </a:lnTo>
                    <a:lnTo>
                      <a:pt x="137" y="294"/>
                    </a:lnTo>
                    <a:lnTo>
                      <a:pt x="137" y="12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727600" y="4618080"/>
                <a:ext cx="128520" cy="37152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39"/>
                    </a:moveTo>
                    <a:lnTo>
                      <a:pt x="2" y="33"/>
                    </a:lnTo>
                    <a:lnTo>
                      <a:pt x="4" y="27"/>
                    </a:lnTo>
                    <a:lnTo>
                      <a:pt x="6" y="21"/>
                    </a:lnTo>
                    <a:lnTo>
                      <a:pt x="8" y="15"/>
                    </a:lnTo>
                    <a:lnTo>
                      <a:pt x="12" y="11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69" y="11"/>
                    </a:lnTo>
                    <a:lnTo>
                      <a:pt x="73" y="15"/>
                    </a:lnTo>
                    <a:lnTo>
                      <a:pt x="75" y="21"/>
                    </a:lnTo>
                    <a:lnTo>
                      <a:pt x="79" y="27"/>
                    </a:lnTo>
                    <a:lnTo>
                      <a:pt x="79" y="33"/>
                    </a:lnTo>
                    <a:lnTo>
                      <a:pt x="81" y="39"/>
                    </a:lnTo>
                    <a:lnTo>
                      <a:pt x="81" y="196"/>
                    </a:lnTo>
                    <a:lnTo>
                      <a:pt x="79" y="202"/>
                    </a:lnTo>
                    <a:lnTo>
                      <a:pt x="79" y="208"/>
                    </a:lnTo>
                    <a:lnTo>
                      <a:pt x="75" y="214"/>
                    </a:lnTo>
                    <a:lnTo>
                      <a:pt x="73" y="218"/>
                    </a:lnTo>
                    <a:lnTo>
                      <a:pt x="69" y="224"/>
                    </a:lnTo>
                    <a:lnTo>
                      <a:pt x="65" y="228"/>
                    </a:lnTo>
                    <a:lnTo>
                      <a:pt x="59" y="230"/>
                    </a:lnTo>
                    <a:lnTo>
                      <a:pt x="53" y="232"/>
                    </a:lnTo>
                    <a:lnTo>
                      <a:pt x="47" y="234"/>
                    </a:lnTo>
                    <a:lnTo>
                      <a:pt x="41" y="234"/>
                    </a:lnTo>
                    <a:lnTo>
                      <a:pt x="35" y="234"/>
                    </a:lnTo>
                    <a:lnTo>
                      <a:pt x="29" y="232"/>
                    </a:lnTo>
                    <a:lnTo>
                      <a:pt x="22" y="230"/>
                    </a:lnTo>
                    <a:lnTo>
                      <a:pt x="18" y="228"/>
                    </a:lnTo>
                    <a:lnTo>
                      <a:pt x="12" y="224"/>
                    </a:lnTo>
                    <a:lnTo>
                      <a:pt x="8" y="218"/>
                    </a:lnTo>
                    <a:lnTo>
                      <a:pt x="6" y="214"/>
                    </a:lnTo>
                    <a:lnTo>
                      <a:pt x="4" y="208"/>
                    </a:lnTo>
                    <a:lnTo>
                      <a:pt x="2" y="202"/>
                    </a:lnTo>
                    <a:lnTo>
                      <a:pt x="2" y="196"/>
                    </a:lnTo>
                    <a:lnTo>
                      <a:pt x="2" y="39"/>
                    </a:lnTo>
                    <a:lnTo>
                      <a:pt x="2" y="3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5762880" y="469908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5818320" y="469908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773680" y="4767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811840" y="4767120"/>
                <a:ext cx="3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5773680" y="4834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6051600" y="606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609300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613116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6152400" y="606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6202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6237720" y="6062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625968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6296760" y="6062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63104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6348240" y="6062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6388200" y="6062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616104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6199200" y="6143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6233400" y="6143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6249960" y="6143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6051600" y="2768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609300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613116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6152400" y="2768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202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237720" y="276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625968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6296760" y="2768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63104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6348240" y="276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388200" y="2768760"/>
                <a:ext cx="36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16104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199200" y="2849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233400" y="28494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249960" y="28494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041880" y="47847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0" y="23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>
                <a:off x="5856120" y="4803840"/>
                <a:ext cx="198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689440" y="4660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>
                <a:off x="5254200" y="1376280"/>
                <a:ext cx="45108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689440" y="136044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0"/>
                    </a:moveTo>
                    <a:lnTo>
                      <a:pt x="2" y="20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525840" y="5092560"/>
                <a:ext cx="150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676680" y="4151160"/>
                <a:ext cx="1414440" cy="1828800"/>
              </a:xfrm>
              <a:custGeom>
                <a:avLst/>
                <a:gdLst/>
                <a:ahLst/>
                <a:rect l="l" t="t" r="r" b="b"/>
                <a:pathLst>
                  <a:path w="891" h="1152">
                    <a:moveTo>
                      <a:pt x="891" y="1152"/>
                    </a:moveTo>
                    <a:lnTo>
                      <a:pt x="0" y="1152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081760" y="574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3825720" y="4881600"/>
                <a:ext cx="1268640" cy="882720"/>
              </a:xfrm>
              <a:custGeom>
                <a:avLst/>
                <a:gdLst/>
                <a:ahLst/>
                <a:rect l="l" t="t" r="r" b="b"/>
                <a:pathLst>
                  <a:path w="799" h="556">
                    <a:moveTo>
                      <a:pt x="799" y="556"/>
                    </a:moveTo>
                    <a:lnTo>
                      <a:pt x="0" y="55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5081760" y="5848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2" y="22"/>
                    </a:lnTo>
                    <a:lnTo>
                      <a:pt x="2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081760" y="59594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23"/>
                    </a:lnTo>
                    <a:lnTo>
                      <a:pt x="22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3660840" y="58482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3733920" y="4664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0"/>
                    </a:moveTo>
                    <a:lnTo>
                      <a:pt x="12" y="22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3809880" y="48657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466040" y="5886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6703920" y="5889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0" y="20"/>
                    </a:moveTo>
                    <a:lnTo>
                      <a:pt x="12" y="20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6473880" y="60721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0"/>
                    </a:moveTo>
                    <a:lnTo>
                      <a:pt x="20" y="22"/>
                    </a:lnTo>
                    <a:lnTo>
                      <a:pt x="0" y="1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6929280" y="5048280"/>
                <a:ext cx="3204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2"/>
                    </a:lnTo>
                    <a:lnTo>
                      <a:pt x="2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162920" y="61675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0" y="21"/>
                    </a:move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rot="16200000">
                <a:off x="3600000" y="4988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rot="16200000">
                <a:off x="3588120" y="495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rot="16200000">
                <a:off x="3590280" y="492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 rot="16200000">
                <a:off x="3600000" y="4897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 rot="16200000">
                <a:off x="3597840" y="4879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 rot="16200000">
                <a:off x="3588120" y="4847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 rot="16200000">
                <a:off x="3590280" y="481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rot="16200000">
                <a:off x="3600000" y="4789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rot="16200000">
                <a:off x="3602520" y="47739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rot="16200000">
                <a:off x="3588120" y="474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rot="16200000">
                <a:off x="3588120" y="4706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459240" y="3402000"/>
                <a:ext cx="1440" cy="108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441600" y="435276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1" y="0"/>
                    </a:moveTo>
                    <a:lnTo>
                      <a:pt x="23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338472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3403440" y="43527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344484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3465360" y="4352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3480840" y="43527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3459240" y="6040440"/>
                <a:ext cx="1440" cy="59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186520" y="3402000"/>
                <a:ext cx="2880" cy="409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245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3020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362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4212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450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10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56740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6008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6293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686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74668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7769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8053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8658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170320" y="3703680"/>
                <a:ext cx="3348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10372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119200" y="3700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167440" y="3700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18580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231880" y="3700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573960" y="3402000"/>
                <a:ext cx="2880" cy="63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558120" y="392760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44472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48900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34000" y="3927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55524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608160" y="3927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653520" y="39276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572240" y="3402000"/>
                <a:ext cx="1800" cy="862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553160" y="41511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20" y="0"/>
                    </a:moveTo>
                    <a:lnTo>
                      <a:pt x="22" y="46"/>
                    </a:lnTo>
                    <a:lnTo>
                      <a:pt x="0" y="46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43148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48440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531560" y="4151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588080" y="4151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603920" y="41511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666920" y="41511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65104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70972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770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8274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8558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9178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97504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0067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0351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09420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5432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182760" y="33670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21156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273480" y="336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650680" y="64101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728080" y="64101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5112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81124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862000" y="6410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917800" y="6410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946240" y="641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803760" y="4786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608280" y="3747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968720" y="3832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7" name=""/>
            <p:cNvSpPr/>
            <p:nvPr/>
          </p:nvSpPr>
          <p:spPr>
            <a:xfrm>
              <a:off x="50054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28624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324400" y="3832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6644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04000" y="4286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49658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0054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9658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50054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500868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00868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784680" y="4584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608280" y="3668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4246560" y="498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500868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528624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5324400" y="458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528624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324400" y="5111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5286240" y="567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286240" y="557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5286240" y="5883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4299840" y="41133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434808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438624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4422600" y="41133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4442040" y="4113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4464000" y="41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4501440" y="41133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160320" y="50292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205680" y="502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6243120" y="5029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50880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7500960" y="4487760"/>
              <a:ext cx="131760" cy="1552680"/>
            </a:xfrm>
            <a:custGeom>
              <a:avLst/>
              <a:gdLst/>
              <a:ahLst/>
              <a:rect l="l" t="t" r="r" b="b"/>
              <a:pathLst>
                <a:path w="83" h="978">
                  <a:moveTo>
                    <a:pt x="83" y="978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978"/>
                  </a:lnTo>
                  <a:lnTo>
                    <a:pt x="83" y="978"/>
                  </a:lnTo>
                  <a:lnTo>
                    <a:pt x="83" y="9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57396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7572240" y="6040440"/>
              <a:ext cx="180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flipH="1">
              <a:off x="5254200" y="5205240"/>
              <a:ext cx="45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5186520" y="6040440"/>
              <a:ext cx="2880" cy="59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675480" y="4059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H="1">
              <a:off x="6646680" y="5902200"/>
              <a:ext cx="825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640560" y="5067360"/>
              <a:ext cx="226800" cy="466560"/>
            </a:xfrm>
            <a:custGeom>
              <a:avLst/>
              <a:gdLst/>
              <a:ahLst/>
              <a:rect l="l" t="t" r="r" b="b"/>
              <a:pathLst>
                <a:path w="143" h="294">
                  <a:moveTo>
                    <a:pt x="0" y="0"/>
                  </a:moveTo>
                  <a:lnTo>
                    <a:pt x="143" y="0"/>
                  </a:lnTo>
                  <a:lnTo>
                    <a:pt x="143" y="2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7521480" y="433692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7584480" y="43369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640560" y="857160"/>
              <a:ext cx="834840" cy="223920"/>
            </a:xfrm>
            <a:custGeom>
              <a:avLst/>
              <a:gdLst/>
              <a:ahLst/>
              <a:rect l="l" t="t" r="r" b="b"/>
              <a:pathLst>
                <a:path w="526" h="141">
                  <a:moveTo>
                    <a:pt x="526" y="141"/>
                  </a:moveTo>
                  <a:lnTo>
                    <a:pt x="482" y="141"/>
                  </a:lnTo>
                  <a:lnTo>
                    <a:pt x="48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6502320" y="5905440"/>
              <a:ext cx="1217520" cy="279360"/>
            </a:xfrm>
            <a:custGeom>
              <a:avLst/>
              <a:gdLst/>
              <a:ahLst/>
              <a:rect l="l" t="t" r="r" b="b"/>
              <a:pathLst>
                <a:path w="767" h="176">
                  <a:moveTo>
                    <a:pt x="0" y="176"/>
                  </a:moveTo>
                  <a:lnTo>
                    <a:pt x="767" y="176"/>
                  </a:lnTo>
                  <a:lnTo>
                    <a:pt x="767" y="0"/>
                  </a:lnTo>
                  <a:lnTo>
                    <a:pt x="7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689440" y="1490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616720" y="3127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632560" y="1506600"/>
              <a:ext cx="73080" cy="1639800"/>
            </a:xfrm>
            <a:custGeom>
              <a:avLst/>
              <a:gdLst/>
              <a:ahLst/>
              <a:rect l="l" t="t" r="r" b="b"/>
              <a:pathLst>
                <a:path w="46" h="1033">
                  <a:moveTo>
                    <a:pt x="46" y="0"/>
                  </a:moveTo>
                  <a:lnTo>
                    <a:pt x="0" y="0"/>
                  </a:lnTo>
                  <a:lnTo>
                    <a:pt x="0" y="1033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5929200" y="283536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5935680" y="29163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5948280" y="2932200"/>
              <a:ext cx="972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261040" y="2476440"/>
              <a:ext cx="696960" cy="455760"/>
            </a:xfrm>
            <a:custGeom>
              <a:avLst/>
              <a:gdLst/>
              <a:ahLst/>
              <a:rect l="l" t="t" r="r" b="b"/>
              <a:pathLst>
                <a:path w="439" h="287">
                  <a:moveTo>
                    <a:pt x="439" y="287"/>
                  </a:moveTo>
                  <a:lnTo>
                    <a:pt x="87" y="287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261040" y="2684520"/>
              <a:ext cx="438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257800" y="257976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5261040" y="2374920"/>
              <a:ext cx="681120" cy="479520"/>
            </a:xfrm>
            <a:custGeom>
              <a:avLst/>
              <a:gdLst/>
              <a:ahLst/>
              <a:rect l="l" t="t" r="r" b="b"/>
              <a:pathLst>
                <a:path w="429" h="302">
                  <a:moveTo>
                    <a:pt x="0" y="0"/>
                  </a:moveTo>
                  <a:lnTo>
                    <a:pt x="121" y="0"/>
                  </a:lnTo>
                  <a:lnTo>
                    <a:pt x="121" y="302"/>
                  </a:lnTo>
                  <a:lnTo>
                    <a:pt x="429" y="3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5853240" y="2617920"/>
              <a:ext cx="620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5692680" y="25639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22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5695920" y="26686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0" y="23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6467400" y="2602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5311800" y="25639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5692680" y="163188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5689440" y="1616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5560920" y="1631880"/>
              <a:ext cx="1303560" cy="1447920"/>
            </a:xfrm>
            <a:custGeom>
              <a:avLst/>
              <a:gdLst/>
              <a:ahLst/>
              <a:rect l="l" t="t" r="r" b="b"/>
              <a:pathLst>
                <a:path w="821" h="912">
                  <a:moveTo>
                    <a:pt x="821" y="91"/>
                  </a:moveTo>
                  <a:lnTo>
                    <a:pt x="821" y="910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5692680" y="20289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H="1">
              <a:off x="5635800" y="204480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5619600" y="202896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H="1">
              <a:off x="5557320" y="215100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5692680" y="21351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5541840" y="21384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5692680" y="530712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" y="20"/>
                  </a:lnTo>
                  <a:lnTo>
                    <a:pt x="2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H="1">
              <a:off x="5635800" y="5322960"/>
              <a:ext cx="72720" cy="14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5619600" y="53071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 flipH="1">
              <a:off x="5557320" y="5429160"/>
              <a:ext cx="150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5692680" y="5413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5541840" y="54165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5616720" y="642456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20"/>
                  </a:moveTo>
                  <a:lnTo>
                    <a:pt x="12" y="22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5692680" y="4791240"/>
              <a:ext cx="972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5689440" y="4775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5929200" y="6122880"/>
              <a:ext cx="3672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0"/>
                  </a:moveTo>
                  <a:lnTo>
                    <a:pt x="2" y="20"/>
                  </a:lnTo>
                  <a:lnTo>
                    <a:pt x="23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5932440" y="620064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2" y="22"/>
                  </a:lnTo>
                  <a:lnTo>
                    <a:pt x="23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5261040" y="5761080"/>
              <a:ext cx="684000" cy="458640"/>
            </a:xfrm>
            <a:custGeom>
              <a:avLst/>
              <a:gdLst/>
              <a:ahLst/>
              <a:rect l="l" t="t" r="r" b="b"/>
              <a:pathLst>
                <a:path w="431" h="289">
                  <a:moveTo>
                    <a:pt x="431" y="289"/>
                  </a:moveTo>
                  <a:lnTo>
                    <a:pt x="87" y="289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5257800" y="5867280"/>
              <a:ext cx="447840" cy="324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5261040" y="5662440"/>
              <a:ext cx="681120" cy="476280"/>
            </a:xfrm>
            <a:custGeom>
              <a:avLst/>
              <a:gdLst/>
              <a:ahLst/>
              <a:rect l="l" t="t" r="r" b="b"/>
              <a:pathLst>
                <a:path w="429" h="300">
                  <a:moveTo>
                    <a:pt x="0" y="0"/>
                  </a:moveTo>
                  <a:lnTo>
                    <a:pt x="121" y="0"/>
                  </a:lnTo>
                  <a:lnTo>
                    <a:pt x="121" y="300"/>
                  </a:lnTo>
                  <a:lnTo>
                    <a:pt x="429" y="3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5692680" y="5848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692680" y="595296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2" y="2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464160" y="58863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321160" y="585144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20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5689440" y="4910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2" y="22"/>
                  </a:lnTo>
                  <a:lnTo>
                    <a:pt x="2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5560920" y="4925880"/>
              <a:ext cx="1303560" cy="1436760"/>
            </a:xfrm>
            <a:custGeom>
              <a:avLst/>
              <a:gdLst/>
              <a:ahLst/>
              <a:rect l="l" t="t" r="r" b="b"/>
              <a:pathLst>
                <a:path w="821" h="905">
                  <a:moveTo>
                    <a:pt x="821" y="87"/>
                  </a:moveTo>
                  <a:lnTo>
                    <a:pt x="821" y="905"/>
                  </a:lnTo>
                  <a:lnTo>
                    <a:pt x="0" y="905"/>
                  </a:lnTo>
                  <a:lnTo>
                    <a:pt x="0" y="0"/>
                  </a:lnTo>
                  <a:lnTo>
                    <a:pt x="89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774960" y="463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673440" y="482760"/>
              <a:ext cx="114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774960" y="3745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0" y="22"/>
                  </a:lnTo>
                  <a:lnTo>
                    <a:pt x="22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673440" y="3763800"/>
              <a:ext cx="114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84720" y="3571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0" y="21"/>
                  </a:moveTo>
                  <a:lnTo>
                    <a:pt x="22" y="0"/>
                  </a:lnTo>
                  <a:lnTo>
                    <a:pt x="0" y="1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6814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70016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7480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76676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812480" y="281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857840" y="2811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87404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9309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969080" y="281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5023800" y="2811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507204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511020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5145120" y="281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307040" y="37800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5402160" y="8352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0"/>
                  </a:moveTo>
                  <a:lnTo>
                    <a:pt x="12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300560" y="366228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20"/>
                  </a:moveTo>
                  <a:lnTo>
                    <a:pt x="22" y="0"/>
                  </a:lnTo>
                  <a:lnTo>
                    <a:pt x="0" y="10"/>
                  </a:lnTo>
                  <a:lnTo>
                    <a:pt x="22" y="20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6814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70016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7480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76676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812480" y="35812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857840" y="3581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87404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9309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969080" y="3581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5023800" y="3581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507204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511020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5145120" y="3581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7c594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307040" y="3678120"/>
              <a:ext cx="1110960" cy="473040"/>
            </a:xfrm>
            <a:custGeom>
              <a:avLst/>
              <a:gdLst/>
              <a:ahLst/>
              <a:rect l="l" t="t" r="r" b="b"/>
              <a:pathLst>
                <a:path w="700" h="298">
                  <a:moveTo>
                    <a:pt x="700" y="298"/>
                  </a:moveTo>
                  <a:lnTo>
                    <a:pt x="70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7c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5402160" y="413532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22"/>
                  </a:moveTo>
                  <a:lnTo>
                    <a:pt x="12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7c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7162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773800" y="792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80836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84004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898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95920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9876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301608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307800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31352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3164040" y="79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19572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3252960" y="79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35481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3608640" y="3367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6432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36734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37339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37908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381960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38527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390996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397044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3998880" y="3367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02732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089240" y="3367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5261040" y="5972040"/>
              <a:ext cx="431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5632560" y="4794120"/>
              <a:ext cx="73080" cy="1636920"/>
            </a:xfrm>
            <a:custGeom>
              <a:avLst/>
              <a:gdLst/>
              <a:ahLst/>
              <a:rect l="l" t="t" r="r" b="b"/>
              <a:pathLst>
                <a:path w="46" h="1031">
                  <a:moveTo>
                    <a:pt x="46" y="0"/>
                  </a:move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851520" y="50515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6851520" y="551808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2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H="1">
              <a:off x="5852880" y="5902200"/>
              <a:ext cx="610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 are predicting “branch not taken” (stalling is too slo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ed to add hardware for flushing instructions if we are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ranch Haz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8" name=""/>
          <p:cNvGrpSpPr/>
          <p:nvPr/>
        </p:nvGrpSpPr>
        <p:grpSpPr>
          <a:xfrm>
            <a:off x="1094400" y="1832040"/>
            <a:ext cx="6948000" cy="3654360"/>
            <a:chOff x="1094400" y="1832040"/>
            <a:chExt cx="6948000" cy="3654360"/>
          </a:xfrm>
        </p:grpSpPr>
        <p:grpSp>
          <p:nvGrpSpPr>
            <p:cNvPr id="4659" name=""/>
            <p:cNvGrpSpPr/>
            <p:nvPr/>
          </p:nvGrpSpPr>
          <p:grpSpPr>
            <a:xfrm>
              <a:off x="1094400" y="1832040"/>
              <a:ext cx="6948000" cy="3522600"/>
              <a:chOff x="1094400" y="1832040"/>
              <a:chExt cx="6948000" cy="3522600"/>
            </a:xfrm>
          </p:grpSpPr>
          <p:sp>
            <p:nvSpPr>
              <p:cNvPr id="4660" name=""/>
              <p:cNvSpPr/>
              <p:nvPr/>
            </p:nvSpPr>
            <p:spPr>
              <a:xfrm>
                <a:off x="5419800" y="5216400"/>
                <a:ext cx="135000" cy="32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651640" y="5216400"/>
                <a:ext cx="1346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28480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153040" y="5084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591804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68"/>
                    </a:moveTo>
                    <a:lnTo>
                      <a:pt x="85" y="170"/>
                    </a:lnTo>
                    <a:lnTo>
                      <a:pt x="85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5786280" y="5084280"/>
                <a:ext cx="180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786280" y="5084640"/>
                <a:ext cx="136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786280" y="5351400"/>
                <a:ext cx="1368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8100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901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9760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653000" y="3887640"/>
                <a:ext cx="131760" cy="266760"/>
              </a:xfrm>
              <a:custGeom>
                <a:avLst/>
                <a:gdLst/>
                <a:ahLst/>
                <a:rect l="l" t="t" r="r" b="b"/>
                <a:pathLst>
                  <a:path w="83" h="168">
                    <a:moveTo>
                      <a:pt x="0" y="165"/>
                    </a:moveTo>
                    <a:lnTo>
                      <a:pt x="83" y="168"/>
                    </a:lnTo>
                    <a:lnTo>
                      <a:pt x="83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V="1">
                <a:off x="4518000" y="387972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510080" y="3884400"/>
                <a:ext cx="1429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510080" y="4149720"/>
                <a:ext cx="14292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54464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6378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7062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5651640" y="455148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651640" y="4683240"/>
                <a:ext cx="16956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386240" y="3351240"/>
                <a:ext cx="16668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05492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186680" y="508464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0" y="0"/>
                    </a:moveTo>
                    <a:lnTo>
                      <a:pt x="86" y="0"/>
                    </a:lnTo>
                    <a:lnTo>
                      <a:pt x="86" y="168"/>
                    </a:lnTo>
                    <a:lnTo>
                      <a:pt x="3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6053040" y="5149800"/>
                <a:ext cx="136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419800" y="4551480"/>
                <a:ext cx="1350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419800" y="4683240"/>
                <a:ext cx="13500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655308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642132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0"/>
                    </a:moveTo>
                    <a:lnTo>
                      <a:pt x="0" y="0"/>
                    </a:lnTo>
                    <a:lnTo>
                      <a:pt x="0" y="168"/>
                    </a:lnTo>
                    <a:lnTo>
                      <a:pt x="85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784760" y="408456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151160" y="3486240"/>
                <a:ext cx="401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151160" y="335124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501660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5153040" y="2687760"/>
                <a:ext cx="135000" cy="26640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542304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>
                <a:off x="5288040" y="2687760"/>
                <a:ext cx="1396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>
                <a:off x="5288040" y="2954160"/>
                <a:ext cx="139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384720" y="2687760"/>
                <a:ext cx="13464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3249720" y="2684520"/>
                <a:ext cx="1440" cy="2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3241800" y="268776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3241800" y="2954160"/>
                <a:ext cx="1429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2751120" y="2687760"/>
                <a:ext cx="13500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2619360" y="2687760"/>
                <a:ext cx="131760" cy="2664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3917880" y="2552760"/>
                <a:ext cx="201600" cy="531720"/>
              </a:xfrm>
              <a:custGeom>
                <a:avLst/>
                <a:gdLst/>
                <a:ahLst/>
                <a:rect l="l" t="t" r="r" b="b"/>
                <a:pathLst>
                  <a:path w="127" h="335">
                    <a:moveTo>
                      <a:pt x="0" y="0"/>
                    </a:moveTo>
                    <a:lnTo>
                      <a:pt x="0" y="136"/>
                    </a:lnTo>
                    <a:lnTo>
                      <a:pt x="42" y="168"/>
                    </a:lnTo>
                    <a:lnTo>
                      <a:pt x="0" y="202"/>
                    </a:lnTo>
                    <a:lnTo>
                      <a:pt x="0" y="335"/>
                    </a:lnTo>
                    <a:lnTo>
                      <a:pt x="127" y="233"/>
                    </a:lnTo>
                    <a:lnTo>
                      <a:pt x="127" y="10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2881440" y="2819520"/>
                <a:ext cx="371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6480" y="2752560"/>
                <a:ext cx="40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119480" y="2819520"/>
                <a:ext cx="3985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516480" y="2884320"/>
                <a:ext cx="4014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182760" y="2752560"/>
                <a:ext cx="6696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452840" y="281952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3384720" y="3286080"/>
                <a:ext cx="13464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3252960" y="328608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552920" y="3154320"/>
                <a:ext cx="201600" cy="528480"/>
              </a:xfrm>
              <a:custGeom>
                <a:avLst/>
                <a:gdLst/>
                <a:ahLst/>
                <a:rect l="l" t="t" r="r" b="b"/>
                <a:pathLst>
                  <a:path w="127" h="333">
                    <a:moveTo>
                      <a:pt x="0" y="0"/>
                    </a:moveTo>
                    <a:lnTo>
                      <a:pt x="0" y="134"/>
                    </a:lnTo>
                    <a:lnTo>
                      <a:pt x="39" y="168"/>
                    </a:lnTo>
                    <a:lnTo>
                      <a:pt x="0" y="200"/>
                    </a:lnTo>
                    <a:lnTo>
                      <a:pt x="0" y="333"/>
                    </a:lnTo>
                    <a:lnTo>
                      <a:pt x="127" y="231"/>
                    </a:lnTo>
                    <a:lnTo>
                      <a:pt x="127" y="10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153040" y="328608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3516480" y="3417840"/>
                <a:ext cx="3711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754520" y="3417840"/>
                <a:ext cx="3985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419800" y="3417840"/>
                <a:ext cx="36648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3817800" y="335592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9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086440" y="3417840"/>
                <a:ext cx="468360" cy="203040"/>
              </a:xfrm>
              <a:custGeom>
                <a:avLst/>
                <a:gdLst/>
                <a:ahLst/>
                <a:rect l="l" t="t" r="r" b="b"/>
                <a:pathLst>
                  <a:path w="295" h="128">
                    <a:moveTo>
                      <a:pt x="0" y="0"/>
                    </a:moveTo>
                    <a:lnTo>
                      <a:pt x="0" y="128"/>
                    </a:lnTo>
                    <a:lnTo>
                      <a:pt x="254" y="128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26110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27032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27968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28314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2085840" y="18320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216180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2193840" y="183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229788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237132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240660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24490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2478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254916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258408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264924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26805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275076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2815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877840" y="1832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29160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29779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4452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09680" y="1832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35960" y="183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1200" y="1832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3273480" y="1832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880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3564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4317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4659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5357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608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67940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684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86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8601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89504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29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00268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0728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211248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21456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187280" y="2687760"/>
                <a:ext cx="1800" cy="262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160640" y="5297400"/>
                <a:ext cx="5364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2" y="0"/>
                    </a:moveTo>
                    <a:lnTo>
                      <a:pt x="0" y="2"/>
                    </a:lnTo>
                    <a:lnTo>
                      <a:pt x="17" y="34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094760" y="1862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17936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22148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29456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365120" y="186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407240" y="186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481040" y="1862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590840" y="18622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09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16820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229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302840" y="2016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36440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439640" y="2016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474560" y="2016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50408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573920" y="2016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647720" y="20160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09440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1685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21032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1280160" y="216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1353960" y="2166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1397160" y="21668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10954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1137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1164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12380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127296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130248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13726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143964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147492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15152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159048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1652400" y="2320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1690200" y="2320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171684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1789920" y="2320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1860120" y="232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1927080" y="2320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3430440" y="1915920"/>
                <a:ext cx="45691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88400" y="188892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0" y="34"/>
                    </a:lnTo>
                    <a:lnTo>
                      <a:pt x="34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301788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  <a:lnTo>
                      <a:pt x="64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3651120" y="2552760"/>
                <a:ext cx="101880" cy="536400"/>
              </a:xfrm>
              <a:custGeom>
                <a:avLst/>
                <a:gdLst/>
                <a:ahLst/>
                <a:rect l="l" t="t" r="r" b="b"/>
                <a:pathLst>
                  <a:path w="64" h="338">
                    <a:moveTo>
                      <a:pt x="64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4" y="338"/>
                    </a:lnTo>
                    <a:lnTo>
                      <a:pt x="64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3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28616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92120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4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3651120" y="3154320"/>
                <a:ext cx="10188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4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3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28616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92120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0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0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54800" y="315432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01940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5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3887640" y="3884400"/>
                <a:ext cx="131760" cy="270000"/>
              </a:xfrm>
              <a:custGeom>
                <a:avLst/>
                <a:gdLst/>
                <a:ahLst/>
                <a:rect l="l" t="t" r="r" b="b"/>
                <a:pathLst>
                  <a:path w="83" h="170">
                    <a:moveTo>
                      <a:pt x="83" y="0"/>
                    </a:moveTo>
                    <a:lnTo>
                      <a:pt x="0" y="2"/>
                    </a:lnTo>
                    <a:lnTo>
                      <a:pt x="0" y="170"/>
                    </a:lnTo>
                    <a:lnTo>
                      <a:pt x="83" y="1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183280" y="3752640"/>
                <a:ext cx="204840" cy="528840"/>
              </a:xfrm>
              <a:custGeom>
                <a:avLst/>
                <a:gdLst/>
                <a:ahLst/>
                <a:rect l="l" t="t" r="r" b="b"/>
                <a:pathLst>
                  <a:path w="129" h="333">
                    <a:moveTo>
                      <a:pt x="0" y="0"/>
                    </a:moveTo>
                    <a:lnTo>
                      <a:pt x="3" y="136"/>
                    </a:lnTo>
                    <a:lnTo>
                      <a:pt x="42" y="168"/>
                    </a:lnTo>
                    <a:lnTo>
                      <a:pt x="3" y="199"/>
                    </a:lnTo>
                    <a:lnTo>
                      <a:pt x="3" y="333"/>
                    </a:lnTo>
                    <a:lnTo>
                      <a:pt x="129" y="233"/>
                    </a:lnTo>
                    <a:lnTo>
                      <a:pt x="129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786280" y="388764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5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151160" y="4019400"/>
                <a:ext cx="366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5388120" y="4019400"/>
                <a:ext cx="39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053040" y="4019400"/>
                <a:ext cx="3682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452840" y="395280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5721480" y="4019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3" y="126"/>
                    </a:lnTo>
                    <a:lnTo>
                      <a:pt x="253" y="41"/>
                    </a:lnTo>
                    <a:lnTo>
                      <a:pt x="295" y="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4286160" y="375264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55480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6189840" y="375264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4653000" y="4486320"/>
                <a:ext cx="13176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4518000" y="448632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818320" y="4351320"/>
                <a:ext cx="204480" cy="531720"/>
              </a:xfrm>
              <a:custGeom>
                <a:avLst/>
                <a:gdLst/>
                <a:ahLst/>
                <a:rect l="l" t="t" r="r" b="b"/>
                <a:pathLst>
                  <a:path w="129" h="335">
                    <a:moveTo>
                      <a:pt x="0" y="0"/>
                    </a:moveTo>
                    <a:lnTo>
                      <a:pt x="2" y="136"/>
                    </a:lnTo>
                    <a:lnTo>
                      <a:pt x="41" y="168"/>
                    </a:lnTo>
                    <a:lnTo>
                      <a:pt x="2" y="199"/>
                    </a:lnTo>
                    <a:lnTo>
                      <a:pt x="2" y="335"/>
                    </a:lnTo>
                    <a:lnTo>
                      <a:pt x="129" y="233"/>
                    </a:lnTo>
                    <a:lnTo>
                      <a:pt x="129" y="104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4784760" y="4618080"/>
                <a:ext cx="3682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6018120" y="461808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6688080" y="4618080"/>
                <a:ext cx="366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086440" y="4551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6354720" y="4618080"/>
                <a:ext cx="468360" cy="19980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4" y="126"/>
                    </a:lnTo>
                    <a:lnTo>
                      <a:pt x="254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0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4921200" y="4351320"/>
                <a:ext cx="10008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0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55480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0" name=""/>
            <p:cNvGrpSpPr/>
            <p:nvPr/>
          </p:nvGrpSpPr>
          <p:grpSpPr>
            <a:xfrm>
              <a:off x="1288080" y="2070000"/>
              <a:ext cx="6704640" cy="3416400"/>
              <a:chOff x="1288080" y="2070000"/>
              <a:chExt cx="6704640" cy="3416400"/>
            </a:xfrm>
          </p:grpSpPr>
          <p:sp>
            <p:nvSpPr>
              <p:cNvPr id="4861" name=""/>
              <p:cNvSpPr/>
              <p:nvPr/>
            </p:nvSpPr>
            <p:spPr>
              <a:xfrm>
                <a:off x="6189840" y="4351320"/>
                <a:ext cx="99720" cy="531720"/>
              </a:xfrm>
              <a:custGeom>
                <a:avLst/>
                <a:gdLst/>
                <a:ahLst/>
                <a:rect l="l" t="t" r="r" b="b"/>
                <a:pathLst>
                  <a:path w="63" h="335">
                    <a:moveTo>
                      <a:pt x="61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3" y="335"/>
                    </a:lnTo>
                    <a:lnTo>
                      <a:pt x="63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1" y="33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823080" y="4351320"/>
                <a:ext cx="101520" cy="531720"/>
              </a:xfrm>
              <a:custGeom>
                <a:avLst/>
                <a:gdLst/>
                <a:ahLst/>
                <a:rect l="l" t="t" r="r" b="b"/>
                <a:pathLst>
                  <a:path w="64" h="335">
                    <a:moveTo>
                      <a:pt x="61" y="335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5"/>
                    </a:lnTo>
                    <a:lnTo>
                      <a:pt x="64" y="335"/>
                    </a:lnTo>
                    <a:lnTo>
                      <a:pt x="64" y="3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451560" y="4952880"/>
                <a:ext cx="206280" cy="528840"/>
              </a:xfrm>
              <a:custGeom>
                <a:avLst/>
                <a:gdLst/>
                <a:ahLst/>
                <a:rect l="l" t="t" r="r" b="b"/>
                <a:pathLst>
                  <a:path w="130" h="333">
                    <a:moveTo>
                      <a:pt x="0" y="0"/>
                    </a:moveTo>
                    <a:lnTo>
                      <a:pt x="3" y="134"/>
                    </a:lnTo>
                    <a:lnTo>
                      <a:pt x="42" y="168"/>
                    </a:lnTo>
                    <a:lnTo>
                      <a:pt x="3" y="200"/>
                    </a:lnTo>
                    <a:lnTo>
                      <a:pt x="3" y="333"/>
                    </a:lnTo>
                    <a:lnTo>
                      <a:pt x="130" y="231"/>
                    </a:lnTo>
                    <a:lnTo>
                      <a:pt x="130" y="10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653160" y="5216400"/>
                <a:ext cx="40176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323120" y="5216400"/>
                <a:ext cx="366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053040" y="5284800"/>
                <a:ext cx="403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5721480" y="5149800"/>
                <a:ext cx="6480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42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989760" y="5216400"/>
                <a:ext cx="468360" cy="20016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0" y="0"/>
                    </a:moveTo>
                    <a:lnTo>
                      <a:pt x="0" y="126"/>
                    </a:lnTo>
                    <a:lnTo>
                      <a:pt x="251" y="126"/>
                    </a:lnTo>
                    <a:lnTo>
                      <a:pt x="251" y="43"/>
                    </a:lnTo>
                    <a:lnTo>
                      <a:pt x="295" y="4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55480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6189840" y="4952880"/>
                <a:ext cx="9972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6823080" y="4952880"/>
                <a:ext cx="101520" cy="533520"/>
              </a:xfrm>
              <a:custGeom>
                <a:avLst/>
                <a:gdLst/>
                <a:ahLst/>
                <a:rect l="l" t="t" r="r" b="b"/>
                <a:pathLst>
                  <a:path w="64" h="336">
                    <a:moveTo>
                      <a:pt x="61" y="333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4" y="336"/>
                    </a:lnTo>
                    <a:lnTo>
                      <a:pt x="64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  <a:lnTo>
                      <a:pt x="61" y="3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458120" y="495288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1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4518000" y="2687760"/>
                <a:ext cx="266760" cy="266400"/>
              </a:xfrm>
              <a:custGeom>
                <a:avLst/>
                <a:gdLst/>
                <a:ahLst/>
                <a:rect l="l" t="t" r="r" b="b"/>
                <a:pathLst>
                  <a:path w="168" h="168">
                    <a:moveTo>
                      <a:pt x="168" y="168"/>
                    </a:moveTo>
                    <a:lnTo>
                      <a:pt x="168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68" y="168"/>
                    </a:lnTo>
                    <a:lnTo>
                      <a:pt x="168" y="1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4784760" y="2819520"/>
                <a:ext cx="136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6286680" y="5149800"/>
                <a:ext cx="169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2680920" y="273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271620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27636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36780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423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3145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349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9084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284800" y="3336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9492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98448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82588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918040" y="3935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458424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4618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645912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6553080" y="4533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09416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186680" y="5135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455580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4649760" y="2735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9680" y="2735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27112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340960" y="2735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4019400" y="3286080"/>
                <a:ext cx="135000" cy="2667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flipV="1">
                <a:off x="3884760" y="3281400"/>
                <a:ext cx="288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76840" y="328608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76840" y="3552840"/>
                <a:ext cx="142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91140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02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7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4948200" y="279540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2"/>
                    </a:moveTo>
                    <a:lnTo>
                      <a:pt x="17" y="32"/>
                    </a:lnTo>
                    <a:lnTo>
                      <a:pt x="19" y="32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5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989600" y="516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786280" y="3286080"/>
                <a:ext cx="13680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058080" y="3281400"/>
                <a:ext cx="14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H="1">
                <a:off x="5922720" y="328608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H="1">
                <a:off x="5922720" y="3552840"/>
                <a:ext cx="1378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812920" y="3336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9061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97600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421320" y="388764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83" y="165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688080" y="3879720"/>
                <a:ext cx="180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6555960" y="3884400"/>
                <a:ext cx="1350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H="1">
                <a:off x="6555960" y="4149720"/>
                <a:ext cx="135000" cy="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6447960" y="3935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6539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6609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054920" y="4486320"/>
                <a:ext cx="136440" cy="266760"/>
              </a:xfrm>
              <a:custGeom>
                <a:avLst/>
                <a:gdLst/>
                <a:ahLst/>
                <a:rect l="l" t="t" r="r" b="b"/>
                <a:pathLst>
                  <a:path w="86" h="168">
                    <a:moveTo>
                      <a:pt x="83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8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7315200" y="448596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H="1">
                <a:off x="7191360" y="4483080"/>
                <a:ext cx="1238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7191360" y="4753080"/>
                <a:ext cx="123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07040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1636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2367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  <a:lnTo>
                      <a:pt x="83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689960" y="5084640"/>
                <a:ext cx="135000" cy="2700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3" y="168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7961400" y="5084280"/>
                <a:ext cx="3240" cy="266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H="1">
                <a:off x="7824600" y="5084640"/>
                <a:ext cx="136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H="1">
                <a:off x="7824600" y="5351400"/>
                <a:ext cx="13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71660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8098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8778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214600" y="5151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253120" y="5151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12880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13564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14317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14659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1535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1608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167940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17168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1786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18597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1929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196812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200268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207252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214596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2180880" y="3336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221544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2289960" y="333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2880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3564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4317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46592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53684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57752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616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686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7596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829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86804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90260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972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204588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20808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21153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2188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2880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3564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317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659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535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608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67940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7168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786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1859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929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96812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200268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20725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21459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218088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221544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22899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1288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3564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43172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466640" y="5135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493640" y="513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5854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6246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6930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176796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03240" y="513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83744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1052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8108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202320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96280" y="513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166840" y="513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3244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3338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3430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3464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3879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973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065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099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5144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6065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7001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73472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1480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24160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33376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36796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830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87484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96880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60030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64162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650988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660204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63660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0513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1449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23708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27164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68636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778520" y="2070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872120" y="2070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06680" y="207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1782720" y="2908440"/>
                <a:ext cx="723960" cy="2171520"/>
              </a:xfrm>
              <a:custGeom>
                <a:avLst/>
                <a:gdLst/>
                <a:ahLst/>
                <a:rect l="l" t="t" r="r" b="b"/>
                <a:pathLst>
                  <a:path w="456" h="1368">
                    <a:moveTo>
                      <a:pt x="0" y="1368"/>
                    </a:moveTo>
                    <a:lnTo>
                      <a:pt x="0" y="1261"/>
                    </a:lnTo>
                    <a:lnTo>
                      <a:pt x="456" y="1261"/>
                    </a:lnTo>
                    <a:lnTo>
                      <a:pt x="456" y="133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1755720" y="506880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32" y="0"/>
                    </a:moveTo>
                    <a:lnTo>
                      <a:pt x="0" y="3"/>
                    </a:lnTo>
                    <a:lnTo>
                      <a:pt x="17" y="37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4916520" y="2552760"/>
                <a:ext cx="100080" cy="536400"/>
              </a:xfrm>
              <a:custGeom>
                <a:avLst/>
                <a:gdLst/>
                <a:ahLst/>
                <a:rect l="l" t="t" r="r" b="b"/>
                <a:pathLst>
                  <a:path w="63" h="338">
                    <a:moveTo>
                      <a:pt x="63" y="33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8"/>
                    </a:lnTo>
                    <a:lnTo>
                      <a:pt x="63" y="338"/>
                    </a:lnTo>
                    <a:lnTo>
                      <a:pt x="63" y="33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4916520" y="3154320"/>
                <a:ext cx="100080" cy="533520"/>
              </a:xfrm>
              <a:custGeom>
                <a:avLst/>
                <a:gdLst/>
                <a:ahLst/>
                <a:rect l="l" t="t" r="r" b="b"/>
                <a:pathLst>
                  <a:path w="63" h="336">
                    <a:moveTo>
                      <a:pt x="63" y="333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63" y="336"/>
                    </a:lnTo>
                    <a:lnTo>
                      <a:pt x="63" y="33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284800" y="4486320"/>
                <a:ext cx="135000" cy="266760"/>
              </a:xfrm>
              <a:custGeom>
                <a:avLst/>
                <a:gdLst/>
                <a:ahLst/>
                <a:rect l="l" t="t" r="r" b="b"/>
                <a:pathLst>
                  <a:path w="85" h="168">
                    <a:moveTo>
                      <a:pt x="0" y="168"/>
                    </a:moveTo>
                    <a:lnTo>
                      <a:pt x="85" y="168"/>
                    </a:lnTo>
                    <a:lnTo>
                      <a:pt x="85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flipV="1">
                <a:off x="5153040" y="4478040"/>
                <a:ext cx="1440" cy="277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145120" y="4486320"/>
                <a:ext cx="1429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5145120" y="4753080"/>
              <a:ext cx="142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179680" y="453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27112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340960" y="4533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016600" y="4084560"/>
              <a:ext cx="17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784760" y="3949560"/>
              <a:ext cx="403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  <a:lnTo>
                    <a:pt x="60" y="33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4921200" y="3752640"/>
              <a:ext cx="100080" cy="533520"/>
            </a:xfrm>
            <a:custGeom>
              <a:avLst/>
              <a:gdLst/>
              <a:ahLst/>
              <a:rect l="l" t="t" r="r" b="b"/>
              <a:pathLst>
                <a:path w="63" h="336">
                  <a:moveTo>
                    <a:pt x="60" y="336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3" y="336"/>
                  </a:lnTo>
                  <a:lnTo>
                    <a:pt x="63" y="33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4962600" y="2819520"/>
              <a:ext cx="61920" cy="2373120"/>
            </a:xfrm>
            <a:custGeom>
              <a:avLst/>
              <a:gdLst/>
              <a:ahLst/>
              <a:rect l="l" t="t" r="r" b="b"/>
              <a:pathLst>
                <a:path w="39" h="1495">
                  <a:moveTo>
                    <a:pt x="0" y="0"/>
                  </a:moveTo>
                  <a:lnTo>
                    <a:pt x="30" y="1495"/>
                  </a:lnTo>
                  <a:lnTo>
                    <a:pt x="39" y="149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minuindo a penalidade do “branch take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esquema ante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isão só é tomada no estágio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so “branch taken” é necessário limpar (flush) os estágios IF, ID e 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 clocks perdi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diminuir a penal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tecipar a decisão do estágio MEM para o estágio 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conomia de dois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ush somente instrução sendo lida da memória (fet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danças no hardw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álculo do endereço do desvio (PC + offset&lt;&lt;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ação dos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2 XORs com or na saí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is rápido do que a A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lushing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6" name=""/>
          <p:cNvGrpSpPr/>
          <p:nvPr/>
        </p:nvGrpSpPr>
        <p:grpSpPr>
          <a:xfrm>
            <a:off x="200160" y="965160"/>
            <a:ext cx="8714520" cy="5511600"/>
            <a:chOff x="200160" y="965160"/>
            <a:chExt cx="8714520" cy="5511600"/>
          </a:xfrm>
        </p:grpSpPr>
        <p:grpSp>
          <p:nvGrpSpPr>
            <p:cNvPr id="5077" name=""/>
            <p:cNvGrpSpPr/>
            <p:nvPr/>
          </p:nvGrpSpPr>
          <p:grpSpPr>
            <a:xfrm>
              <a:off x="200160" y="1112040"/>
              <a:ext cx="8714520" cy="5253120"/>
              <a:chOff x="200160" y="1112040"/>
              <a:chExt cx="8714520" cy="5253120"/>
            </a:xfrm>
          </p:grpSpPr>
          <p:sp>
            <p:nvSpPr>
              <p:cNvPr id="5078" name=""/>
              <p:cNvSpPr/>
              <p:nvPr/>
            </p:nvSpPr>
            <p:spPr>
              <a:xfrm>
                <a:off x="4080600" y="2295000"/>
                <a:ext cx="19980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5307840" y="45813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5307840" y="3788640"/>
                <a:ext cx="5040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4" y="23"/>
                    </a:lnTo>
                    <a:lnTo>
                      <a:pt x="13" y="0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45000" y="603504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3" y="25"/>
                    </a:lnTo>
                    <a:lnTo>
                      <a:pt x="0" y="1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647520" y="1225080"/>
                <a:ext cx="4702680" cy="4837680"/>
              </a:xfrm>
              <a:custGeom>
                <a:avLst/>
                <a:gdLst/>
                <a:ahLst/>
                <a:rect l="l" t="t" r="r" b="b"/>
                <a:pathLst>
                  <a:path w="2207" h="2270">
                    <a:moveTo>
                      <a:pt x="0" y="891"/>
                    </a:moveTo>
                    <a:lnTo>
                      <a:pt x="0" y="0"/>
                    </a:lnTo>
                    <a:lnTo>
                      <a:pt x="2207" y="0"/>
                    </a:lnTo>
                    <a:lnTo>
                      <a:pt x="2207" y="2270"/>
                    </a:lnTo>
                    <a:lnTo>
                      <a:pt x="1283" y="227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8122320" y="2638080"/>
                <a:ext cx="2278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00800" y="2295000"/>
                <a:ext cx="444960" cy="3616200"/>
              </a:xfrm>
              <a:custGeom>
                <a:avLst/>
                <a:gdLst/>
                <a:ahLst/>
                <a:rect l="l" t="t" r="r" b="b"/>
                <a:pathLst>
                  <a:path w="209" h="1697">
                    <a:moveTo>
                      <a:pt x="207" y="0"/>
                    </a:moveTo>
                    <a:lnTo>
                      <a:pt x="209" y="1697"/>
                    </a:lnTo>
                    <a:lnTo>
                      <a:pt x="0" y="169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5330880" y="4617720"/>
                <a:ext cx="270360" cy="1216800"/>
              </a:xfrm>
              <a:custGeom>
                <a:avLst/>
                <a:gdLst/>
                <a:ahLst/>
                <a:rect l="l" t="t" r="r" b="b"/>
                <a:pathLst>
                  <a:path w="127" h="571">
                    <a:moveTo>
                      <a:pt x="0" y="0"/>
                    </a:moveTo>
                    <a:lnTo>
                      <a:pt x="2" y="50"/>
                    </a:lnTo>
                    <a:lnTo>
                      <a:pt x="71" y="50"/>
                    </a:lnTo>
                    <a:lnTo>
                      <a:pt x="71" y="571"/>
                    </a:lnTo>
                    <a:lnTo>
                      <a:pt x="127" y="57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5330880" y="3825000"/>
                <a:ext cx="289800" cy="1935000"/>
              </a:xfrm>
              <a:custGeom>
                <a:avLst/>
                <a:gdLst/>
                <a:ahLst/>
                <a:rect l="l" t="t" r="r" b="b"/>
                <a:pathLst>
                  <a:path w="136" h="908">
                    <a:moveTo>
                      <a:pt x="0" y="0"/>
                    </a:moveTo>
                    <a:lnTo>
                      <a:pt x="2" y="50"/>
                    </a:lnTo>
                    <a:lnTo>
                      <a:pt x="100" y="50"/>
                    </a:lnTo>
                    <a:lnTo>
                      <a:pt x="100" y="908"/>
                    </a:lnTo>
                    <a:lnTo>
                      <a:pt x="136" y="908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1785240" y="274860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1804680" y="1412640"/>
                <a:ext cx="511200" cy="13485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2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556200" y="1335600"/>
                <a:ext cx="1759680" cy="2282400"/>
              </a:xfrm>
              <a:custGeom>
                <a:avLst/>
                <a:gdLst/>
                <a:ahLst/>
                <a:rect l="l" t="t" r="r" b="b"/>
                <a:pathLst>
                  <a:path w="826" h="1071">
                    <a:moveTo>
                      <a:pt x="0" y="1071"/>
                    </a:moveTo>
                    <a:lnTo>
                      <a:pt x="0" y="0"/>
                    </a:lnTo>
                    <a:lnTo>
                      <a:pt x="826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530640" y="3609360"/>
                <a:ext cx="4860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200160" y="1112040"/>
                <a:ext cx="3006720" cy="4558680"/>
              </a:xfrm>
              <a:custGeom>
                <a:avLst/>
                <a:gdLst/>
                <a:ahLst/>
                <a:rect l="l" t="t" r="r" b="b"/>
                <a:pathLst>
                  <a:path w="1411" h="2139">
                    <a:moveTo>
                      <a:pt x="686" y="2137"/>
                    </a:moveTo>
                    <a:lnTo>
                      <a:pt x="0" y="2139"/>
                    </a:lnTo>
                    <a:lnTo>
                      <a:pt x="0" y="0"/>
                    </a:lnTo>
                    <a:lnTo>
                      <a:pt x="1411" y="0"/>
                    </a:lnTo>
                    <a:lnTo>
                      <a:pt x="1411" y="417"/>
                    </a:lnTo>
                    <a:lnTo>
                      <a:pt x="1246" y="4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1650960" y="564264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624480" y="3111120"/>
                <a:ext cx="4860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072600" y="1446840"/>
                <a:ext cx="901080" cy="517320"/>
              </a:xfrm>
              <a:custGeom>
                <a:avLst/>
                <a:gdLst/>
                <a:ahLst/>
                <a:rect l="l" t="t" r="r" b="b"/>
                <a:pathLst>
                  <a:path w="423" h="243">
                    <a:moveTo>
                      <a:pt x="423" y="243"/>
                    </a:moveTo>
                    <a:lnTo>
                      <a:pt x="42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835080" y="239688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950640" y="1951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3777120" y="2422440"/>
                <a:ext cx="70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4321080" y="2467440"/>
                <a:ext cx="19980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3087360" y="388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  <a:lnTo>
                      <a:pt x="88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462240" y="3667320"/>
                <a:ext cx="187200" cy="530640"/>
              </a:xfrm>
              <a:custGeom>
                <a:avLst/>
                <a:gdLst/>
                <a:ahLst/>
                <a:rect l="l" t="t" r="r" b="b"/>
                <a:pathLst>
                  <a:path w="88" h="249">
                    <a:moveTo>
                      <a:pt x="88" y="247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49"/>
                    </a:lnTo>
                    <a:lnTo>
                      <a:pt x="88" y="249"/>
                    </a:lnTo>
                    <a:lnTo>
                      <a:pt x="88" y="2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490320" y="3871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555840" y="3871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914040" y="333900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9885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101556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107316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112176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1152360" y="381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118440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1242000" y="381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1290240" y="381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1319400" y="381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134388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1397520" y="381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1452960" y="38145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105696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11394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1197720" y="392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1278000" y="39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1335600" y="39276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1367640" y="39276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lnTo>
                      <a:pt x="301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108200" y="3302640"/>
                <a:ext cx="641160" cy="11847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4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087360" y="4189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62840" y="2665800"/>
                <a:ext cx="319320" cy="1265400"/>
              </a:xfrm>
              <a:custGeom>
                <a:avLst/>
                <a:gdLst/>
                <a:ahLst/>
                <a:rect l="l" t="t" r="r" b="b"/>
                <a:pathLst>
                  <a:path w="150" h="594">
                    <a:moveTo>
                      <a:pt x="150" y="0"/>
                    </a:moveTo>
                    <a:lnTo>
                      <a:pt x="0" y="0"/>
                    </a:lnTo>
                    <a:lnTo>
                      <a:pt x="0" y="59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 flipH="1">
                <a:off x="971280" y="31194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1122840" y="2512080"/>
                <a:ext cx="244800" cy="76284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5"/>
                    </a:lnTo>
                    <a:lnTo>
                      <a:pt x="37" y="180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9"/>
                    </a:lnTo>
                    <a:lnTo>
                      <a:pt x="115" y="11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179680" y="407448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710320" y="42620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 flipH="1">
                <a:off x="5429160" y="4287600"/>
                <a:ext cx="298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855036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8550360" y="42426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39080" y="3908160"/>
                <a:ext cx="4896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1065240" y="264204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1065240" y="30963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873360" y="3061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49800" y="3931200"/>
                <a:ext cx="2235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858600" y="39081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05000" y="390816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612280" y="3801240"/>
                <a:ext cx="187200" cy="56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42"/>
                    </a:moveTo>
                    <a:lnTo>
                      <a:pt x="0" y="36"/>
                    </a:lnTo>
                    <a:lnTo>
                      <a:pt x="2" y="29"/>
                    </a:lnTo>
                    <a:lnTo>
                      <a:pt x="5" y="23"/>
                    </a:lnTo>
                    <a:lnTo>
                      <a:pt x="7" y="17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4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0"/>
                    </a:lnTo>
                    <a:lnTo>
                      <a:pt x="88" y="228"/>
                    </a:lnTo>
                    <a:lnTo>
                      <a:pt x="86" y="234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4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7" y="262"/>
                    </a:lnTo>
                    <a:lnTo>
                      <a:pt x="51" y="264"/>
                    </a:lnTo>
                    <a:lnTo>
                      <a:pt x="44" y="264"/>
                    </a:lnTo>
                    <a:lnTo>
                      <a:pt x="36" y="264"/>
                    </a:lnTo>
                    <a:lnTo>
                      <a:pt x="30" y="262"/>
                    </a:lnTo>
                    <a:lnTo>
                      <a:pt x="23" y="259"/>
                    </a:lnTo>
                    <a:lnTo>
                      <a:pt x="17" y="255"/>
                    </a:lnTo>
                    <a:lnTo>
                      <a:pt x="13" y="251"/>
                    </a:lnTo>
                    <a:lnTo>
                      <a:pt x="7" y="245"/>
                    </a:lnTo>
                    <a:lnTo>
                      <a:pt x="5" y="239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237280" y="4010040"/>
                <a:ext cx="191520" cy="56268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3"/>
                    </a:lnTo>
                    <a:lnTo>
                      <a:pt x="84" y="239"/>
                    </a:lnTo>
                    <a:lnTo>
                      <a:pt x="80" y="245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5" y="258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58"/>
                    </a:lnTo>
                    <a:lnTo>
                      <a:pt x="19" y="254"/>
                    </a:lnTo>
                    <a:lnTo>
                      <a:pt x="15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4" y="233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2441520" y="22712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  <a:lnTo>
                      <a:pt x="353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148920" y="3172680"/>
                <a:ext cx="756360" cy="1163520"/>
              </a:xfrm>
              <a:custGeom>
                <a:avLst/>
                <a:gdLst/>
                <a:ahLst/>
                <a:rect l="l" t="t" r="r" b="b"/>
                <a:pathLst>
                  <a:path w="355" h="546">
                    <a:moveTo>
                      <a:pt x="353" y="546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6"/>
                    </a:lnTo>
                    <a:lnTo>
                      <a:pt x="355" y="546"/>
                    </a:lnTo>
                    <a:lnTo>
                      <a:pt x="355" y="5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308760" y="3703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3807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43836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497040" y="37033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51720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566880" y="3703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593880" y="370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51480" y="3703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83520" y="3703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2582640" y="4082760"/>
                <a:ext cx="6332040" cy="2282400"/>
              </a:xfrm>
              <a:custGeom>
                <a:avLst/>
                <a:gdLst/>
                <a:ahLst/>
                <a:rect l="l" t="t" r="r" b="b"/>
                <a:pathLst>
                  <a:path w="2972" h="1071">
                    <a:moveTo>
                      <a:pt x="247" y="61"/>
                    </a:moveTo>
                    <a:lnTo>
                      <a:pt x="0" y="63"/>
                    </a:lnTo>
                    <a:lnTo>
                      <a:pt x="0" y="1071"/>
                    </a:lnTo>
                    <a:lnTo>
                      <a:pt x="2972" y="1071"/>
                    </a:lnTo>
                    <a:lnTo>
                      <a:pt x="2972" y="0"/>
                    </a:lnTo>
                    <a:lnTo>
                      <a:pt x="292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290560" y="4127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371560" y="4127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306400" y="4230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5362920" y="423000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5306040" y="432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5237280" y="5308200"/>
                <a:ext cx="191520" cy="562320"/>
              </a:xfrm>
              <a:custGeom>
                <a:avLst/>
                <a:gdLst/>
                <a:ahLst/>
                <a:rect l="l" t="t" r="r" b="b"/>
                <a:pathLst>
                  <a:path w="90" h="26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5" y="13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3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7"/>
                    </a:lnTo>
                    <a:lnTo>
                      <a:pt x="77" y="13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90" y="228"/>
                    </a:lnTo>
                    <a:lnTo>
                      <a:pt x="88" y="235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2"/>
                    </a:lnTo>
                    <a:lnTo>
                      <a:pt x="54" y="264"/>
                    </a:lnTo>
                    <a:lnTo>
                      <a:pt x="46" y="264"/>
                    </a:lnTo>
                    <a:lnTo>
                      <a:pt x="38" y="264"/>
                    </a:lnTo>
                    <a:lnTo>
                      <a:pt x="33" y="262"/>
                    </a:lnTo>
                    <a:lnTo>
                      <a:pt x="25" y="260"/>
                    </a:lnTo>
                    <a:lnTo>
                      <a:pt x="19" y="256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5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5290560" y="5432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5371560" y="54320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306400" y="5529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362920" y="552996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5306040" y="56300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8661600" y="3920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8742240" y="39207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8675640" y="4021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8733600" y="402120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8675640" y="411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4261320" y="4074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H="1">
                <a:off x="4521240" y="4100040"/>
                <a:ext cx="6840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H="1">
                <a:off x="3905280" y="4100040"/>
                <a:ext cx="3661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93324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1" y="23"/>
                    </a:moveTo>
                    <a:lnTo>
                      <a:pt x="13" y="24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5890680" y="3833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959080" y="3833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17040" y="3833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179680" y="426204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H="1">
                <a:off x="5090040" y="4287600"/>
                <a:ext cx="1148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5064840" y="42620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4321080" y="2808360"/>
                <a:ext cx="19980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1650960" y="39081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0" y="23"/>
                    </a:lnTo>
                    <a:lnTo>
                      <a:pt x="2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1555200" y="3931200"/>
                <a:ext cx="1105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4261320" y="3283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H="1">
                <a:off x="3905280" y="3306960"/>
                <a:ext cx="3661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4261320" y="524196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2250000" y="3486240"/>
                <a:ext cx="2025720" cy="1783800"/>
              </a:xfrm>
              <a:custGeom>
                <a:avLst/>
                <a:gdLst/>
                <a:ahLst/>
                <a:rect l="l" t="t" r="r" b="b"/>
                <a:pathLst>
                  <a:path w="951" h="837">
                    <a:moveTo>
                      <a:pt x="951" y="836"/>
                    </a:moveTo>
                    <a:lnTo>
                      <a:pt x="0" y="837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2147760" y="2295000"/>
                <a:ext cx="315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43635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44319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4321080" y="212868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4378680" y="2237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4321080" y="1789920"/>
                <a:ext cx="19980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4347360" y="1898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4439880" y="189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4261320" y="2614320"/>
                <a:ext cx="5328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261320" y="193248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4171680" y="1956240"/>
                <a:ext cx="104040" cy="681840"/>
              </a:xfrm>
              <a:custGeom>
                <a:avLst/>
                <a:gdLst/>
                <a:ahLst/>
                <a:rect l="l" t="t" r="r" b="b"/>
                <a:pathLst>
                  <a:path w="49" h="320">
                    <a:moveTo>
                      <a:pt x="49" y="0"/>
                    </a:moveTo>
                    <a:lnTo>
                      <a:pt x="0" y="2"/>
                    </a:lnTo>
                    <a:lnTo>
                      <a:pt x="0" y="320"/>
                    </a:lnTo>
                    <a:lnTo>
                      <a:pt x="49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417720" y="2467440"/>
                <a:ext cx="200520" cy="340560"/>
              </a:xfrm>
              <a:custGeom>
                <a:avLst/>
                <a:gdLst/>
                <a:ahLst/>
                <a:rect l="l" t="t" r="r" b="b"/>
                <a:pathLst>
                  <a:path w="94" h="160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4" y="160"/>
                    </a:lnTo>
                    <a:lnTo>
                      <a:pt x="94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417720" y="2808360"/>
                <a:ext cx="200520" cy="2951640"/>
              </a:xfrm>
              <a:custGeom>
                <a:avLst/>
                <a:gdLst/>
                <a:ahLst/>
                <a:rect l="l" t="t" r="r" b="b"/>
                <a:pathLst>
                  <a:path w="94" h="1385">
                    <a:moveTo>
                      <a:pt x="94" y="1385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4" y="1385"/>
                    </a:lnTo>
                    <a:lnTo>
                      <a:pt x="94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475320" y="2576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417720" y="2128680"/>
                <a:ext cx="200520" cy="33876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444000" y="2237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536160" y="2237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355800" y="2588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4521240" y="2298960"/>
                <a:ext cx="1851480" cy="317880"/>
              </a:xfrm>
              <a:custGeom>
                <a:avLst/>
                <a:gdLst/>
                <a:ahLst/>
                <a:rect l="l" t="t" r="r" b="b"/>
                <a:pathLst>
                  <a:path w="869" h="149">
                    <a:moveTo>
                      <a:pt x="869" y="148"/>
                    </a:moveTo>
                    <a:lnTo>
                      <a:pt x="783" y="149"/>
                    </a:lnTo>
                    <a:lnTo>
                      <a:pt x="78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355800" y="22712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4517280" y="1960200"/>
                <a:ext cx="1855080" cy="338760"/>
              </a:xfrm>
              <a:custGeom>
                <a:avLst/>
                <a:gdLst/>
                <a:ahLst/>
                <a:rect l="l" t="t" r="r" b="b"/>
                <a:pathLst>
                  <a:path w="871" h="159">
                    <a:moveTo>
                      <a:pt x="871" y="157"/>
                    </a:moveTo>
                    <a:lnTo>
                      <a:pt x="821" y="159"/>
                    </a:lnTo>
                    <a:lnTo>
                      <a:pt x="82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21800" y="2467440"/>
                <a:ext cx="204840" cy="34056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  <a:lnTo>
                      <a:pt x="94" y="1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21800" y="2808360"/>
                <a:ext cx="204840" cy="2951640"/>
              </a:xfrm>
              <a:custGeom>
                <a:avLst/>
                <a:gdLst/>
                <a:ahLst/>
                <a:rect l="l" t="t" r="r" b="b"/>
                <a:pathLst>
                  <a:path w="96" h="1385">
                    <a:moveTo>
                      <a:pt x="94" y="138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85"/>
                    </a:lnTo>
                    <a:lnTo>
                      <a:pt x="96" y="1385"/>
                    </a:lnTo>
                    <a:lnTo>
                      <a:pt x="96" y="13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50600" y="25761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042760" y="2576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355800" y="38674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 flipH="1">
                <a:off x="6095520" y="3891240"/>
                <a:ext cx="27684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864200" y="2614320"/>
                <a:ext cx="52920" cy="48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618240" y="2298960"/>
                <a:ext cx="1258920" cy="339120"/>
              </a:xfrm>
              <a:custGeom>
                <a:avLst/>
                <a:gdLst/>
                <a:ahLst/>
                <a:rect l="l" t="t" r="r" b="b"/>
                <a:pathLst>
                  <a:path w="591" h="159">
                    <a:moveTo>
                      <a:pt x="591" y="159"/>
                    </a:moveTo>
                    <a:lnTo>
                      <a:pt x="541" y="159"/>
                    </a:lnTo>
                    <a:lnTo>
                      <a:pt x="541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864200" y="38674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0" y="24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H="1">
                <a:off x="8126640" y="3891240"/>
                <a:ext cx="44712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7753320" y="3891240"/>
                <a:ext cx="1191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864200" y="4573080"/>
                <a:ext cx="48960" cy="52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8126640" y="4266360"/>
                <a:ext cx="447120" cy="329760"/>
              </a:xfrm>
              <a:custGeom>
                <a:avLst/>
                <a:gdLst/>
                <a:ahLst/>
                <a:rect l="l" t="t" r="r" b="b"/>
                <a:pathLst>
                  <a:path w="210" h="155">
                    <a:moveTo>
                      <a:pt x="210" y="0"/>
                    </a:moveTo>
                    <a:lnTo>
                      <a:pt x="157" y="2"/>
                    </a:lnTo>
                    <a:lnTo>
                      <a:pt x="157" y="155"/>
                    </a:lnTo>
                    <a:lnTo>
                      <a:pt x="0" y="1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flipH="1">
                <a:off x="6957000" y="4596480"/>
                <a:ext cx="9158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42933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4320720" y="1616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4390560" y="1616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41900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488480" y="1616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79560" y="2365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32376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38928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456960" y="1958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4882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568200" y="19580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639480" y="19580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81128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89552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62840" y="2298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047440" y="2298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077320" y="2298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171640" y="2298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1650960" y="2865600"/>
                <a:ext cx="51120" cy="536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0" y="25"/>
                    </a:lnTo>
                    <a:lnTo>
                      <a:pt x="24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 flipH="1">
                <a:off x="1367640" y="2891160"/>
                <a:ext cx="289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325280" y="3773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39332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451280" y="3773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480440" y="3773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536240" y="3773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25112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33572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389360" y="38912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476480" y="3891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534080" y="38912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565760" y="38912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1254600" y="2857680"/>
                <a:ext cx="64080" cy="6984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7" y="0"/>
                    </a:moveTo>
                    <a:lnTo>
                      <a:pt x="17" y="16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17" y="20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13" y="16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5767920" y="3385800"/>
                <a:ext cx="327960" cy="1014120"/>
              </a:xfrm>
              <a:custGeom>
                <a:avLst/>
                <a:gdLst/>
                <a:ahLst/>
                <a:rect l="l" t="t" r="r" b="b"/>
                <a:pathLst>
                  <a:path w="154" h="476">
                    <a:moveTo>
                      <a:pt x="0" y="0"/>
                    </a:moveTo>
                    <a:lnTo>
                      <a:pt x="0" y="193"/>
                    </a:lnTo>
                    <a:lnTo>
                      <a:pt x="50" y="239"/>
                    </a:lnTo>
                    <a:lnTo>
                      <a:pt x="0" y="283"/>
                    </a:lnTo>
                    <a:lnTo>
                      <a:pt x="0" y="476"/>
                    </a:lnTo>
                    <a:lnTo>
                      <a:pt x="154" y="331"/>
                    </a:lnTo>
                    <a:lnTo>
                      <a:pt x="154" y="14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5237280" y="3213360"/>
                <a:ext cx="191520" cy="56664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0" y="44"/>
                    </a:moveTo>
                    <a:lnTo>
                      <a:pt x="2" y="38"/>
                    </a:lnTo>
                    <a:lnTo>
                      <a:pt x="4" y="31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3" y="2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10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0" y="44"/>
                    </a:lnTo>
                    <a:lnTo>
                      <a:pt x="90" y="222"/>
                    </a:lnTo>
                    <a:lnTo>
                      <a:pt x="90" y="228"/>
                    </a:lnTo>
                    <a:lnTo>
                      <a:pt x="88" y="236"/>
                    </a:lnTo>
                    <a:lnTo>
                      <a:pt x="84" y="241"/>
                    </a:lnTo>
                    <a:lnTo>
                      <a:pt x="80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4" y="264"/>
                    </a:lnTo>
                    <a:lnTo>
                      <a:pt x="46" y="266"/>
                    </a:lnTo>
                    <a:lnTo>
                      <a:pt x="38" y="264"/>
                    </a:lnTo>
                    <a:lnTo>
                      <a:pt x="33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5" y="253"/>
                    </a:lnTo>
                    <a:lnTo>
                      <a:pt x="10" y="247"/>
                    </a:lnTo>
                    <a:lnTo>
                      <a:pt x="6" y="241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2" y="222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5290560" y="3336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5371560" y="33368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5306400" y="3439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5362920" y="343944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5306040" y="3535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2315880" y="1184400"/>
                <a:ext cx="756360" cy="4536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4" y="213"/>
                    </a:moveTo>
                    <a:lnTo>
                      <a:pt x="295" y="213"/>
                    </a:lnTo>
                    <a:lnTo>
                      <a:pt x="307" y="209"/>
                    </a:lnTo>
                    <a:lnTo>
                      <a:pt x="316" y="205"/>
                    </a:lnTo>
                    <a:lnTo>
                      <a:pt x="326" y="199"/>
                    </a:lnTo>
                    <a:lnTo>
                      <a:pt x="334" y="192"/>
                    </a:lnTo>
                    <a:lnTo>
                      <a:pt x="341" y="184"/>
                    </a:lnTo>
                    <a:lnTo>
                      <a:pt x="347" y="174"/>
                    </a:lnTo>
                    <a:lnTo>
                      <a:pt x="351" y="165"/>
                    </a:lnTo>
                    <a:lnTo>
                      <a:pt x="355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5" y="60"/>
                    </a:lnTo>
                    <a:lnTo>
                      <a:pt x="351" y="48"/>
                    </a:lnTo>
                    <a:lnTo>
                      <a:pt x="347" y="38"/>
                    </a:lnTo>
                    <a:lnTo>
                      <a:pt x="341" y="29"/>
                    </a:lnTo>
                    <a:lnTo>
                      <a:pt x="334" y="21"/>
                    </a:lnTo>
                    <a:lnTo>
                      <a:pt x="326" y="14"/>
                    </a:lnTo>
                    <a:lnTo>
                      <a:pt x="316" y="8"/>
                    </a:lnTo>
                    <a:lnTo>
                      <a:pt x="307" y="4"/>
                    </a:lnTo>
                    <a:lnTo>
                      <a:pt x="295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59" y="2"/>
                    </a:lnTo>
                    <a:lnTo>
                      <a:pt x="48" y="4"/>
                    </a:lnTo>
                    <a:lnTo>
                      <a:pt x="38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3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2" y="60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2" y="153"/>
                    </a:lnTo>
                    <a:lnTo>
                      <a:pt x="4" y="165"/>
                    </a:lnTo>
                    <a:lnTo>
                      <a:pt x="8" y="174"/>
                    </a:lnTo>
                    <a:lnTo>
                      <a:pt x="13" y="184"/>
                    </a:lnTo>
                    <a:lnTo>
                      <a:pt x="21" y="192"/>
                    </a:lnTo>
                    <a:lnTo>
                      <a:pt x="29" y="199"/>
                    </a:lnTo>
                    <a:lnTo>
                      <a:pt x="38" y="205"/>
                    </a:lnTo>
                    <a:lnTo>
                      <a:pt x="48" y="209"/>
                    </a:lnTo>
                    <a:lnTo>
                      <a:pt x="59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8" name=""/>
            <p:cNvSpPr/>
            <p:nvPr/>
          </p:nvSpPr>
          <p:spPr>
            <a:xfrm>
              <a:off x="2315880" y="1184400"/>
              <a:ext cx="756360" cy="453600"/>
            </a:xfrm>
            <a:custGeom>
              <a:avLst/>
              <a:gdLst/>
              <a:ahLst/>
              <a:rect l="l" t="t" r="r" b="b"/>
              <a:pathLst>
                <a:path w="355" h="213">
                  <a:moveTo>
                    <a:pt x="284" y="213"/>
                  </a:moveTo>
                  <a:lnTo>
                    <a:pt x="295" y="213"/>
                  </a:lnTo>
                  <a:lnTo>
                    <a:pt x="307" y="209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4" y="192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1" y="165"/>
                  </a:lnTo>
                  <a:lnTo>
                    <a:pt x="355" y="153"/>
                  </a:lnTo>
                  <a:lnTo>
                    <a:pt x="355" y="142"/>
                  </a:lnTo>
                  <a:lnTo>
                    <a:pt x="355" y="71"/>
                  </a:lnTo>
                  <a:lnTo>
                    <a:pt x="355" y="60"/>
                  </a:lnTo>
                  <a:lnTo>
                    <a:pt x="351" y="48"/>
                  </a:lnTo>
                  <a:lnTo>
                    <a:pt x="347" y="38"/>
                  </a:lnTo>
                  <a:lnTo>
                    <a:pt x="341" y="29"/>
                  </a:lnTo>
                  <a:lnTo>
                    <a:pt x="334" y="21"/>
                  </a:lnTo>
                  <a:lnTo>
                    <a:pt x="326" y="14"/>
                  </a:lnTo>
                  <a:lnTo>
                    <a:pt x="316" y="8"/>
                  </a:lnTo>
                  <a:lnTo>
                    <a:pt x="307" y="4"/>
                  </a:lnTo>
                  <a:lnTo>
                    <a:pt x="295" y="2"/>
                  </a:lnTo>
                  <a:lnTo>
                    <a:pt x="284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8"/>
                  </a:lnTo>
                  <a:lnTo>
                    <a:pt x="29" y="14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4" y="48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4" y="165"/>
                  </a:lnTo>
                  <a:lnTo>
                    <a:pt x="8" y="174"/>
                  </a:lnTo>
                  <a:lnTo>
                    <a:pt x="13" y="184"/>
                  </a:lnTo>
                  <a:lnTo>
                    <a:pt x="21" y="192"/>
                  </a:lnTo>
                  <a:lnTo>
                    <a:pt x="29" y="199"/>
                  </a:lnTo>
                  <a:lnTo>
                    <a:pt x="38" y="205"/>
                  </a:lnTo>
                  <a:lnTo>
                    <a:pt x="48" y="209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4" y="213"/>
                  </a:lnTo>
                  <a:lnTo>
                    <a:pt x="284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601600" y="5683680"/>
              <a:ext cx="754200" cy="453600"/>
            </a:xfrm>
            <a:custGeom>
              <a:avLst/>
              <a:gdLst/>
              <a:ahLst/>
              <a:rect l="l" t="t" r="r" b="b"/>
              <a:pathLst>
                <a:path w="354" h="213">
                  <a:moveTo>
                    <a:pt x="283" y="213"/>
                  </a:moveTo>
                  <a:lnTo>
                    <a:pt x="295" y="213"/>
                  </a:lnTo>
                  <a:lnTo>
                    <a:pt x="306" y="211"/>
                  </a:lnTo>
                  <a:lnTo>
                    <a:pt x="316" y="205"/>
                  </a:lnTo>
                  <a:lnTo>
                    <a:pt x="326" y="199"/>
                  </a:lnTo>
                  <a:lnTo>
                    <a:pt x="333" y="193"/>
                  </a:lnTo>
                  <a:lnTo>
                    <a:pt x="341" y="184"/>
                  </a:lnTo>
                  <a:lnTo>
                    <a:pt x="347" y="174"/>
                  </a:lnTo>
                  <a:lnTo>
                    <a:pt x="350" y="165"/>
                  </a:lnTo>
                  <a:lnTo>
                    <a:pt x="354" y="153"/>
                  </a:lnTo>
                  <a:lnTo>
                    <a:pt x="354" y="142"/>
                  </a:lnTo>
                  <a:lnTo>
                    <a:pt x="354" y="71"/>
                  </a:lnTo>
                  <a:lnTo>
                    <a:pt x="354" y="59"/>
                  </a:lnTo>
                  <a:lnTo>
                    <a:pt x="350" y="50"/>
                  </a:lnTo>
                  <a:lnTo>
                    <a:pt x="347" y="38"/>
                  </a:lnTo>
                  <a:lnTo>
                    <a:pt x="341" y="31"/>
                  </a:lnTo>
                  <a:lnTo>
                    <a:pt x="333" y="21"/>
                  </a:lnTo>
                  <a:lnTo>
                    <a:pt x="326" y="15"/>
                  </a:lnTo>
                  <a:lnTo>
                    <a:pt x="316" y="10"/>
                  </a:lnTo>
                  <a:lnTo>
                    <a:pt x="306" y="4"/>
                  </a:lnTo>
                  <a:lnTo>
                    <a:pt x="295" y="2"/>
                  </a:lnTo>
                  <a:lnTo>
                    <a:pt x="283" y="0"/>
                  </a:lnTo>
                  <a:lnTo>
                    <a:pt x="71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8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3" y="165"/>
                  </a:lnTo>
                  <a:lnTo>
                    <a:pt x="7" y="174"/>
                  </a:lnTo>
                  <a:lnTo>
                    <a:pt x="13" y="184"/>
                  </a:lnTo>
                  <a:lnTo>
                    <a:pt x="21" y="193"/>
                  </a:lnTo>
                  <a:lnTo>
                    <a:pt x="28" y="199"/>
                  </a:lnTo>
                  <a:lnTo>
                    <a:pt x="38" y="205"/>
                  </a:lnTo>
                  <a:lnTo>
                    <a:pt x="48" y="211"/>
                  </a:lnTo>
                  <a:lnTo>
                    <a:pt x="59" y="213"/>
                  </a:lnTo>
                  <a:lnTo>
                    <a:pt x="71" y="213"/>
                  </a:lnTo>
                  <a:lnTo>
                    <a:pt x="283" y="213"/>
                  </a:lnTo>
                  <a:lnTo>
                    <a:pt x="283" y="213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539800" y="1229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6143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667240" y="1229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72052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773800" y="1229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806200" y="122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863800" y="122940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480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53296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58912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6179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675880" y="134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725200" y="134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752920" y="1348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77272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831040" y="134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887200" y="134856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60460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662920" y="14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716560" y="14655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739240" y="1465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7240" y="5790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88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846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878800" y="5790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9508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008400" y="5790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604260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6101280" y="5790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1192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6176880" y="579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234840" y="57906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9140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948640" y="590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000840" y="5907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26040" y="5907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180040" y="36590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571032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H="1">
              <a:off x="5429160" y="3494880"/>
              <a:ext cx="2980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3888720" y="2013840"/>
              <a:ext cx="187200" cy="56232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0" y="44"/>
                  </a:moveTo>
                  <a:lnTo>
                    <a:pt x="2" y="36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7" y="13"/>
                  </a:lnTo>
                  <a:lnTo>
                    <a:pt x="81" y="17"/>
                  </a:lnTo>
                  <a:lnTo>
                    <a:pt x="85" y="23"/>
                  </a:lnTo>
                  <a:lnTo>
                    <a:pt x="86" y="31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220"/>
                  </a:lnTo>
                  <a:lnTo>
                    <a:pt x="88" y="228"/>
                  </a:lnTo>
                  <a:lnTo>
                    <a:pt x="86" y="236"/>
                  </a:lnTo>
                  <a:lnTo>
                    <a:pt x="85" y="241"/>
                  </a:lnTo>
                  <a:lnTo>
                    <a:pt x="81" y="247"/>
                  </a:lnTo>
                  <a:lnTo>
                    <a:pt x="77" y="253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60" y="262"/>
                  </a:lnTo>
                  <a:lnTo>
                    <a:pt x="52" y="264"/>
                  </a:lnTo>
                  <a:lnTo>
                    <a:pt x="44" y="264"/>
                  </a:lnTo>
                  <a:lnTo>
                    <a:pt x="39" y="264"/>
                  </a:lnTo>
                  <a:lnTo>
                    <a:pt x="31" y="262"/>
                  </a:lnTo>
                  <a:lnTo>
                    <a:pt x="25" y="260"/>
                  </a:lnTo>
                  <a:lnTo>
                    <a:pt x="19" y="257"/>
                  </a:lnTo>
                  <a:lnTo>
                    <a:pt x="14" y="253"/>
                  </a:lnTo>
                  <a:lnTo>
                    <a:pt x="10" y="247"/>
                  </a:lnTo>
                  <a:lnTo>
                    <a:pt x="6" y="241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80040" y="34714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086080" y="3494880"/>
              <a:ext cx="119160" cy="2870640"/>
            </a:xfrm>
            <a:custGeom>
              <a:avLst/>
              <a:gdLst/>
              <a:ahLst/>
              <a:rect l="l" t="t" r="r" b="b"/>
              <a:pathLst>
                <a:path w="56" h="1347">
                  <a:moveTo>
                    <a:pt x="56" y="0"/>
                  </a:moveTo>
                  <a:lnTo>
                    <a:pt x="0" y="2"/>
                  </a:lnTo>
                  <a:lnTo>
                    <a:pt x="0" y="134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0040" y="32839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H="1">
              <a:off x="4521240" y="3307320"/>
              <a:ext cx="68400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180040" y="44222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 flipH="1">
              <a:off x="4975560" y="444744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951800" y="44222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1907280" y="3931560"/>
              <a:ext cx="2296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3117240" y="1335600"/>
              <a:ext cx="1519200" cy="967320"/>
            </a:xfrm>
            <a:custGeom>
              <a:avLst/>
              <a:gdLst/>
              <a:ahLst/>
              <a:rect l="l" t="t" r="r" b="b"/>
              <a:pathLst>
                <a:path w="713" h="454">
                  <a:moveTo>
                    <a:pt x="711" y="454"/>
                  </a:moveTo>
                  <a:lnTo>
                    <a:pt x="71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613040" y="227592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3080880" y="1312560"/>
              <a:ext cx="4896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23"/>
                  </a:moveTo>
                  <a:lnTo>
                    <a:pt x="23" y="0"/>
                  </a:lnTo>
                  <a:lnTo>
                    <a:pt x="0" y="11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137320" y="1486800"/>
              <a:ext cx="2139120" cy="4179600"/>
            </a:xfrm>
            <a:custGeom>
              <a:avLst/>
              <a:gdLst/>
              <a:ahLst/>
              <a:rect l="l" t="t" r="r" b="b"/>
              <a:pathLst>
                <a:path w="1004" h="1961">
                  <a:moveTo>
                    <a:pt x="63" y="0"/>
                  </a:moveTo>
                  <a:lnTo>
                    <a:pt x="0" y="0"/>
                  </a:lnTo>
                  <a:lnTo>
                    <a:pt x="0" y="1961"/>
                  </a:lnTo>
                  <a:lnTo>
                    <a:pt x="1004" y="196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258280" y="14612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4261320" y="5357520"/>
              <a:ext cx="53280" cy="53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360880" y="3614040"/>
              <a:ext cx="1915200" cy="1771200"/>
            </a:xfrm>
            <a:custGeom>
              <a:avLst/>
              <a:gdLst/>
              <a:ahLst/>
              <a:rect l="l" t="t" r="r" b="b"/>
              <a:pathLst>
                <a:path w="899" h="831">
                  <a:moveTo>
                    <a:pt x="899" y="829"/>
                  </a:moveTo>
                  <a:lnTo>
                    <a:pt x="0" y="831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4261320" y="547056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137320" y="5496120"/>
              <a:ext cx="214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4261320" y="56390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111400" y="54705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1114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23"/>
                  </a:moveTo>
                  <a:lnTo>
                    <a:pt x="14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352240" y="16257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23"/>
                  </a:moveTo>
                  <a:lnTo>
                    <a:pt x="25" y="23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377800" y="1670760"/>
              <a:ext cx="2258280" cy="4241160"/>
            </a:xfrm>
            <a:custGeom>
              <a:avLst/>
              <a:gdLst/>
              <a:ahLst/>
              <a:rect l="l" t="t" r="r" b="b"/>
              <a:pathLst>
                <a:path w="1060" h="1990">
                  <a:moveTo>
                    <a:pt x="1006" y="1795"/>
                  </a:moveTo>
                  <a:lnTo>
                    <a:pt x="1060" y="1797"/>
                  </a:lnTo>
                  <a:lnTo>
                    <a:pt x="1060" y="1990"/>
                  </a:lnTo>
                  <a:lnTo>
                    <a:pt x="149" y="1990"/>
                  </a:lnTo>
                  <a:lnTo>
                    <a:pt x="149" y="709"/>
                  </a:lnTo>
                  <a:lnTo>
                    <a:pt x="0" y="709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6000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8664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48560" y="965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476280" y="9651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8920" y="9651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601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15240" y="965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664560" y="965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860240" y="554112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400800" y="5568480"/>
              <a:ext cx="327960" cy="26604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52" y="0"/>
                  </a:moveTo>
                  <a:lnTo>
                    <a:pt x="154" y="125"/>
                  </a:lnTo>
                  <a:lnTo>
                    <a:pt x="0" y="12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703560" y="55450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396480" y="5573160"/>
              <a:ext cx="1838520" cy="412920"/>
            </a:xfrm>
            <a:custGeom>
              <a:avLst/>
              <a:gdLst/>
              <a:ahLst/>
              <a:rect l="l" t="t" r="r" b="b"/>
              <a:pathLst>
                <a:path w="863" h="194">
                  <a:moveTo>
                    <a:pt x="0" y="194"/>
                  </a:moveTo>
                  <a:lnTo>
                    <a:pt x="863" y="194"/>
                  </a:lnTo>
                  <a:lnTo>
                    <a:pt x="863" y="0"/>
                  </a:lnTo>
                  <a:lnTo>
                    <a:pt x="8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364800" y="59605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364800" y="5809320"/>
              <a:ext cx="4860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364800" y="588420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8325000" y="2614680"/>
              <a:ext cx="4860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7050960" y="3867840"/>
              <a:ext cx="48600" cy="511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0" y="24"/>
                  </a:lnTo>
                  <a:lnTo>
                    <a:pt x="23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H="1">
              <a:off x="6618240" y="3891600"/>
              <a:ext cx="444960" cy="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6933600" y="4573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3"/>
                  </a:moveTo>
                  <a:lnTo>
                    <a:pt x="13" y="25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975560" y="3686760"/>
              <a:ext cx="1985400" cy="2563920"/>
            </a:xfrm>
            <a:custGeom>
              <a:avLst/>
              <a:gdLst/>
              <a:ahLst/>
              <a:rect l="l" t="t" r="r" b="b"/>
              <a:pathLst>
                <a:path w="932" h="1203">
                  <a:moveTo>
                    <a:pt x="930" y="96"/>
                  </a:moveTo>
                  <a:lnTo>
                    <a:pt x="932" y="1203"/>
                  </a:lnTo>
                  <a:lnTo>
                    <a:pt x="0" y="1203"/>
                  </a:lnTo>
                  <a:lnTo>
                    <a:pt x="0" y="0"/>
                  </a:lnTo>
                  <a:lnTo>
                    <a:pt x="11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62320" y="633996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67080" y="3916800"/>
              <a:ext cx="4964760" cy="2559960"/>
            </a:xfrm>
            <a:custGeom>
              <a:avLst/>
              <a:gdLst/>
              <a:ahLst/>
              <a:rect l="l" t="t" r="r" b="b"/>
              <a:pathLst>
                <a:path w="2330" h="1201">
                  <a:moveTo>
                    <a:pt x="2330" y="971"/>
                  </a:moveTo>
                  <a:lnTo>
                    <a:pt x="2330" y="1201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30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7406640" y="5960520"/>
              <a:ext cx="48960" cy="53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4261320" y="2271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3831120" y="22712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69920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724040" y="2602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785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1812240" y="2602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1842840" y="2602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917080" y="2295000"/>
              <a:ext cx="918000" cy="3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137320" y="4809960"/>
              <a:ext cx="18406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  <a:lnTo>
                    <a:pt x="88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761560" y="4426200"/>
              <a:ext cx="379080" cy="799200"/>
            </a:xfrm>
            <a:custGeom>
              <a:avLst/>
              <a:gdLst/>
              <a:ahLst/>
              <a:rect l="l" t="t" r="r" b="b"/>
              <a:pathLst>
                <a:path w="178" h="375">
                  <a:moveTo>
                    <a:pt x="88" y="375"/>
                  </a:moveTo>
                  <a:lnTo>
                    <a:pt x="104" y="373"/>
                  </a:lnTo>
                  <a:lnTo>
                    <a:pt x="117" y="366"/>
                  </a:lnTo>
                  <a:lnTo>
                    <a:pt x="130" y="354"/>
                  </a:lnTo>
                  <a:lnTo>
                    <a:pt x="142" y="339"/>
                  </a:lnTo>
                  <a:lnTo>
                    <a:pt x="151" y="320"/>
                  </a:lnTo>
                  <a:lnTo>
                    <a:pt x="161" y="299"/>
                  </a:lnTo>
                  <a:lnTo>
                    <a:pt x="169" y="274"/>
                  </a:lnTo>
                  <a:lnTo>
                    <a:pt x="173" y="247"/>
                  </a:lnTo>
                  <a:lnTo>
                    <a:pt x="176" y="218"/>
                  </a:lnTo>
                  <a:lnTo>
                    <a:pt x="178" y="188"/>
                  </a:lnTo>
                  <a:lnTo>
                    <a:pt x="176" y="157"/>
                  </a:lnTo>
                  <a:lnTo>
                    <a:pt x="173" y="128"/>
                  </a:lnTo>
                  <a:lnTo>
                    <a:pt x="169" y="102"/>
                  </a:lnTo>
                  <a:lnTo>
                    <a:pt x="161" y="77"/>
                  </a:lnTo>
                  <a:lnTo>
                    <a:pt x="151" y="54"/>
                  </a:lnTo>
                  <a:lnTo>
                    <a:pt x="142" y="36"/>
                  </a:lnTo>
                  <a:lnTo>
                    <a:pt x="130" y="21"/>
                  </a:lnTo>
                  <a:lnTo>
                    <a:pt x="117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75" y="2"/>
                  </a:lnTo>
                  <a:lnTo>
                    <a:pt x="61" y="10"/>
                  </a:lnTo>
                  <a:lnTo>
                    <a:pt x="48" y="21"/>
                  </a:lnTo>
                  <a:lnTo>
                    <a:pt x="36" y="36"/>
                  </a:lnTo>
                  <a:lnTo>
                    <a:pt x="27" y="54"/>
                  </a:lnTo>
                  <a:lnTo>
                    <a:pt x="17" y="77"/>
                  </a:lnTo>
                  <a:lnTo>
                    <a:pt x="10" y="102"/>
                  </a:lnTo>
                  <a:lnTo>
                    <a:pt x="6" y="128"/>
                  </a:lnTo>
                  <a:lnTo>
                    <a:pt x="2" y="157"/>
                  </a:lnTo>
                  <a:lnTo>
                    <a:pt x="0" y="188"/>
                  </a:lnTo>
                  <a:lnTo>
                    <a:pt x="2" y="218"/>
                  </a:lnTo>
                  <a:lnTo>
                    <a:pt x="6" y="247"/>
                  </a:lnTo>
                  <a:lnTo>
                    <a:pt x="10" y="274"/>
                  </a:lnTo>
                  <a:lnTo>
                    <a:pt x="17" y="299"/>
                  </a:lnTo>
                  <a:lnTo>
                    <a:pt x="27" y="320"/>
                  </a:lnTo>
                  <a:lnTo>
                    <a:pt x="36" y="339"/>
                  </a:lnTo>
                  <a:lnTo>
                    <a:pt x="48" y="354"/>
                  </a:lnTo>
                  <a:lnTo>
                    <a:pt x="61" y="366"/>
                  </a:lnTo>
                  <a:lnTo>
                    <a:pt x="75" y="373"/>
                  </a:lnTo>
                  <a:lnTo>
                    <a:pt x="90" y="375"/>
                  </a:lnTo>
                  <a:lnTo>
                    <a:pt x="90" y="3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851200" y="4707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916720" y="47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93976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996640" y="470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3051360" y="470736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7928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850480" y="482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900160" y="4826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9282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98368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038040" y="482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3982680" y="4809960"/>
              <a:ext cx="2937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  <a:lnTo>
                    <a:pt x="96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503440" y="1858320"/>
              <a:ext cx="413280" cy="882000"/>
            </a:xfrm>
            <a:custGeom>
              <a:avLst/>
              <a:gdLst/>
              <a:ahLst/>
              <a:rect l="l" t="t" r="r" b="b"/>
              <a:pathLst>
                <a:path w="194" h="414">
                  <a:moveTo>
                    <a:pt x="96" y="414"/>
                  </a:moveTo>
                  <a:lnTo>
                    <a:pt x="113" y="412"/>
                  </a:lnTo>
                  <a:lnTo>
                    <a:pt x="129" y="404"/>
                  </a:lnTo>
                  <a:lnTo>
                    <a:pt x="142" y="391"/>
                  </a:lnTo>
                  <a:lnTo>
                    <a:pt x="156" y="374"/>
                  </a:lnTo>
                  <a:lnTo>
                    <a:pt x="165" y="355"/>
                  </a:lnTo>
                  <a:lnTo>
                    <a:pt x="177" y="330"/>
                  </a:lnTo>
                  <a:lnTo>
                    <a:pt x="184" y="303"/>
                  </a:lnTo>
                  <a:lnTo>
                    <a:pt x="190" y="272"/>
                  </a:lnTo>
                  <a:lnTo>
                    <a:pt x="194" y="242"/>
                  </a:lnTo>
                  <a:lnTo>
                    <a:pt x="194" y="207"/>
                  </a:lnTo>
                  <a:lnTo>
                    <a:pt x="194" y="175"/>
                  </a:lnTo>
                  <a:lnTo>
                    <a:pt x="190" y="142"/>
                  </a:lnTo>
                  <a:lnTo>
                    <a:pt x="184" y="111"/>
                  </a:lnTo>
                  <a:lnTo>
                    <a:pt x="177" y="84"/>
                  </a:lnTo>
                  <a:lnTo>
                    <a:pt x="165" y="62"/>
                  </a:lnTo>
                  <a:lnTo>
                    <a:pt x="156" y="40"/>
                  </a:lnTo>
                  <a:lnTo>
                    <a:pt x="142" y="23"/>
                  </a:lnTo>
                  <a:lnTo>
                    <a:pt x="129" y="12"/>
                  </a:lnTo>
                  <a:lnTo>
                    <a:pt x="113" y="2"/>
                  </a:lnTo>
                  <a:lnTo>
                    <a:pt x="98" y="0"/>
                  </a:lnTo>
                  <a:lnTo>
                    <a:pt x="81" y="2"/>
                  </a:lnTo>
                  <a:lnTo>
                    <a:pt x="65" y="12"/>
                  </a:lnTo>
                  <a:lnTo>
                    <a:pt x="52" y="23"/>
                  </a:lnTo>
                  <a:lnTo>
                    <a:pt x="39" y="40"/>
                  </a:lnTo>
                  <a:lnTo>
                    <a:pt x="29" y="62"/>
                  </a:lnTo>
                  <a:lnTo>
                    <a:pt x="17" y="84"/>
                  </a:lnTo>
                  <a:lnTo>
                    <a:pt x="10" y="111"/>
                  </a:lnTo>
                  <a:lnTo>
                    <a:pt x="4" y="142"/>
                  </a:lnTo>
                  <a:lnTo>
                    <a:pt x="0" y="175"/>
                  </a:lnTo>
                  <a:lnTo>
                    <a:pt x="0" y="207"/>
                  </a:lnTo>
                  <a:lnTo>
                    <a:pt x="0" y="242"/>
                  </a:lnTo>
                  <a:lnTo>
                    <a:pt x="4" y="272"/>
                  </a:lnTo>
                  <a:lnTo>
                    <a:pt x="10" y="303"/>
                  </a:lnTo>
                  <a:lnTo>
                    <a:pt x="17" y="330"/>
                  </a:lnTo>
                  <a:lnTo>
                    <a:pt x="29" y="355"/>
                  </a:lnTo>
                  <a:lnTo>
                    <a:pt x="39" y="374"/>
                  </a:lnTo>
                  <a:lnTo>
                    <a:pt x="52" y="391"/>
                  </a:lnTo>
                  <a:lnTo>
                    <a:pt x="65" y="404"/>
                  </a:lnTo>
                  <a:lnTo>
                    <a:pt x="81" y="412"/>
                  </a:lnTo>
                  <a:lnTo>
                    <a:pt x="98" y="414"/>
                  </a:lnTo>
                  <a:lnTo>
                    <a:pt x="98" y="414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544840" y="2237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61792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671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728440" y="2237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756880" y="2237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88560" y="223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6520" y="2237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4265640" y="47887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3178800" y="28659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78800" y="24825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H="1">
              <a:off x="1384560" y="2891520"/>
              <a:ext cx="2854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H="1">
              <a:off x="1744560" y="2891520"/>
              <a:ext cx="1440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1060920" y="996840"/>
              <a:ext cx="2501280" cy="1751760"/>
            </a:xfrm>
            <a:custGeom>
              <a:avLst/>
              <a:gdLst/>
              <a:ahLst/>
              <a:rect l="l" t="t" r="r" b="b"/>
              <a:pathLst>
                <a:path w="1174" h="822">
                  <a:moveTo>
                    <a:pt x="1134" y="822"/>
                  </a:moveTo>
                  <a:lnTo>
                    <a:pt x="1174" y="822"/>
                  </a:lnTo>
                  <a:lnTo>
                    <a:pt x="1174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4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1189080" y="19198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1193040" y="162576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lnTo>
                    <a:pt x="0" y="25"/>
                  </a:lnTo>
                  <a:lnTo>
                    <a:pt x="23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1250640" y="1506240"/>
              <a:ext cx="191520" cy="564840"/>
            </a:xfrm>
            <a:custGeom>
              <a:avLst/>
              <a:gdLst/>
              <a:ahLst/>
              <a:rect l="l" t="t" r="r" b="b"/>
              <a:pathLst>
                <a:path w="90" h="265">
                  <a:moveTo>
                    <a:pt x="0" y="43"/>
                  </a:moveTo>
                  <a:lnTo>
                    <a:pt x="2" y="37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0" y="37"/>
                  </a:lnTo>
                  <a:lnTo>
                    <a:pt x="90" y="45"/>
                  </a:lnTo>
                  <a:lnTo>
                    <a:pt x="90" y="221"/>
                  </a:lnTo>
                  <a:lnTo>
                    <a:pt x="90" y="228"/>
                  </a:lnTo>
                  <a:lnTo>
                    <a:pt x="88" y="234"/>
                  </a:lnTo>
                  <a:lnTo>
                    <a:pt x="84" y="240"/>
                  </a:lnTo>
                  <a:lnTo>
                    <a:pt x="80" y="246"/>
                  </a:lnTo>
                  <a:lnTo>
                    <a:pt x="76" y="251"/>
                  </a:lnTo>
                  <a:lnTo>
                    <a:pt x="71" y="255"/>
                  </a:lnTo>
                  <a:lnTo>
                    <a:pt x="65" y="259"/>
                  </a:lnTo>
                  <a:lnTo>
                    <a:pt x="59" y="263"/>
                  </a:lnTo>
                  <a:lnTo>
                    <a:pt x="53" y="265"/>
                  </a:lnTo>
                  <a:lnTo>
                    <a:pt x="46" y="265"/>
                  </a:lnTo>
                  <a:lnTo>
                    <a:pt x="38" y="265"/>
                  </a:lnTo>
                  <a:lnTo>
                    <a:pt x="32" y="263"/>
                  </a:lnTo>
                  <a:lnTo>
                    <a:pt x="25" y="259"/>
                  </a:lnTo>
                  <a:lnTo>
                    <a:pt x="19" y="255"/>
                  </a:lnTo>
                  <a:lnTo>
                    <a:pt x="15" y="251"/>
                  </a:lnTo>
                  <a:lnTo>
                    <a:pt x="9" y="246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2" y="228"/>
                  </a:lnTo>
                  <a:lnTo>
                    <a:pt x="2" y="221"/>
                  </a:lnTo>
                  <a:lnTo>
                    <a:pt x="2" y="45"/>
                  </a:lnTo>
                  <a:lnTo>
                    <a:pt x="2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1304280" y="16257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1384920" y="16257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1318680" y="172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1372320" y="172800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1318680" y="182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914040" y="1947600"/>
              <a:ext cx="585360" cy="943920"/>
            </a:xfrm>
            <a:custGeom>
              <a:avLst/>
              <a:gdLst/>
              <a:ahLst/>
              <a:rect l="l" t="t" r="r" b="b"/>
              <a:pathLst>
                <a:path w="275" h="443">
                  <a:moveTo>
                    <a:pt x="273" y="443"/>
                  </a:moveTo>
                  <a:lnTo>
                    <a:pt x="275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13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1040" y="1412640"/>
              <a:ext cx="1244160" cy="2518920"/>
            </a:xfrm>
            <a:custGeom>
              <a:avLst/>
              <a:gdLst/>
              <a:ahLst/>
              <a:rect l="l" t="t" r="r" b="b"/>
              <a:pathLst>
                <a:path w="584" h="1182">
                  <a:moveTo>
                    <a:pt x="529" y="175"/>
                  </a:moveTo>
                  <a:lnTo>
                    <a:pt x="584" y="177"/>
                  </a:lnTo>
                  <a:lnTo>
                    <a:pt x="584" y="0"/>
                  </a:lnTo>
                  <a:lnTo>
                    <a:pt x="0" y="0"/>
                  </a:lnTo>
                  <a:lnTo>
                    <a:pt x="0" y="1182"/>
                  </a:lnTo>
                  <a:lnTo>
                    <a:pt x="53" y="118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1474200" y="287028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0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234600" y="2343960"/>
              <a:ext cx="249120" cy="762840"/>
            </a:xfrm>
            <a:custGeom>
              <a:avLst/>
              <a:gdLst/>
              <a:ahLst/>
              <a:rect l="l" t="t" r="r" b="b"/>
              <a:pathLst>
                <a:path w="117" h="358">
                  <a:moveTo>
                    <a:pt x="0" y="0"/>
                  </a:moveTo>
                  <a:lnTo>
                    <a:pt x="2" y="146"/>
                  </a:lnTo>
                  <a:lnTo>
                    <a:pt x="39" y="180"/>
                  </a:lnTo>
                  <a:lnTo>
                    <a:pt x="2" y="215"/>
                  </a:lnTo>
                  <a:lnTo>
                    <a:pt x="2" y="358"/>
                  </a:lnTo>
                  <a:lnTo>
                    <a:pt x="117" y="249"/>
                  </a:lnTo>
                  <a:lnTo>
                    <a:pt x="117" y="111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6360" y="2691360"/>
              <a:ext cx="64080" cy="698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7" y="0"/>
                  </a:moveTo>
                  <a:lnTo>
                    <a:pt x="17" y="15"/>
                  </a:lnTo>
                  <a:lnTo>
                    <a:pt x="30" y="15"/>
                  </a:lnTo>
                  <a:lnTo>
                    <a:pt x="30" y="19"/>
                  </a:lnTo>
                  <a:lnTo>
                    <a:pt x="17" y="19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1706760" y="2808360"/>
              <a:ext cx="200520" cy="2952000"/>
            </a:xfrm>
            <a:custGeom>
              <a:avLst/>
              <a:gdLst/>
              <a:ahLst/>
              <a:rect l="l" t="t" r="r" b="b"/>
              <a:pathLst>
                <a:path w="94" h="1385">
                  <a:moveTo>
                    <a:pt x="94" y="1385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385"/>
                  </a:lnTo>
                  <a:lnTo>
                    <a:pt x="94" y="1385"/>
                  </a:lnTo>
                  <a:lnTo>
                    <a:pt x="94" y="13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056840" y="3292200"/>
              <a:ext cx="48600" cy="4680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4056840" y="40748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  <a:lnTo>
                    <a:pt x="54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973680" y="3441600"/>
              <a:ext cx="229680" cy="530640"/>
            </a:xfrm>
            <a:custGeom>
              <a:avLst/>
              <a:gdLst/>
              <a:ahLst/>
              <a:rect l="l" t="t" r="r" b="b"/>
              <a:pathLst>
                <a:path w="108" h="249">
                  <a:moveTo>
                    <a:pt x="54" y="247"/>
                  </a:moveTo>
                  <a:lnTo>
                    <a:pt x="64" y="247"/>
                  </a:lnTo>
                  <a:lnTo>
                    <a:pt x="71" y="242"/>
                  </a:lnTo>
                  <a:lnTo>
                    <a:pt x="79" y="234"/>
                  </a:lnTo>
                  <a:lnTo>
                    <a:pt x="87" y="224"/>
                  </a:lnTo>
                  <a:lnTo>
                    <a:pt x="93" y="213"/>
                  </a:lnTo>
                  <a:lnTo>
                    <a:pt x="98" y="198"/>
                  </a:lnTo>
                  <a:lnTo>
                    <a:pt x="102" y="182"/>
                  </a:lnTo>
                  <a:lnTo>
                    <a:pt x="106" y="163"/>
                  </a:lnTo>
                  <a:lnTo>
                    <a:pt x="108" y="144"/>
                  </a:lnTo>
                  <a:lnTo>
                    <a:pt x="108" y="125"/>
                  </a:lnTo>
                  <a:lnTo>
                    <a:pt x="108" y="104"/>
                  </a:lnTo>
                  <a:lnTo>
                    <a:pt x="106" y="85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7"/>
                  </a:lnTo>
                  <a:lnTo>
                    <a:pt x="87" y="23"/>
                  </a:lnTo>
                  <a:lnTo>
                    <a:pt x="79" y="14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6"/>
                  </a:lnTo>
                  <a:lnTo>
                    <a:pt x="29" y="14"/>
                  </a:lnTo>
                  <a:lnTo>
                    <a:pt x="23" y="23"/>
                  </a:lnTo>
                  <a:lnTo>
                    <a:pt x="16" y="37"/>
                  </a:lnTo>
                  <a:lnTo>
                    <a:pt x="12" y="50"/>
                  </a:lnTo>
                  <a:lnTo>
                    <a:pt x="6" y="67"/>
                  </a:lnTo>
                  <a:lnTo>
                    <a:pt x="4" y="85"/>
                  </a:lnTo>
                  <a:lnTo>
                    <a:pt x="2" y="104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4" y="163"/>
                  </a:lnTo>
                  <a:lnTo>
                    <a:pt x="6" y="182"/>
                  </a:lnTo>
                  <a:lnTo>
                    <a:pt x="12" y="198"/>
                  </a:lnTo>
                  <a:lnTo>
                    <a:pt x="16" y="213"/>
                  </a:lnTo>
                  <a:lnTo>
                    <a:pt x="23" y="224"/>
                  </a:lnTo>
                  <a:lnTo>
                    <a:pt x="29" y="234"/>
                  </a:lnTo>
                  <a:lnTo>
                    <a:pt x="37" y="242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54" y="2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4023000" y="356976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056840" y="339264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0" y="2"/>
                  </a:lnTo>
                  <a:lnTo>
                    <a:pt x="11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080600" y="3320280"/>
              <a:ext cx="1800" cy="9360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0"/>
                  </a:move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4080600" y="3320280"/>
              <a:ext cx="18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4056840" y="39765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3" y="23"/>
                  </a:moveTo>
                  <a:lnTo>
                    <a:pt x="0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4080600" y="4006440"/>
              <a:ext cx="3600" cy="9360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44"/>
                  </a:moveTo>
                  <a:lnTo>
                    <a:pt x="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4080600" y="4006440"/>
              <a:ext cx="3600" cy="9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0040" y="547056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180040" y="5655960"/>
              <a:ext cx="52920" cy="48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0" y="23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553000" y="6022440"/>
              <a:ext cx="55080" cy="5364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" y="25"/>
                  </a:lnTo>
                  <a:lnTo>
                    <a:pt x="26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4521240" y="5385600"/>
              <a:ext cx="1046520" cy="660600"/>
            </a:xfrm>
            <a:custGeom>
              <a:avLst/>
              <a:gdLst/>
              <a:ahLst/>
              <a:rect l="l" t="t" r="r" b="b"/>
              <a:pathLst>
                <a:path w="491" h="310">
                  <a:moveTo>
                    <a:pt x="491" y="310"/>
                  </a:moveTo>
                  <a:lnTo>
                    <a:pt x="100" y="310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613040" y="547488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1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5540040" y="5899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356160" y="55411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4521240" y="5679360"/>
              <a:ext cx="675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521240" y="5496120"/>
              <a:ext cx="67536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521240" y="5255280"/>
              <a:ext cx="1037880" cy="673200"/>
            </a:xfrm>
            <a:custGeom>
              <a:avLst/>
              <a:gdLst/>
              <a:ahLst/>
              <a:rect l="l" t="t" r="r" b="b"/>
              <a:pathLst>
                <a:path w="487" h="316">
                  <a:moveTo>
                    <a:pt x="0" y="0"/>
                  </a:moveTo>
                  <a:lnTo>
                    <a:pt x="140" y="2"/>
                  </a:lnTo>
                  <a:lnTo>
                    <a:pt x="140" y="316"/>
                  </a:lnTo>
                  <a:lnTo>
                    <a:pt x="487" y="3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087720" y="3462840"/>
              <a:ext cx="5292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" y="23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087720" y="35845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136960" y="3486600"/>
              <a:ext cx="971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137320" y="3609720"/>
              <a:ext cx="9716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226600" y="3462840"/>
              <a:ext cx="48960" cy="4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9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37120" y="3588480"/>
              <a:ext cx="53280" cy="48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223800" y="4786560"/>
              <a:ext cx="48600" cy="50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23"/>
                  </a:moveTo>
                  <a:lnTo>
                    <a:pt x="13" y="24"/>
                  </a:lnTo>
                  <a:lnTo>
                    <a:pt x="15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925360" y="2512080"/>
              <a:ext cx="321480" cy="2293200"/>
            </a:xfrm>
            <a:custGeom>
              <a:avLst/>
              <a:gdLst/>
              <a:ahLst/>
              <a:rect l="l" t="t" r="r" b="b"/>
              <a:pathLst>
                <a:path w="151" h="1076">
                  <a:moveTo>
                    <a:pt x="151" y="1076"/>
                  </a:moveTo>
                  <a:lnTo>
                    <a:pt x="151" y="877"/>
                  </a:lnTo>
                  <a:lnTo>
                    <a:pt x="0" y="877"/>
                  </a:lnTo>
                  <a:lnTo>
                    <a:pt x="0" y="0"/>
                  </a:lnTo>
                  <a:lnTo>
                    <a:pt x="1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  <a:lnTo>
                    <a:pt x="7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765880" y="2945160"/>
              <a:ext cx="315000" cy="491760"/>
            </a:xfrm>
            <a:custGeom>
              <a:avLst/>
              <a:gdLst/>
              <a:ahLst/>
              <a:rect l="l" t="t" r="r" b="b"/>
              <a:pathLst>
                <a:path w="148" h="231">
                  <a:moveTo>
                    <a:pt x="73" y="231"/>
                  </a:moveTo>
                  <a:lnTo>
                    <a:pt x="86" y="230"/>
                  </a:lnTo>
                  <a:lnTo>
                    <a:pt x="98" y="226"/>
                  </a:lnTo>
                  <a:lnTo>
                    <a:pt x="107" y="218"/>
                  </a:lnTo>
                  <a:lnTo>
                    <a:pt x="117" y="210"/>
                  </a:lnTo>
                  <a:lnTo>
                    <a:pt x="126" y="197"/>
                  </a:lnTo>
                  <a:lnTo>
                    <a:pt x="132" y="184"/>
                  </a:lnTo>
                  <a:lnTo>
                    <a:pt x="140" y="168"/>
                  </a:lnTo>
                  <a:lnTo>
                    <a:pt x="144" y="153"/>
                  </a:lnTo>
                  <a:lnTo>
                    <a:pt x="146" y="134"/>
                  </a:lnTo>
                  <a:lnTo>
                    <a:pt x="148" y="115"/>
                  </a:lnTo>
                  <a:lnTo>
                    <a:pt x="146" y="97"/>
                  </a:lnTo>
                  <a:lnTo>
                    <a:pt x="144" y="78"/>
                  </a:lnTo>
                  <a:lnTo>
                    <a:pt x="140" y="63"/>
                  </a:lnTo>
                  <a:lnTo>
                    <a:pt x="132" y="48"/>
                  </a:lnTo>
                  <a:lnTo>
                    <a:pt x="126" y="32"/>
                  </a:lnTo>
                  <a:lnTo>
                    <a:pt x="117" y="21"/>
                  </a:lnTo>
                  <a:lnTo>
                    <a:pt x="107" y="11"/>
                  </a:lnTo>
                  <a:lnTo>
                    <a:pt x="98" y="5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2" y="5"/>
                  </a:lnTo>
                  <a:lnTo>
                    <a:pt x="40" y="11"/>
                  </a:lnTo>
                  <a:lnTo>
                    <a:pt x="31" y="21"/>
                  </a:lnTo>
                  <a:lnTo>
                    <a:pt x="23" y="32"/>
                  </a:lnTo>
                  <a:lnTo>
                    <a:pt x="15" y="48"/>
                  </a:lnTo>
                  <a:lnTo>
                    <a:pt x="10" y="63"/>
                  </a:lnTo>
                  <a:lnTo>
                    <a:pt x="4" y="78"/>
                  </a:lnTo>
                  <a:lnTo>
                    <a:pt x="2" y="97"/>
                  </a:lnTo>
                  <a:lnTo>
                    <a:pt x="0" y="115"/>
                  </a:lnTo>
                  <a:lnTo>
                    <a:pt x="2" y="134"/>
                  </a:lnTo>
                  <a:lnTo>
                    <a:pt x="4" y="153"/>
                  </a:lnTo>
                  <a:lnTo>
                    <a:pt x="10" y="168"/>
                  </a:lnTo>
                  <a:lnTo>
                    <a:pt x="15" y="184"/>
                  </a:lnTo>
                  <a:lnTo>
                    <a:pt x="23" y="197"/>
                  </a:lnTo>
                  <a:lnTo>
                    <a:pt x="31" y="210"/>
                  </a:lnTo>
                  <a:lnTo>
                    <a:pt x="40" y="218"/>
                  </a:lnTo>
                  <a:lnTo>
                    <a:pt x="52" y="226"/>
                  </a:lnTo>
                  <a:lnTo>
                    <a:pt x="61" y="230"/>
                  </a:lnTo>
                  <a:lnTo>
                    <a:pt x="75" y="231"/>
                  </a:lnTo>
                  <a:lnTo>
                    <a:pt x="75" y="2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818800" y="3075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884680" y="307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940120" y="30751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961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988360" y="3075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3018960" y="307512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801520" y="31903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82312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880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9077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936520" y="319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961000" y="319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618240" y="5568480"/>
              <a:ext cx="1250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5424840" y="5568480"/>
              <a:ext cx="9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938040" y="2136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4022640" y="2136960"/>
              <a:ext cx="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954240" y="2233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011840" y="22330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954240" y="2335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7432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cionamento do branch taken com mudança na decisão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 --&gt;ID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fig 6.5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2" name=""/>
          <p:cNvGrpSpPr/>
          <p:nvPr/>
        </p:nvGrpSpPr>
        <p:grpSpPr>
          <a:xfrm>
            <a:off x="3174120" y="76320"/>
            <a:ext cx="4808160" cy="6591960"/>
            <a:chOff x="3174120" y="76320"/>
            <a:chExt cx="4808160" cy="6591960"/>
          </a:xfrm>
        </p:grpSpPr>
        <p:grpSp>
          <p:nvGrpSpPr>
            <p:cNvPr id="5473" name=""/>
            <p:cNvGrpSpPr/>
            <p:nvPr/>
          </p:nvGrpSpPr>
          <p:grpSpPr>
            <a:xfrm>
              <a:off x="3323520" y="429120"/>
              <a:ext cx="4579920" cy="2765520"/>
              <a:chOff x="3323520" y="429120"/>
              <a:chExt cx="4579920" cy="2765520"/>
            </a:xfrm>
          </p:grpSpPr>
          <p:sp>
            <p:nvSpPr>
              <p:cNvPr id="5474" name=""/>
              <p:cNvSpPr/>
              <p:nvPr/>
            </p:nvSpPr>
            <p:spPr>
              <a:xfrm>
                <a:off x="6574320" y="1233360"/>
                <a:ext cx="1032840" cy="1802520"/>
              </a:xfrm>
              <a:custGeom>
                <a:avLst/>
                <a:gdLst/>
                <a:ahLst/>
                <a:rect l="l" t="t" r="r" b="b"/>
                <a:pathLst>
                  <a:path w="624" h="1089">
                    <a:moveTo>
                      <a:pt x="624" y="0"/>
                    </a:moveTo>
                    <a:lnTo>
                      <a:pt x="624" y="1089"/>
                    </a:lnTo>
                    <a:lnTo>
                      <a:pt x="0" y="108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 flipH="1">
                <a:off x="5834160" y="2069280"/>
                <a:ext cx="1206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5834520" y="1683360"/>
                <a:ext cx="120600" cy="1511280"/>
              </a:xfrm>
              <a:custGeom>
                <a:avLst/>
                <a:gdLst/>
                <a:ahLst/>
                <a:rect l="l" t="t" r="r" b="b"/>
                <a:pathLst>
                  <a:path w="73" h="913">
                    <a:moveTo>
                      <a:pt x="73" y="0"/>
                    </a:moveTo>
                    <a:lnTo>
                      <a:pt x="0" y="0"/>
                    </a:lnTo>
                    <a:lnTo>
                      <a:pt x="0" y="91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5894280" y="1783080"/>
                <a:ext cx="982800" cy="1350360"/>
              </a:xfrm>
              <a:custGeom>
                <a:avLst/>
                <a:gdLst/>
                <a:ahLst/>
                <a:rect l="l" t="t" r="r" b="b"/>
                <a:pathLst>
                  <a:path w="594" h="816">
                    <a:moveTo>
                      <a:pt x="594" y="290"/>
                    </a:moveTo>
                    <a:lnTo>
                      <a:pt x="594" y="816"/>
                    </a:lnTo>
                    <a:lnTo>
                      <a:pt x="0" y="816"/>
                    </a:ln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 flipH="1">
                <a:off x="5893920" y="2131920"/>
                <a:ext cx="60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5596200" y="2201760"/>
                <a:ext cx="120600" cy="174960"/>
              </a:xfrm>
              <a:custGeom>
                <a:avLst/>
                <a:gdLst/>
                <a:ahLst/>
                <a:rect l="l" t="t" r="r" b="b"/>
                <a:pathLst>
                  <a:path w="73" h="106">
                    <a:moveTo>
                      <a:pt x="0" y="106"/>
                    </a:moveTo>
                    <a:lnTo>
                      <a:pt x="73" y="106"/>
                    </a:lnTo>
                    <a:lnTo>
                      <a:pt x="73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5713560" y="2199960"/>
                <a:ext cx="241560" cy="18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5654160" y="874080"/>
                <a:ext cx="86040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flipH="1">
                <a:off x="5595840" y="1051200"/>
                <a:ext cx="7347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flipH="1">
                <a:off x="7489800" y="1890360"/>
                <a:ext cx="2347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 flipH="1">
                <a:off x="7292520" y="1890360"/>
                <a:ext cx="644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 flipH="1">
                <a:off x="6877080" y="1890360"/>
                <a:ext cx="5292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5071320" y="488160"/>
                <a:ext cx="2535840" cy="998280"/>
              </a:xfrm>
              <a:custGeom>
                <a:avLst/>
                <a:gdLst/>
                <a:ahLst/>
                <a:rect l="l" t="t" r="r" b="b"/>
                <a:pathLst>
                  <a:path w="1532" h="603">
                    <a:moveTo>
                      <a:pt x="0" y="603"/>
                    </a:moveTo>
                    <a:lnTo>
                      <a:pt x="2" y="0"/>
                    </a:lnTo>
                    <a:lnTo>
                      <a:pt x="1532" y="0"/>
                    </a:lnTo>
                    <a:lnTo>
                      <a:pt x="1532" y="450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4632480" y="721800"/>
                <a:ext cx="1023120" cy="2236320"/>
              </a:xfrm>
              <a:custGeom>
                <a:avLst/>
                <a:gdLst/>
                <a:ahLst/>
                <a:rect l="l" t="t" r="r" b="b"/>
                <a:pathLst>
                  <a:path w="618" h="1351">
                    <a:moveTo>
                      <a:pt x="582" y="1217"/>
                    </a:moveTo>
                    <a:lnTo>
                      <a:pt x="618" y="1217"/>
                    </a:lnTo>
                    <a:lnTo>
                      <a:pt x="618" y="1350"/>
                    </a:lnTo>
                    <a:lnTo>
                      <a:pt x="0" y="135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341240" y="2736360"/>
                <a:ext cx="1127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604400" y="1051200"/>
                <a:ext cx="6357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357880" y="1051200"/>
                <a:ext cx="1105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6009840" y="225288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7" y="17"/>
                    </a:lnTo>
                    <a:lnTo>
                      <a:pt x="7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6009840" y="183744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17" y="17"/>
                    </a:lnTo>
                    <a:lnTo>
                      <a:pt x="7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6566040" y="302292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5" y="0"/>
                    </a:moveTo>
                    <a:lnTo>
                      <a:pt x="17" y="15"/>
                    </a:lnTo>
                    <a:lnTo>
                      <a:pt x="0" y="8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7489800" y="1233360"/>
                <a:ext cx="117360" cy="14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6584400" y="1051200"/>
                <a:ext cx="231480" cy="1904760"/>
              </a:xfrm>
              <a:custGeom>
                <a:avLst/>
                <a:gdLst/>
                <a:ahLst/>
                <a:rect l="l" t="t" r="r" b="b"/>
                <a:pathLst>
                  <a:path w="140" h="1151">
                    <a:moveTo>
                      <a:pt x="140" y="0"/>
                    </a:moveTo>
                    <a:lnTo>
                      <a:pt x="140" y="1151"/>
                    </a:lnTo>
                    <a:lnTo>
                      <a:pt x="0" y="1151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6021360" y="2272680"/>
                <a:ext cx="140760" cy="642240"/>
              </a:xfrm>
              <a:custGeom>
                <a:avLst/>
                <a:gdLst/>
                <a:ahLst/>
                <a:rect l="l" t="t" r="r" b="b"/>
                <a:pathLst>
                  <a:path w="85" h="388">
                    <a:moveTo>
                      <a:pt x="0" y="0"/>
                    </a:moveTo>
                    <a:lnTo>
                      <a:pt x="0" y="34"/>
                    </a:lnTo>
                    <a:lnTo>
                      <a:pt x="31" y="34"/>
                    </a:lnTo>
                    <a:lnTo>
                      <a:pt x="31" y="388"/>
                    </a:lnTo>
                    <a:lnTo>
                      <a:pt x="85" y="38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6021360" y="1855800"/>
                <a:ext cx="152280" cy="1029600"/>
              </a:xfrm>
              <a:custGeom>
                <a:avLst/>
                <a:gdLst/>
                <a:ahLst/>
                <a:rect l="l" t="t" r="r" b="b"/>
                <a:pathLst>
                  <a:path w="92" h="622">
                    <a:moveTo>
                      <a:pt x="0" y="0"/>
                    </a:moveTo>
                    <a:lnTo>
                      <a:pt x="0" y="35"/>
                    </a:lnTo>
                    <a:lnTo>
                      <a:pt x="67" y="35"/>
                    </a:lnTo>
                    <a:lnTo>
                      <a:pt x="67" y="622"/>
                    </a:lnTo>
                    <a:lnTo>
                      <a:pt x="92" y="622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131000" y="128988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5" y="0"/>
                    </a:moveTo>
                    <a:lnTo>
                      <a:pt x="0" y="2"/>
                    </a:lnTo>
                    <a:lnTo>
                      <a:pt x="8" y="18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141440" y="587880"/>
                <a:ext cx="294480" cy="708120"/>
              </a:xfrm>
              <a:custGeom>
                <a:avLst/>
                <a:gdLst/>
                <a:ahLst/>
                <a:rect l="l" t="t" r="r" b="b"/>
                <a:pathLst>
                  <a:path w="178" h="428">
                    <a:moveTo>
                      <a:pt x="0" y="428"/>
                    </a:moveTo>
                    <a:lnTo>
                      <a:pt x="2" y="0"/>
                    </a:lnTo>
                    <a:lnTo>
                      <a:pt x="178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510720" y="549720"/>
                <a:ext cx="925200" cy="1198080"/>
              </a:xfrm>
              <a:custGeom>
                <a:avLst/>
                <a:gdLst/>
                <a:ahLst/>
                <a:rect l="l" t="t" r="r" b="b"/>
                <a:pathLst>
                  <a:path w="559" h="724">
                    <a:moveTo>
                      <a:pt x="0" y="724"/>
                    </a:moveTo>
                    <a:lnTo>
                      <a:pt x="0" y="0"/>
                    </a:lnTo>
                    <a:lnTo>
                      <a:pt x="559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498840" y="1744560"/>
                <a:ext cx="24480" cy="248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0" y="0"/>
                    </a:lnTo>
                    <a:lnTo>
                      <a:pt x="7" y="1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323520" y="429120"/>
                <a:ext cx="772920" cy="2400120"/>
              </a:xfrm>
              <a:custGeom>
                <a:avLst/>
                <a:gdLst/>
                <a:ahLst/>
                <a:rect l="l" t="t" r="r" b="b"/>
                <a:pathLst>
                  <a:path w="467" h="1450">
                    <a:moveTo>
                      <a:pt x="0" y="0"/>
                    </a:moveTo>
                    <a:lnTo>
                      <a:pt x="0" y="1450"/>
                    </a:lnTo>
                    <a:lnTo>
                      <a:pt x="467" y="145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086360" y="281268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7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5061600" y="1481400"/>
                <a:ext cx="25920" cy="280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0"/>
                    </a:moveTo>
                    <a:lnTo>
                      <a:pt x="0" y="1"/>
                    </a:lnTo>
                    <a:lnTo>
                      <a:pt x="8" y="17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5491800" y="1144080"/>
                <a:ext cx="104040" cy="17856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63" y="108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3" y="108"/>
                    </a:lnTo>
                    <a:lnTo>
                      <a:pt x="63" y="10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5491800" y="1144080"/>
                <a:ext cx="104040" cy="17856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63" y="108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3" y="108"/>
                    </a:lnTo>
                    <a:lnTo>
                      <a:pt x="63" y="10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842720" y="1961640"/>
                <a:ext cx="2484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0" y="17"/>
                    </a:lnTo>
                    <a:lnTo>
                      <a:pt x="15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460680" y="1776240"/>
                <a:ext cx="100800" cy="276480"/>
              </a:xfrm>
              <a:custGeom>
                <a:avLst/>
                <a:gdLst/>
                <a:ahLst/>
                <a:rect l="l" t="t" r="r" b="b"/>
                <a:pathLst>
                  <a:path w="61" h="167">
                    <a:moveTo>
                      <a:pt x="59" y="167"/>
                    </a:moveTo>
                    <a:lnTo>
                      <a:pt x="61" y="0"/>
                    </a:lnTo>
                    <a:lnTo>
                      <a:pt x="0" y="0"/>
                    </a:lnTo>
                    <a:lnTo>
                      <a:pt x="0" y="167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59" y="16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460680" y="1776240"/>
                <a:ext cx="100800" cy="276480"/>
              </a:xfrm>
              <a:custGeom>
                <a:avLst/>
                <a:gdLst/>
                <a:ahLst/>
                <a:rect l="l" t="t" r="r" b="b"/>
                <a:pathLst>
                  <a:path w="61" h="167">
                    <a:moveTo>
                      <a:pt x="59" y="167"/>
                    </a:moveTo>
                    <a:lnTo>
                      <a:pt x="61" y="0"/>
                    </a:lnTo>
                    <a:lnTo>
                      <a:pt x="0" y="0"/>
                    </a:lnTo>
                    <a:lnTo>
                      <a:pt x="0" y="167"/>
                    </a:lnTo>
                    <a:lnTo>
                      <a:pt x="61" y="167"/>
                    </a:lnTo>
                    <a:lnTo>
                      <a:pt x="61" y="1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75080" y="18838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510360" y="188388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699000" y="1602360"/>
                <a:ext cx="167400" cy="62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699000" y="1602360"/>
                <a:ext cx="167400" cy="62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866400" y="1602360"/>
                <a:ext cx="171720" cy="62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866400" y="1602360"/>
                <a:ext cx="171720" cy="62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740760" y="18525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751920" y="1852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785040" y="185256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811320" y="18525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823560" y="185256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3841560" y="1852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868920" y="185256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3899520" y="18525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3911040" y="185256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3924360" y="1852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952440" y="1852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3981960" y="18525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3776760" y="191844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3820680" y="19184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3849480" y="191844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3893400" y="19184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3921120" y="191844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3937320" y="191844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6957000" y="1582560"/>
                <a:ext cx="335880" cy="622080"/>
              </a:xfrm>
              <a:custGeom>
                <a:avLst/>
                <a:gdLst/>
                <a:ahLst/>
                <a:rect l="l" t="t" r="r" b="b"/>
                <a:pathLst>
                  <a:path w="203" h="376">
                    <a:moveTo>
                      <a:pt x="203" y="374"/>
                    </a:moveTo>
                    <a:lnTo>
                      <a:pt x="203" y="0"/>
                    </a:lnTo>
                    <a:lnTo>
                      <a:pt x="0" y="0"/>
                    </a:lnTo>
                    <a:lnTo>
                      <a:pt x="0" y="376"/>
                    </a:lnTo>
                    <a:lnTo>
                      <a:pt x="203" y="376"/>
                    </a:lnTo>
                    <a:lnTo>
                      <a:pt x="203" y="376"/>
                    </a:lnTo>
                    <a:lnTo>
                      <a:pt x="203" y="3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6957000" y="1582560"/>
                <a:ext cx="335880" cy="622080"/>
              </a:xfrm>
              <a:custGeom>
                <a:avLst/>
                <a:gdLst/>
                <a:ahLst/>
                <a:rect l="l" t="t" r="r" b="b"/>
                <a:pathLst>
                  <a:path w="203" h="376">
                    <a:moveTo>
                      <a:pt x="203" y="374"/>
                    </a:moveTo>
                    <a:lnTo>
                      <a:pt x="203" y="0"/>
                    </a:lnTo>
                    <a:lnTo>
                      <a:pt x="0" y="0"/>
                    </a:lnTo>
                    <a:lnTo>
                      <a:pt x="0" y="376"/>
                    </a:lnTo>
                    <a:lnTo>
                      <a:pt x="203" y="376"/>
                    </a:lnTo>
                    <a:lnTo>
                      <a:pt x="203" y="37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4842720" y="2049480"/>
                <a:ext cx="28080" cy="259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0" y="16"/>
                    </a:lnTo>
                    <a:lnTo>
                      <a:pt x="17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619800" y="1244880"/>
                <a:ext cx="166680" cy="668520"/>
              </a:xfrm>
              <a:custGeom>
                <a:avLst/>
                <a:gdLst/>
                <a:ahLst/>
                <a:rect l="l" t="t" r="r" b="b"/>
                <a:pathLst>
                  <a:path w="101" h="404">
                    <a:moveTo>
                      <a:pt x="101" y="0"/>
                    </a:moveTo>
                    <a:lnTo>
                      <a:pt x="0" y="2"/>
                    </a:lnTo>
                    <a:lnTo>
                      <a:pt x="0" y="4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 flipH="1">
                <a:off x="3730680" y="1483560"/>
                <a:ext cx="561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3810240" y="1165320"/>
                <a:ext cx="130320" cy="400320"/>
              </a:xfrm>
              <a:custGeom>
                <a:avLst/>
                <a:gdLst/>
                <a:ahLst/>
                <a:rect l="l" t="t" r="r" b="b"/>
                <a:pathLst>
                  <a:path w="79" h="242">
                    <a:moveTo>
                      <a:pt x="0" y="0"/>
                    </a:moveTo>
                    <a:lnTo>
                      <a:pt x="0" y="98"/>
                    </a:lnTo>
                    <a:lnTo>
                      <a:pt x="25" y="121"/>
                    </a:lnTo>
                    <a:lnTo>
                      <a:pt x="0" y="144"/>
                    </a:lnTo>
                    <a:lnTo>
                      <a:pt x="0" y="242"/>
                    </a:lnTo>
                    <a:lnTo>
                      <a:pt x="79" y="169"/>
                    </a:lnTo>
                    <a:lnTo>
                      <a:pt x="79" y="7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3810240" y="1165320"/>
                <a:ext cx="130320" cy="400320"/>
              </a:xfrm>
              <a:custGeom>
                <a:avLst/>
                <a:gdLst/>
                <a:ahLst/>
                <a:rect l="l" t="t" r="r" b="b"/>
                <a:pathLst>
                  <a:path w="79" h="242">
                    <a:moveTo>
                      <a:pt x="0" y="0"/>
                    </a:moveTo>
                    <a:lnTo>
                      <a:pt x="0" y="98"/>
                    </a:lnTo>
                    <a:lnTo>
                      <a:pt x="25" y="121"/>
                    </a:lnTo>
                    <a:lnTo>
                      <a:pt x="0" y="144"/>
                    </a:lnTo>
                    <a:lnTo>
                      <a:pt x="0" y="242"/>
                    </a:lnTo>
                    <a:lnTo>
                      <a:pt x="79" y="169"/>
                    </a:lnTo>
                    <a:lnTo>
                      <a:pt x="79" y="7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5942160" y="198972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942160" y="218700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6215040" y="208728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2" y="18"/>
                    </a:lnTo>
                    <a:lnTo>
                      <a:pt x="1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flipH="1">
                <a:off x="6072480" y="2100960"/>
                <a:ext cx="158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713360" y="187920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713360" y="207900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2" y="15"/>
                    </a:lnTo>
                    <a:lnTo>
                      <a:pt x="17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3606480" y="190044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8" y="15"/>
                    </a:move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3778560" y="123336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3778560" y="147168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3677040" y="1455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3558600" y="1913760"/>
                <a:ext cx="120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3669480" y="190044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0" y="15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3431160" y="190044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0" y="15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4652640" y="2166840"/>
                <a:ext cx="193680" cy="420120"/>
              </a:xfrm>
              <a:custGeom>
                <a:avLst/>
                <a:gdLst/>
                <a:ahLst/>
                <a:rect l="l" t="t" r="r" b="b"/>
                <a:pathLst>
                  <a:path w="117" h="254">
                    <a:moveTo>
                      <a:pt x="57" y="254"/>
                    </a:moveTo>
                    <a:lnTo>
                      <a:pt x="69" y="254"/>
                    </a:lnTo>
                    <a:lnTo>
                      <a:pt x="77" y="248"/>
                    </a:lnTo>
                    <a:lnTo>
                      <a:pt x="86" y="240"/>
                    </a:lnTo>
                    <a:lnTo>
                      <a:pt x="94" y="231"/>
                    </a:lnTo>
                    <a:lnTo>
                      <a:pt x="100" y="217"/>
                    </a:lnTo>
                    <a:lnTo>
                      <a:pt x="105" y="202"/>
                    </a:lnTo>
                    <a:lnTo>
                      <a:pt x="109" y="187"/>
                    </a:lnTo>
                    <a:lnTo>
                      <a:pt x="113" y="167"/>
                    </a:lnTo>
                    <a:lnTo>
                      <a:pt x="115" y="148"/>
                    </a:lnTo>
                    <a:lnTo>
                      <a:pt x="117" y="127"/>
                    </a:lnTo>
                    <a:lnTo>
                      <a:pt x="115" y="106"/>
                    </a:lnTo>
                    <a:lnTo>
                      <a:pt x="113" y="87"/>
                    </a:lnTo>
                    <a:lnTo>
                      <a:pt x="109" y="68"/>
                    </a:lnTo>
                    <a:lnTo>
                      <a:pt x="105" y="52"/>
                    </a:lnTo>
                    <a:lnTo>
                      <a:pt x="100" y="37"/>
                    </a:lnTo>
                    <a:lnTo>
                      <a:pt x="94" y="23"/>
                    </a:lnTo>
                    <a:lnTo>
                      <a:pt x="86" y="14"/>
                    </a:lnTo>
                    <a:lnTo>
                      <a:pt x="77" y="6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40" y="6"/>
                    </a:lnTo>
                    <a:lnTo>
                      <a:pt x="30" y="14"/>
                    </a:lnTo>
                    <a:lnTo>
                      <a:pt x="23" y="23"/>
                    </a:lnTo>
                    <a:lnTo>
                      <a:pt x="17" y="37"/>
                    </a:lnTo>
                    <a:lnTo>
                      <a:pt x="11" y="52"/>
                    </a:lnTo>
                    <a:lnTo>
                      <a:pt x="7" y="68"/>
                    </a:lnTo>
                    <a:lnTo>
                      <a:pt x="4" y="87"/>
                    </a:lnTo>
                    <a:lnTo>
                      <a:pt x="2" y="106"/>
                    </a:lnTo>
                    <a:lnTo>
                      <a:pt x="0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7" y="187"/>
                    </a:lnTo>
                    <a:lnTo>
                      <a:pt x="11" y="202"/>
                    </a:lnTo>
                    <a:lnTo>
                      <a:pt x="17" y="217"/>
                    </a:lnTo>
                    <a:lnTo>
                      <a:pt x="23" y="231"/>
                    </a:lnTo>
                    <a:lnTo>
                      <a:pt x="30" y="240"/>
                    </a:lnTo>
                    <a:lnTo>
                      <a:pt x="40" y="248"/>
                    </a:lnTo>
                    <a:lnTo>
                      <a:pt x="48" y="254"/>
                    </a:lnTo>
                    <a:lnTo>
                      <a:pt x="59" y="254"/>
                    </a:lnTo>
                    <a:lnTo>
                      <a:pt x="59" y="254"/>
                    </a:lnTo>
                    <a:lnTo>
                      <a:pt x="57" y="25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4652640" y="2166840"/>
                <a:ext cx="193680" cy="420120"/>
              </a:xfrm>
              <a:custGeom>
                <a:avLst/>
                <a:gdLst/>
                <a:ahLst/>
                <a:rect l="l" t="t" r="r" b="b"/>
                <a:pathLst>
                  <a:path w="117" h="254">
                    <a:moveTo>
                      <a:pt x="57" y="254"/>
                    </a:moveTo>
                    <a:lnTo>
                      <a:pt x="69" y="254"/>
                    </a:lnTo>
                    <a:lnTo>
                      <a:pt x="77" y="248"/>
                    </a:lnTo>
                    <a:lnTo>
                      <a:pt x="86" y="240"/>
                    </a:lnTo>
                    <a:lnTo>
                      <a:pt x="94" y="231"/>
                    </a:lnTo>
                    <a:lnTo>
                      <a:pt x="100" y="217"/>
                    </a:lnTo>
                    <a:lnTo>
                      <a:pt x="105" y="202"/>
                    </a:lnTo>
                    <a:lnTo>
                      <a:pt x="109" y="187"/>
                    </a:lnTo>
                    <a:lnTo>
                      <a:pt x="113" y="167"/>
                    </a:lnTo>
                    <a:lnTo>
                      <a:pt x="115" y="148"/>
                    </a:lnTo>
                    <a:lnTo>
                      <a:pt x="117" y="127"/>
                    </a:lnTo>
                    <a:lnTo>
                      <a:pt x="115" y="106"/>
                    </a:lnTo>
                    <a:lnTo>
                      <a:pt x="113" y="87"/>
                    </a:lnTo>
                    <a:lnTo>
                      <a:pt x="109" y="68"/>
                    </a:lnTo>
                    <a:lnTo>
                      <a:pt x="105" y="52"/>
                    </a:lnTo>
                    <a:lnTo>
                      <a:pt x="100" y="37"/>
                    </a:lnTo>
                    <a:lnTo>
                      <a:pt x="94" y="23"/>
                    </a:lnTo>
                    <a:lnTo>
                      <a:pt x="86" y="14"/>
                    </a:lnTo>
                    <a:lnTo>
                      <a:pt x="77" y="6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40" y="6"/>
                    </a:lnTo>
                    <a:lnTo>
                      <a:pt x="30" y="14"/>
                    </a:lnTo>
                    <a:lnTo>
                      <a:pt x="23" y="23"/>
                    </a:lnTo>
                    <a:lnTo>
                      <a:pt x="17" y="37"/>
                    </a:lnTo>
                    <a:lnTo>
                      <a:pt x="11" y="52"/>
                    </a:lnTo>
                    <a:lnTo>
                      <a:pt x="7" y="68"/>
                    </a:lnTo>
                    <a:lnTo>
                      <a:pt x="4" y="87"/>
                    </a:lnTo>
                    <a:lnTo>
                      <a:pt x="2" y="106"/>
                    </a:lnTo>
                    <a:lnTo>
                      <a:pt x="0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7" y="187"/>
                    </a:lnTo>
                    <a:lnTo>
                      <a:pt x="11" y="202"/>
                    </a:lnTo>
                    <a:lnTo>
                      <a:pt x="17" y="217"/>
                    </a:lnTo>
                    <a:lnTo>
                      <a:pt x="23" y="231"/>
                    </a:lnTo>
                    <a:lnTo>
                      <a:pt x="30" y="240"/>
                    </a:lnTo>
                    <a:lnTo>
                      <a:pt x="40" y="248"/>
                    </a:lnTo>
                    <a:lnTo>
                      <a:pt x="48" y="254"/>
                    </a:lnTo>
                    <a:lnTo>
                      <a:pt x="59" y="254"/>
                    </a:lnTo>
                    <a:lnTo>
                      <a:pt x="59" y="25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744680" y="1842480"/>
                <a:ext cx="100800" cy="299520"/>
              </a:xfrm>
              <a:custGeom>
                <a:avLst/>
                <a:gdLst/>
                <a:ahLst/>
                <a:rect l="l" t="t" r="r" b="b"/>
                <a:pathLst>
                  <a:path w="61" h="181">
                    <a:moveTo>
                      <a:pt x="0" y="29"/>
                    </a:moveTo>
                    <a:lnTo>
                      <a:pt x="2" y="25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0" y="2"/>
                    </a:lnTo>
                    <a:lnTo>
                      <a:pt x="44" y="4"/>
                    </a:lnTo>
                    <a:lnTo>
                      <a:pt x="48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59" y="22"/>
                    </a:lnTo>
                    <a:lnTo>
                      <a:pt x="59" y="25"/>
                    </a:lnTo>
                    <a:lnTo>
                      <a:pt x="61" y="31"/>
                    </a:lnTo>
                    <a:lnTo>
                      <a:pt x="61" y="150"/>
                    </a:lnTo>
                    <a:lnTo>
                      <a:pt x="59" y="156"/>
                    </a:lnTo>
                    <a:lnTo>
                      <a:pt x="59" y="160"/>
                    </a:lnTo>
                    <a:lnTo>
                      <a:pt x="58" y="164"/>
                    </a:lnTo>
                    <a:lnTo>
                      <a:pt x="56" y="168"/>
                    </a:lnTo>
                    <a:lnTo>
                      <a:pt x="52" y="171"/>
                    </a:lnTo>
                    <a:lnTo>
                      <a:pt x="48" y="175"/>
                    </a:lnTo>
                    <a:lnTo>
                      <a:pt x="44" y="177"/>
                    </a:lnTo>
                    <a:lnTo>
                      <a:pt x="40" y="179"/>
                    </a:lnTo>
                    <a:lnTo>
                      <a:pt x="36" y="179"/>
                    </a:lnTo>
                    <a:lnTo>
                      <a:pt x="31" y="181"/>
                    </a:lnTo>
                    <a:lnTo>
                      <a:pt x="25" y="179"/>
                    </a:lnTo>
                    <a:lnTo>
                      <a:pt x="21" y="179"/>
                    </a:lnTo>
                    <a:lnTo>
                      <a:pt x="17" y="177"/>
                    </a:lnTo>
                    <a:lnTo>
                      <a:pt x="13" y="175"/>
                    </a:lnTo>
                    <a:lnTo>
                      <a:pt x="10" y="171"/>
                    </a:lnTo>
                    <a:lnTo>
                      <a:pt x="6" y="168"/>
                    </a:lnTo>
                    <a:lnTo>
                      <a:pt x="4" y="164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0" y="15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744680" y="1842480"/>
                <a:ext cx="100800" cy="299520"/>
              </a:xfrm>
              <a:custGeom>
                <a:avLst/>
                <a:gdLst/>
                <a:ahLst/>
                <a:rect l="l" t="t" r="r" b="b"/>
                <a:pathLst>
                  <a:path w="61" h="181">
                    <a:moveTo>
                      <a:pt x="0" y="29"/>
                    </a:moveTo>
                    <a:lnTo>
                      <a:pt x="2" y="25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0" y="2"/>
                    </a:lnTo>
                    <a:lnTo>
                      <a:pt x="44" y="4"/>
                    </a:lnTo>
                    <a:lnTo>
                      <a:pt x="48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59" y="22"/>
                    </a:lnTo>
                    <a:lnTo>
                      <a:pt x="59" y="25"/>
                    </a:lnTo>
                    <a:lnTo>
                      <a:pt x="61" y="31"/>
                    </a:lnTo>
                    <a:lnTo>
                      <a:pt x="61" y="150"/>
                    </a:lnTo>
                    <a:lnTo>
                      <a:pt x="59" y="156"/>
                    </a:lnTo>
                    <a:lnTo>
                      <a:pt x="59" y="160"/>
                    </a:lnTo>
                    <a:lnTo>
                      <a:pt x="58" y="164"/>
                    </a:lnTo>
                    <a:lnTo>
                      <a:pt x="56" y="168"/>
                    </a:lnTo>
                    <a:lnTo>
                      <a:pt x="52" y="171"/>
                    </a:lnTo>
                    <a:lnTo>
                      <a:pt x="48" y="175"/>
                    </a:lnTo>
                    <a:lnTo>
                      <a:pt x="44" y="177"/>
                    </a:lnTo>
                    <a:lnTo>
                      <a:pt x="40" y="179"/>
                    </a:lnTo>
                    <a:lnTo>
                      <a:pt x="36" y="179"/>
                    </a:lnTo>
                    <a:lnTo>
                      <a:pt x="31" y="181"/>
                    </a:lnTo>
                    <a:lnTo>
                      <a:pt x="25" y="179"/>
                    </a:lnTo>
                    <a:lnTo>
                      <a:pt x="21" y="179"/>
                    </a:lnTo>
                    <a:lnTo>
                      <a:pt x="17" y="177"/>
                    </a:lnTo>
                    <a:lnTo>
                      <a:pt x="13" y="175"/>
                    </a:lnTo>
                    <a:lnTo>
                      <a:pt x="10" y="171"/>
                    </a:lnTo>
                    <a:lnTo>
                      <a:pt x="6" y="168"/>
                    </a:lnTo>
                    <a:lnTo>
                      <a:pt x="4" y="164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0" y="150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5972040" y="1954800"/>
                <a:ext cx="100800" cy="294480"/>
              </a:xfrm>
              <a:custGeom>
                <a:avLst/>
                <a:gdLst/>
                <a:ahLst/>
                <a:rect l="l" t="t" r="r" b="b"/>
                <a:pathLst>
                  <a:path w="61" h="178">
                    <a:moveTo>
                      <a:pt x="0" y="28"/>
                    </a:moveTo>
                    <a:lnTo>
                      <a:pt x="1" y="25"/>
                    </a:lnTo>
                    <a:lnTo>
                      <a:pt x="3" y="19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9" y="7"/>
                    </a:lnTo>
                    <a:lnTo>
                      <a:pt x="13" y="5"/>
                    </a:lnTo>
                    <a:lnTo>
                      <a:pt x="17" y="2"/>
                    </a:lnTo>
                    <a:lnTo>
                      <a:pt x="23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2"/>
                    </a:lnTo>
                    <a:lnTo>
                      <a:pt x="46" y="2"/>
                    </a:lnTo>
                    <a:lnTo>
                      <a:pt x="49" y="5"/>
                    </a:lnTo>
                    <a:lnTo>
                      <a:pt x="51" y="7"/>
                    </a:lnTo>
                    <a:lnTo>
                      <a:pt x="55" y="11"/>
                    </a:lnTo>
                    <a:lnTo>
                      <a:pt x="57" y="15"/>
                    </a:lnTo>
                    <a:lnTo>
                      <a:pt x="59" y="19"/>
                    </a:lnTo>
                    <a:lnTo>
                      <a:pt x="61" y="25"/>
                    </a:lnTo>
                    <a:lnTo>
                      <a:pt x="61" y="28"/>
                    </a:lnTo>
                    <a:lnTo>
                      <a:pt x="61" y="149"/>
                    </a:lnTo>
                    <a:lnTo>
                      <a:pt x="61" y="153"/>
                    </a:lnTo>
                    <a:lnTo>
                      <a:pt x="59" y="159"/>
                    </a:lnTo>
                    <a:lnTo>
                      <a:pt x="57" y="163"/>
                    </a:lnTo>
                    <a:lnTo>
                      <a:pt x="55" y="167"/>
                    </a:lnTo>
                    <a:lnTo>
                      <a:pt x="51" y="171"/>
                    </a:lnTo>
                    <a:lnTo>
                      <a:pt x="49" y="172"/>
                    </a:lnTo>
                    <a:lnTo>
                      <a:pt x="46" y="174"/>
                    </a:lnTo>
                    <a:lnTo>
                      <a:pt x="40" y="176"/>
                    </a:lnTo>
                    <a:lnTo>
                      <a:pt x="36" y="178"/>
                    </a:lnTo>
                    <a:lnTo>
                      <a:pt x="30" y="178"/>
                    </a:lnTo>
                    <a:lnTo>
                      <a:pt x="26" y="178"/>
                    </a:lnTo>
                    <a:lnTo>
                      <a:pt x="23" y="176"/>
                    </a:lnTo>
                    <a:lnTo>
                      <a:pt x="17" y="174"/>
                    </a:lnTo>
                    <a:lnTo>
                      <a:pt x="13" y="172"/>
                    </a:lnTo>
                    <a:lnTo>
                      <a:pt x="9" y="171"/>
                    </a:lnTo>
                    <a:lnTo>
                      <a:pt x="7" y="167"/>
                    </a:lnTo>
                    <a:lnTo>
                      <a:pt x="5" y="163"/>
                    </a:lnTo>
                    <a:lnTo>
                      <a:pt x="3" y="159"/>
                    </a:lnTo>
                    <a:lnTo>
                      <a:pt x="1" y="153"/>
                    </a:lnTo>
                    <a:lnTo>
                      <a:pt x="1" y="149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5972040" y="1954800"/>
                <a:ext cx="100800" cy="294480"/>
              </a:xfrm>
              <a:custGeom>
                <a:avLst/>
                <a:gdLst/>
                <a:ahLst/>
                <a:rect l="l" t="t" r="r" b="b"/>
                <a:pathLst>
                  <a:path w="61" h="178">
                    <a:moveTo>
                      <a:pt x="0" y="28"/>
                    </a:moveTo>
                    <a:lnTo>
                      <a:pt x="1" y="25"/>
                    </a:lnTo>
                    <a:lnTo>
                      <a:pt x="3" y="19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9" y="7"/>
                    </a:lnTo>
                    <a:lnTo>
                      <a:pt x="13" y="5"/>
                    </a:lnTo>
                    <a:lnTo>
                      <a:pt x="17" y="2"/>
                    </a:lnTo>
                    <a:lnTo>
                      <a:pt x="23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2"/>
                    </a:lnTo>
                    <a:lnTo>
                      <a:pt x="46" y="2"/>
                    </a:lnTo>
                    <a:lnTo>
                      <a:pt x="49" y="5"/>
                    </a:lnTo>
                    <a:lnTo>
                      <a:pt x="51" y="7"/>
                    </a:lnTo>
                    <a:lnTo>
                      <a:pt x="55" y="11"/>
                    </a:lnTo>
                    <a:lnTo>
                      <a:pt x="57" y="15"/>
                    </a:lnTo>
                    <a:lnTo>
                      <a:pt x="59" y="19"/>
                    </a:lnTo>
                    <a:lnTo>
                      <a:pt x="61" y="25"/>
                    </a:lnTo>
                    <a:lnTo>
                      <a:pt x="61" y="28"/>
                    </a:lnTo>
                    <a:lnTo>
                      <a:pt x="61" y="149"/>
                    </a:lnTo>
                    <a:lnTo>
                      <a:pt x="61" y="153"/>
                    </a:lnTo>
                    <a:lnTo>
                      <a:pt x="59" y="159"/>
                    </a:lnTo>
                    <a:lnTo>
                      <a:pt x="57" y="163"/>
                    </a:lnTo>
                    <a:lnTo>
                      <a:pt x="55" y="167"/>
                    </a:lnTo>
                    <a:lnTo>
                      <a:pt x="51" y="171"/>
                    </a:lnTo>
                    <a:lnTo>
                      <a:pt x="49" y="172"/>
                    </a:lnTo>
                    <a:lnTo>
                      <a:pt x="46" y="174"/>
                    </a:lnTo>
                    <a:lnTo>
                      <a:pt x="40" y="176"/>
                    </a:lnTo>
                    <a:lnTo>
                      <a:pt x="36" y="178"/>
                    </a:lnTo>
                    <a:lnTo>
                      <a:pt x="30" y="178"/>
                    </a:lnTo>
                    <a:lnTo>
                      <a:pt x="26" y="178"/>
                    </a:lnTo>
                    <a:lnTo>
                      <a:pt x="23" y="176"/>
                    </a:lnTo>
                    <a:lnTo>
                      <a:pt x="17" y="174"/>
                    </a:lnTo>
                    <a:lnTo>
                      <a:pt x="13" y="172"/>
                    </a:lnTo>
                    <a:lnTo>
                      <a:pt x="9" y="171"/>
                    </a:lnTo>
                    <a:lnTo>
                      <a:pt x="7" y="167"/>
                    </a:lnTo>
                    <a:lnTo>
                      <a:pt x="5" y="163"/>
                    </a:lnTo>
                    <a:lnTo>
                      <a:pt x="3" y="159"/>
                    </a:lnTo>
                    <a:lnTo>
                      <a:pt x="1" y="153"/>
                    </a:lnTo>
                    <a:lnTo>
                      <a:pt x="1" y="149"/>
                    </a:lnTo>
                    <a:lnTo>
                      <a:pt x="1" y="28"/>
                    </a:lnTo>
                    <a:lnTo>
                      <a:pt x="1" y="2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4359600" y="103968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4874400" y="1513080"/>
                <a:ext cx="200160" cy="622080"/>
              </a:xfrm>
              <a:custGeom>
                <a:avLst/>
                <a:gdLst/>
                <a:ahLst/>
                <a:rect l="l" t="t" r="r" b="b"/>
                <a:pathLst>
                  <a:path w="121" h="376">
                    <a:moveTo>
                      <a:pt x="119" y="0"/>
                    </a:moveTo>
                    <a:lnTo>
                      <a:pt x="0" y="0"/>
                    </a:lnTo>
                    <a:lnTo>
                      <a:pt x="0" y="376"/>
                    </a:lnTo>
                    <a:lnTo>
                      <a:pt x="121" y="376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4874400" y="1513080"/>
                <a:ext cx="200160" cy="622080"/>
              </a:xfrm>
              <a:custGeom>
                <a:avLst/>
                <a:gdLst/>
                <a:ahLst/>
                <a:rect l="l" t="t" r="r" b="b"/>
                <a:pathLst>
                  <a:path w="121" h="376">
                    <a:moveTo>
                      <a:pt x="119" y="0"/>
                    </a:moveTo>
                    <a:lnTo>
                      <a:pt x="0" y="0"/>
                    </a:lnTo>
                    <a:lnTo>
                      <a:pt x="0" y="376"/>
                    </a:lnTo>
                    <a:lnTo>
                      <a:pt x="121" y="37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5071320" y="1513080"/>
                <a:ext cx="200160" cy="622080"/>
              </a:xfrm>
              <a:custGeom>
                <a:avLst/>
                <a:gdLst/>
                <a:ahLst/>
                <a:rect l="l" t="t" r="r" b="b"/>
                <a:pathLst>
                  <a:path w="121" h="376">
                    <a:moveTo>
                      <a:pt x="0" y="376"/>
                    </a:moveTo>
                    <a:lnTo>
                      <a:pt x="121" y="376"/>
                    </a:lnTo>
                    <a:lnTo>
                      <a:pt x="121" y="0"/>
                    </a:lnTo>
                    <a:lnTo>
                      <a:pt x="2" y="0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5071320" y="1513080"/>
                <a:ext cx="200160" cy="622080"/>
              </a:xfrm>
              <a:custGeom>
                <a:avLst/>
                <a:gdLst/>
                <a:ahLst/>
                <a:rect l="l" t="t" r="r" b="b"/>
                <a:pathLst>
                  <a:path w="121" h="376">
                    <a:moveTo>
                      <a:pt x="0" y="376"/>
                    </a:moveTo>
                    <a:lnTo>
                      <a:pt x="121" y="376"/>
                    </a:lnTo>
                    <a:lnTo>
                      <a:pt x="121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4957200" y="179460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4996080" y="1794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5027400" y="1794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5056560" y="179460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5068080" y="17946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5094720" y="17946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5110200" y="1794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5137920" y="179460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5154120" y="17946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4576680" y="1993320"/>
                <a:ext cx="3326760" cy="1201320"/>
              </a:xfrm>
              <a:custGeom>
                <a:avLst/>
                <a:gdLst/>
                <a:ahLst/>
                <a:rect l="l" t="t" r="r" b="b"/>
                <a:pathLst>
                  <a:path w="2010" h="726">
                    <a:moveTo>
                      <a:pt x="167" y="42"/>
                    </a:moveTo>
                    <a:lnTo>
                      <a:pt x="0" y="42"/>
                    </a:lnTo>
                    <a:lnTo>
                      <a:pt x="0" y="726"/>
                    </a:lnTo>
                    <a:lnTo>
                      <a:pt x="2010" y="726"/>
                    </a:lnTo>
                    <a:lnTo>
                      <a:pt x="2010" y="0"/>
                    </a:lnTo>
                    <a:lnTo>
                      <a:pt x="19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4341240" y="2373840"/>
                <a:ext cx="311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4693320" y="23158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4728600" y="231588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4741200" y="2315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4770000" y="2315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4801680" y="23158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4664880" y="2383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4692960" y="238392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4718880" y="238392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4735440" y="2383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4763520" y="2383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4795200" y="2383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4846320" y="2373840"/>
                <a:ext cx="6220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6000480" y="20178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6044760" y="20178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6010560" y="2072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6037920" y="20728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6008760" y="21222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7770960" y="191016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7814160" y="19101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7779960" y="19602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7807680" y="19602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7778160" y="201456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5458680" y="198972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 flipH="1">
                <a:off x="5595840" y="2001600"/>
                <a:ext cx="358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 flipH="1">
                <a:off x="5271840" y="2001600"/>
                <a:ext cx="190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6864120" y="1882080"/>
                <a:ext cx="24480" cy="248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8" y="15"/>
                    </a:moveTo>
                    <a:lnTo>
                      <a:pt x="10" y="15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4391280" y="822600"/>
                <a:ext cx="213120" cy="463320"/>
              </a:xfrm>
              <a:custGeom>
                <a:avLst/>
                <a:gdLst/>
                <a:ahLst/>
                <a:rect l="l" t="t" r="r" b="b"/>
                <a:pathLst>
                  <a:path w="129" h="280">
                    <a:moveTo>
                      <a:pt x="64" y="280"/>
                    </a:moveTo>
                    <a:lnTo>
                      <a:pt x="75" y="279"/>
                    </a:lnTo>
                    <a:lnTo>
                      <a:pt x="85" y="273"/>
                    </a:lnTo>
                    <a:lnTo>
                      <a:pt x="94" y="265"/>
                    </a:lnTo>
                    <a:lnTo>
                      <a:pt x="104" y="254"/>
                    </a:lnTo>
                    <a:lnTo>
                      <a:pt x="110" y="240"/>
                    </a:lnTo>
                    <a:lnTo>
                      <a:pt x="117" y="223"/>
                    </a:lnTo>
                    <a:lnTo>
                      <a:pt x="121" y="206"/>
                    </a:lnTo>
                    <a:lnTo>
                      <a:pt x="125" y="184"/>
                    </a:lnTo>
                    <a:lnTo>
                      <a:pt x="129" y="163"/>
                    </a:lnTo>
                    <a:lnTo>
                      <a:pt x="129" y="140"/>
                    </a:lnTo>
                    <a:lnTo>
                      <a:pt x="129" y="117"/>
                    </a:lnTo>
                    <a:lnTo>
                      <a:pt x="125" y="96"/>
                    </a:lnTo>
                    <a:lnTo>
                      <a:pt x="121" y="75"/>
                    </a:lnTo>
                    <a:lnTo>
                      <a:pt x="117" y="58"/>
                    </a:lnTo>
                    <a:lnTo>
                      <a:pt x="110" y="40"/>
                    </a:lnTo>
                    <a:lnTo>
                      <a:pt x="104" y="27"/>
                    </a:lnTo>
                    <a:lnTo>
                      <a:pt x="94" y="15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6" y="0"/>
                    </a:lnTo>
                    <a:lnTo>
                      <a:pt x="54" y="2"/>
                    </a:lnTo>
                    <a:lnTo>
                      <a:pt x="44" y="8"/>
                    </a:lnTo>
                    <a:lnTo>
                      <a:pt x="35" y="15"/>
                    </a:lnTo>
                    <a:lnTo>
                      <a:pt x="27" y="27"/>
                    </a:lnTo>
                    <a:lnTo>
                      <a:pt x="19" y="40"/>
                    </a:lnTo>
                    <a:lnTo>
                      <a:pt x="14" y="58"/>
                    </a:lnTo>
                    <a:lnTo>
                      <a:pt x="8" y="75"/>
                    </a:lnTo>
                    <a:lnTo>
                      <a:pt x="4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4" y="184"/>
                    </a:lnTo>
                    <a:lnTo>
                      <a:pt x="8" y="206"/>
                    </a:lnTo>
                    <a:lnTo>
                      <a:pt x="14" y="223"/>
                    </a:lnTo>
                    <a:lnTo>
                      <a:pt x="19" y="240"/>
                    </a:lnTo>
                    <a:lnTo>
                      <a:pt x="27" y="254"/>
                    </a:lnTo>
                    <a:lnTo>
                      <a:pt x="35" y="265"/>
                    </a:lnTo>
                    <a:lnTo>
                      <a:pt x="44" y="273"/>
                    </a:lnTo>
                    <a:lnTo>
                      <a:pt x="54" y="279"/>
                    </a:lnTo>
                    <a:lnTo>
                      <a:pt x="66" y="280"/>
                    </a:lnTo>
                    <a:lnTo>
                      <a:pt x="66" y="280"/>
                    </a:lnTo>
                    <a:lnTo>
                      <a:pt x="64" y="28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4391280" y="822600"/>
                <a:ext cx="213120" cy="463320"/>
              </a:xfrm>
              <a:custGeom>
                <a:avLst/>
                <a:gdLst/>
                <a:ahLst/>
                <a:rect l="l" t="t" r="r" b="b"/>
                <a:pathLst>
                  <a:path w="129" h="280">
                    <a:moveTo>
                      <a:pt x="64" y="280"/>
                    </a:moveTo>
                    <a:lnTo>
                      <a:pt x="75" y="279"/>
                    </a:lnTo>
                    <a:lnTo>
                      <a:pt x="85" y="273"/>
                    </a:lnTo>
                    <a:lnTo>
                      <a:pt x="94" y="265"/>
                    </a:lnTo>
                    <a:lnTo>
                      <a:pt x="104" y="254"/>
                    </a:lnTo>
                    <a:lnTo>
                      <a:pt x="110" y="240"/>
                    </a:lnTo>
                    <a:lnTo>
                      <a:pt x="117" y="223"/>
                    </a:lnTo>
                    <a:lnTo>
                      <a:pt x="121" y="206"/>
                    </a:lnTo>
                    <a:lnTo>
                      <a:pt x="125" y="184"/>
                    </a:lnTo>
                    <a:lnTo>
                      <a:pt x="129" y="163"/>
                    </a:lnTo>
                    <a:lnTo>
                      <a:pt x="129" y="140"/>
                    </a:lnTo>
                    <a:lnTo>
                      <a:pt x="129" y="117"/>
                    </a:lnTo>
                    <a:lnTo>
                      <a:pt x="125" y="96"/>
                    </a:lnTo>
                    <a:lnTo>
                      <a:pt x="121" y="75"/>
                    </a:lnTo>
                    <a:lnTo>
                      <a:pt x="117" y="58"/>
                    </a:lnTo>
                    <a:lnTo>
                      <a:pt x="110" y="40"/>
                    </a:lnTo>
                    <a:lnTo>
                      <a:pt x="104" y="27"/>
                    </a:lnTo>
                    <a:lnTo>
                      <a:pt x="94" y="15"/>
                    </a:lnTo>
                    <a:lnTo>
                      <a:pt x="85" y="8"/>
                    </a:lnTo>
                    <a:lnTo>
                      <a:pt x="75" y="2"/>
                    </a:lnTo>
                    <a:lnTo>
                      <a:pt x="66" y="0"/>
                    </a:lnTo>
                    <a:lnTo>
                      <a:pt x="54" y="2"/>
                    </a:lnTo>
                    <a:lnTo>
                      <a:pt x="44" y="8"/>
                    </a:lnTo>
                    <a:lnTo>
                      <a:pt x="35" y="15"/>
                    </a:lnTo>
                    <a:lnTo>
                      <a:pt x="27" y="27"/>
                    </a:lnTo>
                    <a:lnTo>
                      <a:pt x="19" y="40"/>
                    </a:lnTo>
                    <a:lnTo>
                      <a:pt x="14" y="58"/>
                    </a:lnTo>
                    <a:lnTo>
                      <a:pt x="8" y="75"/>
                    </a:lnTo>
                    <a:lnTo>
                      <a:pt x="4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4" y="184"/>
                    </a:lnTo>
                    <a:lnTo>
                      <a:pt x="8" y="206"/>
                    </a:lnTo>
                    <a:lnTo>
                      <a:pt x="14" y="223"/>
                    </a:lnTo>
                    <a:lnTo>
                      <a:pt x="19" y="240"/>
                    </a:lnTo>
                    <a:lnTo>
                      <a:pt x="27" y="254"/>
                    </a:lnTo>
                    <a:lnTo>
                      <a:pt x="35" y="265"/>
                    </a:lnTo>
                    <a:lnTo>
                      <a:pt x="44" y="273"/>
                    </a:lnTo>
                    <a:lnTo>
                      <a:pt x="54" y="279"/>
                    </a:lnTo>
                    <a:lnTo>
                      <a:pt x="66" y="280"/>
                    </a:lnTo>
                    <a:lnTo>
                      <a:pt x="66" y="28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4410720" y="102132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4449240" y="10213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4478040" y="10213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4508640" y="102132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4522320" y="102132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4541760" y="10213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4569840" y="102132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4118040" y="1322640"/>
                <a:ext cx="105840" cy="1554480"/>
              </a:xfrm>
              <a:custGeom>
                <a:avLst/>
                <a:gdLst/>
                <a:ahLst/>
                <a:rect l="l" t="t" r="r" b="b"/>
                <a:pathLst>
                  <a:path w="64" h="939">
                    <a:moveTo>
                      <a:pt x="64" y="937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4" y="939"/>
                    </a:lnTo>
                    <a:lnTo>
                      <a:pt x="64" y="939"/>
                    </a:lnTo>
                    <a:lnTo>
                      <a:pt x="64" y="93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4118040" y="1322640"/>
                <a:ext cx="105840" cy="1554480"/>
              </a:xfrm>
              <a:custGeom>
                <a:avLst/>
                <a:gdLst/>
                <a:ahLst/>
                <a:rect l="l" t="t" r="r" b="b"/>
                <a:pathLst>
                  <a:path w="64" h="939">
                    <a:moveTo>
                      <a:pt x="64" y="937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4" y="939"/>
                    </a:lnTo>
                    <a:lnTo>
                      <a:pt x="64" y="9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5491800" y="1322640"/>
                <a:ext cx="104040" cy="1554480"/>
              </a:xfrm>
              <a:custGeom>
                <a:avLst/>
                <a:gdLst/>
                <a:ahLst/>
                <a:rect l="l" t="t" r="r" b="b"/>
                <a:pathLst>
                  <a:path w="63" h="939">
                    <a:moveTo>
                      <a:pt x="63" y="937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3" y="939"/>
                    </a:lnTo>
                    <a:lnTo>
                      <a:pt x="63" y="939"/>
                    </a:lnTo>
                    <a:lnTo>
                      <a:pt x="63" y="93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5491800" y="1322640"/>
                <a:ext cx="104040" cy="1554480"/>
              </a:xfrm>
              <a:custGeom>
                <a:avLst/>
                <a:gdLst/>
                <a:ahLst/>
                <a:rect l="l" t="t" r="r" b="b"/>
                <a:pathLst>
                  <a:path w="63" h="939">
                    <a:moveTo>
                      <a:pt x="63" y="937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3" y="939"/>
                    </a:lnTo>
                    <a:lnTo>
                      <a:pt x="63" y="9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4086360" y="190044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0" y="15"/>
                    </a:lnTo>
                    <a:lnTo>
                      <a:pt x="17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4035240" y="1913760"/>
                <a:ext cx="57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5458680" y="1572840"/>
                <a:ext cx="29520" cy="25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 flipH="1">
                <a:off x="5271840" y="1585800"/>
                <a:ext cx="190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5458680" y="2360520"/>
                <a:ext cx="29520" cy="295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5458680" y="2602440"/>
                <a:ext cx="29520" cy="295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4401000" y="1814400"/>
                <a:ext cx="1064520" cy="804240"/>
              </a:xfrm>
              <a:custGeom>
                <a:avLst/>
                <a:gdLst/>
                <a:ahLst/>
                <a:rect l="l" t="t" r="r" b="b"/>
                <a:pathLst>
                  <a:path w="643" h="486">
                    <a:moveTo>
                      <a:pt x="643" y="484"/>
                    </a:moveTo>
                    <a:lnTo>
                      <a:pt x="0" y="48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4341240" y="1051200"/>
                <a:ext cx="244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5511600" y="120024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5547600" y="120024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5491800" y="965160"/>
                <a:ext cx="104040" cy="17892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63" y="108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3" y="108"/>
                    </a:lnTo>
                    <a:lnTo>
                      <a:pt x="63" y="10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5491800" y="965160"/>
                <a:ext cx="104040" cy="17892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63" y="108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3" y="108"/>
                    </a:lnTo>
                    <a:lnTo>
                      <a:pt x="63" y="10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5520240" y="102132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5491800" y="784800"/>
                <a:ext cx="104040" cy="180000"/>
              </a:xfrm>
              <a:custGeom>
                <a:avLst/>
                <a:gdLst/>
                <a:ahLst/>
                <a:rect l="l" t="t" r="r" b="b"/>
                <a:pathLst>
                  <a:path w="63" h="109">
                    <a:moveTo>
                      <a:pt x="63" y="108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9"/>
                    </a:lnTo>
                    <a:lnTo>
                      <a:pt x="63" y="109"/>
                    </a:lnTo>
                    <a:lnTo>
                      <a:pt x="63" y="109"/>
                    </a:lnTo>
                    <a:lnTo>
                      <a:pt x="63" y="10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5491800" y="784800"/>
                <a:ext cx="104040" cy="180000"/>
              </a:xfrm>
              <a:custGeom>
                <a:avLst/>
                <a:gdLst/>
                <a:ahLst/>
                <a:rect l="l" t="t" r="r" b="b"/>
                <a:pathLst>
                  <a:path w="63" h="109">
                    <a:moveTo>
                      <a:pt x="63" y="108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9"/>
                    </a:lnTo>
                    <a:lnTo>
                      <a:pt x="63" y="109"/>
                    </a:lnTo>
                    <a:lnTo>
                      <a:pt x="63" y="10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5504040" y="844560"/>
                <a:ext cx="4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5554800" y="84456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5458680" y="1220400"/>
                <a:ext cx="29520" cy="244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0"/>
                    </a:moveTo>
                    <a:lnTo>
                      <a:pt x="0" y="15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5458680" y="86112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5412240" y="874080"/>
                <a:ext cx="56160" cy="358920"/>
              </a:xfrm>
              <a:custGeom>
                <a:avLst/>
                <a:gdLst/>
                <a:ahLst/>
                <a:rect l="l" t="t" r="r" b="b"/>
                <a:pathLst>
                  <a:path w="34" h="217">
                    <a:moveTo>
                      <a:pt x="32" y="0"/>
                    </a:moveTo>
                    <a:lnTo>
                      <a:pt x="0" y="2"/>
                    </a:lnTo>
                    <a:lnTo>
                      <a:pt x="0" y="217"/>
                    </a:lnTo>
                    <a:lnTo>
                      <a:pt x="34" y="21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590880" y="1144080"/>
                <a:ext cx="107640" cy="178560"/>
              </a:xfrm>
              <a:custGeom>
                <a:avLst/>
                <a:gdLst/>
                <a:ahLst/>
                <a:rect l="l" t="t" r="r" b="b"/>
                <a:pathLst>
                  <a:path w="65" h="108">
                    <a:moveTo>
                      <a:pt x="63" y="10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5" y="108"/>
                    </a:lnTo>
                    <a:lnTo>
                      <a:pt x="65" y="108"/>
                    </a:lnTo>
                    <a:lnTo>
                      <a:pt x="63" y="10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590880" y="1144080"/>
                <a:ext cx="107640" cy="178560"/>
              </a:xfrm>
              <a:custGeom>
                <a:avLst/>
                <a:gdLst/>
                <a:ahLst/>
                <a:rect l="l" t="t" r="r" b="b"/>
                <a:pathLst>
                  <a:path w="65" h="108">
                    <a:moveTo>
                      <a:pt x="63" y="10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5" y="108"/>
                    </a:lnTo>
                    <a:lnTo>
                      <a:pt x="65" y="10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590880" y="1322640"/>
                <a:ext cx="107640" cy="1554480"/>
              </a:xfrm>
              <a:custGeom>
                <a:avLst/>
                <a:gdLst/>
                <a:ahLst/>
                <a:rect l="l" t="t" r="r" b="b"/>
                <a:pathLst>
                  <a:path w="65" h="939">
                    <a:moveTo>
                      <a:pt x="63" y="93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5" y="939"/>
                    </a:lnTo>
                    <a:lnTo>
                      <a:pt x="65" y="939"/>
                    </a:lnTo>
                    <a:lnTo>
                      <a:pt x="63" y="93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590880" y="1322640"/>
                <a:ext cx="107640" cy="1554480"/>
              </a:xfrm>
              <a:custGeom>
                <a:avLst/>
                <a:gdLst/>
                <a:ahLst/>
                <a:rect l="l" t="t" r="r" b="b"/>
                <a:pathLst>
                  <a:path w="65" h="939">
                    <a:moveTo>
                      <a:pt x="63" y="93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5" y="939"/>
                    </a:lnTo>
                    <a:lnTo>
                      <a:pt x="65" y="9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6622920" y="120024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590880" y="965160"/>
                <a:ext cx="107640" cy="178920"/>
              </a:xfrm>
              <a:custGeom>
                <a:avLst/>
                <a:gdLst/>
                <a:ahLst/>
                <a:rect l="l" t="t" r="r" b="b"/>
                <a:pathLst>
                  <a:path w="65" h="108">
                    <a:moveTo>
                      <a:pt x="63" y="10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5" y="108"/>
                    </a:lnTo>
                    <a:lnTo>
                      <a:pt x="65" y="108"/>
                    </a:lnTo>
                    <a:lnTo>
                      <a:pt x="63" y="10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590880" y="965160"/>
                <a:ext cx="107640" cy="178920"/>
              </a:xfrm>
              <a:custGeom>
                <a:avLst/>
                <a:gdLst/>
                <a:ahLst/>
                <a:rect l="l" t="t" r="r" b="b"/>
                <a:pathLst>
                  <a:path w="65" h="108">
                    <a:moveTo>
                      <a:pt x="63" y="10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5" y="108"/>
                    </a:lnTo>
                    <a:lnTo>
                      <a:pt x="65" y="10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607440" y="1021320"/>
                <a:ext cx="4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653160" y="102132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562800" y="120672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0" y="16"/>
                    </a:ln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331320" y="1054800"/>
                <a:ext cx="238320" cy="165240"/>
              </a:xfrm>
              <a:custGeom>
                <a:avLst/>
                <a:gdLst/>
                <a:ahLst/>
                <a:rect l="l" t="t" r="r" b="b"/>
                <a:pathLst>
                  <a:path w="144" h="100">
                    <a:moveTo>
                      <a:pt x="144" y="100"/>
                    </a:moveTo>
                    <a:lnTo>
                      <a:pt x="86" y="100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562800" y="103968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0" y="17"/>
                    </a:lnTo>
                    <a:lnTo>
                      <a:pt x="15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596200" y="874080"/>
                <a:ext cx="5940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511320" y="874080"/>
                <a:ext cx="57960" cy="180360"/>
              </a:xfrm>
              <a:custGeom>
                <a:avLst/>
                <a:gdLst/>
                <a:ahLst/>
                <a:rect l="l" t="t" r="r" b="b"/>
                <a:pathLst>
                  <a:path w="35" h="109">
                    <a:moveTo>
                      <a:pt x="0" y="0"/>
                    </a:moveTo>
                    <a:lnTo>
                      <a:pt x="0" y="109"/>
                    </a:lnTo>
                    <a:lnTo>
                      <a:pt x="35" y="109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7382160" y="1144080"/>
                <a:ext cx="107640" cy="178560"/>
              </a:xfrm>
              <a:custGeom>
                <a:avLst/>
                <a:gdLst/>
                <a:ahLst/>
                <a:rect l="l" t="t" r="r" b="b"/>
                <a:pathLst>
                  <a:path w="65" h="108">
                    <a:moveTo>
                      <a:pt x="63" y="10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5" y="108"/>
                    </a:lnTo>
                    <a:lnTo>
                      <a:pt x="65" y="108"/>
                    </a:lnTo>
                    <a:lnTo>
                      <a:pt x="63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7382160" y="1144080"/>
                <a:ext cx="107640" cy="178560"/>
              </a:xfrm>
              <a:custGeom>
                <a:avLst/>
                <a:gdLst/>
                <a:ahLst/>
                <a:rect l="l" t="t" r="r" b="b"/>
                <a:pathLst>
                  <a:path w="65" h="108">
                    <a:moveTo>
                      <a:pt x="63" y="10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5" y="108"/>
                    </a:lnTo>
                    <a:lnTo>
                      <a:pt x="65" y="10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7382160" y="1322640"/>
                <a:ext cx="107640" cy="1554480"/>
              </a:xfrm>
              <a:custGeom>
                <a:avLst/>
                <a:gdLst/>
                <a:ahLst/>
                <a:rect l="l" t="t" r="r" b="b"/>
                <a:pathLst>
                  <a:path w="65" h="939">
                    <a:moveTo>
                      <a:pt x="63" y="93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5" y="939"/>
                    </a:lnTo>
                    <a:lnTo>
                      <a:pt x="65" y="939"/>
                    </a:lnTo>
                    <a:lnTo>
                      <a:pt x="63" y="9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7382160" y="1322640"/>
                <a:ext cx="107640" cy="1554480"/>
              </a:xfrm>
              <a:custGeom>
                <a:avLst/>
                <a:gdLst/>
                <a:ahLst/>
                <a:rect l="l" t="t" r="r" b="b"/>
                <a:pathLst>
                  <a:path w="65" h="939">
                    <a:moveTo>
                      <a:pt x="63" y="93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5" y="939"/>
                    </a:lnTo>
                    <a:lnTo>
                      <a:pt x="65" y="9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7398000" y="1200240"/>
                <a:ext cx="4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7444440" y="120024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4694040" y="1365840"/>
                <a:ext cx="28080" cy="295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2" y="18"/>
                    </a:lnTo>
                    <a:lnTo>
                      <a:pt x="17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6562800" y="187920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0" y="17"/>
                    </a:lnTo>
                    <a:lnTo>
                      <a:pt x="15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 flipH="1">
                <a:off x="6421680" y="1890360"/>
                <a:ext cx="147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354080" y="122040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15"/>
                    </a:ln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6698520" y="1054800"/>
                <a:ext cx="662040" cy="178560"/>
              </a:xfrm>
              <a:custGeom>
                <a:avLst/>
                <a:gdLst/>
                <a:ahLst/>
                <a:rect l="l" t="t" r="r" b="b"/>
                <a:pathLst>
                  <a:path w="400" h="108">
                    <a:moveTo>
                      <a:pt x="400" y="108"/>
                    </a:moveTo>
                    <a:lnTo>
                      <a:pt x="365" y="108"/>
                    </a:lnTo>
                    <a:lnTo>
                      <a:pt x="365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350840" y="187920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350840" y="2249640"/>
                <a:ext cx="28080" cy="298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2" y="18"/>
                    </a:lnTo>
                    <a:lnTo>
                      <a:pt x="17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489800" y="2090880"/>
                <a:ext cx="234720" cy="174960"/>
              </a:xfrm>
              <a:custGeom>
                <a:avLst/>
                <a:gdLst/>
                <a:ahLst/>
                <a:rect l="l" t="t" r="r" b="b"/>
                <a:pathLst>
                  <a:path w="142" h="106">
                    <a:moveTo>
                      <a:pt x="142" y="0"/>
                    </a:moveTo>
                    <a:lnTo>
                      <a:pt x="108" y="0"/>
                    </a:lnTo>
                    <a:lnTo>
                      <a:pt x="108" y="106"/>
                    </a:lnTo>
                    <a:lnTo>
                      <a:pt x="0" y="1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 flipH="1">
                <a:off x="6877080" y="2262960"/>
                <a:ext cx="4798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4086360" y="135432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7"/>
                    </a:lnTo>
                    <a:lnTo>
                      <a:pt x="17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 flipH="1">
                <a:off x="4223880" y="1379160"/>
                <a:ext cx="4701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 flipH="1">
                <a:off x="3940560" y="1365840"/>
                <a:ext cx="152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3993840" y="135432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5"/>
                    </a:moveTo>
                    <a:lnTo>
                      <a:pt x="10" y="17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3879720" y="135072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0" y="0"/>
                    </a:moveTo>
                    <a:lnTo>
                      <a:pt x="12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2" y="11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8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251760" y="1627200"/>
                <a:ext cx="170280" cy="532800"/>
              </a:xfrm>
              <a:custGeom>
                <a:avLst/>
                <a:gdLst/>
                <a:ahLst/>
                <a:rect l="l" t="t" r="r" b="b"/>
                <a:pathLst>
                  <a:path w="103" h="322">
                    <a:moveTo>
                      <a:pt x="0" y="0"/>
                    </a:moveTo>
                    <a:lnTo>
                      <a:pt x="0" y="130"/>
                    </a:lnTo>
                    <a:lnTo>
                      <a:pt x="32" y="161"/>
                    </a:lnTo>
                    <a:lnTo>
                      <a:pt x="0" y="192"/>
                    </a:lnTo>
                    <a:lnTo>
                      <a:pt x="0" y="322"/>
                    </a:lnTo>
                    <a:lnTo>
                      <a:pt x="103" y="223"/>
                    </a:lnTo>
                    <a:lnTo>
                      <a:pt x="103" y="9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6251760" y="1627200"/>
                <a:ext cx="170280" cy="532800"/>
              </a:xfrm>
              <a:custGeom>
                <a:avLst/>
                <a:gdLst/>
                <a:ahLst/>
                <a:rect l="l" t="t" r="r" b="b"/>
                <a:pathLst>
                  <a:path w="103" h="322">
                    <a:moveTo>
                      <a:pt x="0" y="0"/>
                    </a:moveTo>
                    <a:lnTo>
                      <a:pt x="0" y="130"/>
                    </a:lnTo>
                    <a:lnTo>
                      <a:pt x="32" y="161"/>
                    </a:lnTo>
                    <a:lnTo>
                      <a:pt x="0" y="192"/>
                    </a:lnTo>
                    <a:lnTo>
                      <a:pt x="0" y="322"/>
                    </a:lnTo>
                    <a:lnTo>
                      <a:pt x="103" y="223"/>
                    </a:lnTo>
                    <a:lnTo>
                      <a:pt x="103" y="9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5972040" y="1534320"/>
                <a:ext cx="100800" cy="299880"/>
              </a:xfrm>
              <a:custGeom>
                <a:avLst/>
                <a:gdLst/>
                <a:ahLst/>
                <a:rect l="l" t="t" r="r" b="b"/>
                <a:pathLst>
                  <a:path w="61" h="181">
                    <a:moveTo>
                      <a:pt x="0" y="31"/>
                    </a:moveTo>
                    <a:lnTo>
                      <a:pt x="1" y="27"/>
                    </a:lnTo>
                    <a:lnTo>
                      <a:pt x="3" y="21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49" y="6"/>
                    </a:lnTo>
                    <a:lnTo>
                      <a:pt x="51" y="10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59" y="21"/>
                    </a:lnTo>
                    <a:lnTo>
                      <a:pt x="61" y="27"/>
                    </a:lnTo>
                    <a:lnTo>
                      <a:pt x="61" y="31"/>
                    </a:lnTo>
                    <a:lnTo>
                      <a:pt x="61" y="150"/>
                    </a:lnTo>
                    <a:lnTo>
                      <a:pt x="61" y="156"/>
                    </a:lnTo>
                    <a:lnTo>
                      <a:pt x="59" y="160"/>
                    </a:lnTo>
                    <a:lnTo>
                      <a:pt x="57" y="165"/>
                    </a:lnTo>
                    <a:lnTo>
                      <a:pt x="55" y="169"/>
                    </a:lnTo>
                    <a:lnTo>
                      <a:pt x="51" y="171"/>
                    </a:lnTo>
                    <a:lnTo>
                      <a:pt x="49" y="175"/>
                    </a:lnTo>
                    <a:lnTo>
                      <a:pt x="46" y="177"/>
                    </a:lnTo>
                    <a:lnTo>
                      <a:pt x="40" y="179"/>
                    </a:lnTo>
                    <a:lnTo>
                      <a:pt x="36" y="181"/>
                    </a:lnTo>
                    <a:lnTo>
                      <a:pt x="30" y="181"/>
                    </a:lnTo>
                    <a:lnTo>
                      <a:pt x="26" y="181"/>
                    </a:lnTo>
                    <a:lnTo>
                      <a:pt x="23" y="179"/>
                    </a:lnTo>
                    <a:lnTo>
                      <a:pt x="17" y="177"/>
                    </a:lnTo>
                    <a:lnTo>
                      <a:pt x="13" y="175"/>
                    </a:lnTo>
                    <a:lnTo>
                      <a:pt x="9" y="171"/>
                    </a:lnTo>
                    <a:lnTo>
                      <a:pt x="7" y="169"/>
                    </a:lnTo>
                    <a:lnTo>
                      <a:pt x="5" y="165"/>
                    </a:lnTo>
                    <a:lnTo>
                      <a:pt x="3" y="160"/>
                    </a:lnTo>
                    <a:lnTo>
                      <a:pt x="1" y="156"/>
                    </a:lnTo>
                    <a:lnTo>
                      <a:pt x="1" y="15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5972040" y="1534320"/>
                <a:ext cx="100800" cy="299880"/>
              </a:xfrm>
              <a:custGeom>
                <a:avLst/>
                <a:gdLst/>
                <a:ahLst/>
                <a:rect l="l" t="t" r="r" b="b"/>
                <a:pathLst>
                  <a:path w="61" h="181">
                    <a:moveTo>
                      <a:pt x="0" y="31"/>
                    </a:moveTo>
                    <a:lnTo>
                      <a:pt x="1" y="27"/>
                    </a:lnTo>
                    <a:lnTo>
                      <a:pt x="3" y="21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49" y="6"/>
                    </a:lnTo>
                    <a:lnTo>
                      <a:pt x="51" y="10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59" y="21"/>
                    </a:lnTo>
                    <a:lnTo>
                      <a:pt x="61" y="27"/>
                    </a:lnTo>
                    <a:lnTo>
                      <a:pt x="61" y="31"/>
                    </a:lnTo>
                    <a:lnTo>
                      <a:pt x="61" y="150"/>
                    </a:lnTo>
                    <a:lnTo>
                      <a:pt x="61" y="156"/>
                    </a:lnTo>
                    <a:lnTo>
                      <a:pt x="59" y="160"/>
                    </a:lnTo>
                    <a:lnTo>
                      <a:pt x="57" y="165"/>
                    </a:lnTo>
                    <a:lnTo>
                      <a:pt x="55" y="169"/>
                    </a:lnTo>
                    <a:lnTo>
                      <a:pt x="51" y="171"/>
                    </a:lnTo>
                    <a:lnTo>
                      <a:pt x="49" y="175"/>
                    </a:lnTo>
                    <a:lnTo>
                      <a:pt x="46" y="177"/>
                    </a:lnTo>
                    <a:lnTo>
                      <a:pt x="40" y="179"/>
                    </a:lnTo>
                    <a:lnTo>
                      <a:pt x="36" y="181"/>
                    </a:lnTo>
                    <a:lnTo>
                      <a:pt x="30" y="181"/>
                    </a:lnTo>
                    <a:lnTo>
                      <a:pt x="26" y="181"/>
                    </a:lnTo>
                    <a:lnTo>
                      <a:pt x="23" y="179"/>
                    </a:lnTo>
                    <a:lnTo>
                      <a:pt x="17" y="177"/>
                    </a:lnTo>
                    <a:lnTo>
                      <a:pt x="13" y="175"/>
                    </a:lnTo>
                    <a:lnTo>
                      <a:pt x="9" y="171"/>
                    </a:lnTo>
                    <a:lnTo>
                      <a:pt x="7" y="169"/>
                    </a:lnTo>
                    <a:lnTo>
                      <a:pt x="5" y="165"/>
                    </a:lnTo>
                    <a:lnTo>
                      <a:pt x="3" y="160"/>
                    </a:lnTo>
                    <a:lnTo>
                      <a:pt x="1" y="156"/>
                    </a:lnTo>
                    <a:lnTo>
                      <a:pt x="1" y="150"/>
                    </a:lnTo>
                    <a:lnTo>
                      <a:pt x="1" y="31"/>
                    </a:lnTo>
                    <a:lnTo>
                      <a:pt x="1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001560" y="160092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4" name=""/>
            <p:cNvGrpSpPr/>
            <p:nvPr/>
          </p:nvGrpSpPr>
          <p:grpSpPr>
            <a:xfrm>
              <a:off x="3174840" y="76320"/>
              <a:ext cx="4445640" cy="3270960"/>
              <a:chOff x="3174840" y="76320"/>
              <a:chExt cx="4445640" cy="3270960"/>
            </a:xfrm>
          </p:grpSpPr>
          <p:sp>
            <p:nvSpPr>
              <p:cNvPr id="5675" name=""/>
              <p:cNvSpPr/>
              <p:nvPr/>
            </p:nvSpPr>
            <p:spPr>
              <a:xfrm>
                <a:off x="6044760" y="16009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6010200" y="16556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6038280" y="16556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009120" y="170676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4436280" y="470160"/>
                <a:ext cx="397080" cy="23832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192" y="142"/>
                    </a:moveTo>
                    <a:lnTo>
                      <a:pt x="200" y="142"/>
                    </a:lnTo>
                    <a:lnTo>
                      <a:pt x="208" y="140"/>
                    </a:lnTo>
                    <a:lnTo>
                      <a:pt x="215" y="138"/>
                    </a:lnTo>
                    <a:lnTo>
                      <a:pt x="221" y="134"/>
                    </a:lnTo>
                    <a:lnTo>
                      <a:pt x="227" y="129"/>
                    </a:lnTo>
                    <a:lnTo>
                      <a:pt x="231" y="123"/>
                    </a:lnTo>
                    <a:lnTo>
                      <a:pt x="234" y="117"/>
                    </a:lnTo>
                    <a:lnTo>
                      <a:pt x="238" y="109"/>
                    </a:lnTo>
                    <a:lnTo>
                      <a:pt x="240" y="104"/>
                    </a:lnTo>
                    <a:lnTo>
                      <a:pt x="240" y="96"/>
                    </a:lnTo>
                    <a:lnTo>
                      <a:pt x="240" y="48"/>
                    </a:lnTo>
                    <a:lnTo>
                      <a:pt x="240" y="40"/>
                    </a:lnTo>
                    <a:lnTo>
                      <a:pt x="238" y="33"/>
                    </a:lnTo>
                    <a:lnTo>
                      <a:pt x="234" y="25"/>
                    </a:lnTo>
                    <a:lnTo>
                      <a:pt x="231" y="19"/>
                    </a:lnTo>
                    <a:lnTo>
                      <a:pt x="227" y="13"/>
                    </a:lnTo>
                    <a:lnTo>
                      <a:pt x="221" y="8"/>
                    </a:lnTo>
                    <a:lnTo>
                      <a:pt x="215" y="4"/>
                    </a:lnTo>
                    <a:lnTo>
                      <a:pt x="208" y="2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3" y="2"/>
                    </a:lnTo>
                    <a:lnTo>
                      <a:pt x="27" y="4"/>
                    </a:lnTo>
                    <a:lnTo>
                      <a:pt x="19" y="8"/>
                    </a:lnTo>
                    <a:lnTo>
                      <a:pt x="16" y="13"/>
                    </a:lnTo>
                    <a:lnTo>
                      <a:pt x="10" y="19"/>
                    </a:lnTo>
                    <a:lnTo>
                      <a:pt x="6" y="25"/>
                    </a:lnTo>
                    <a:lnTo>
                      <a:pt x="4" y="33"/>
                    </a:lnTo>
                    <a:lnTo>
                      <a:pt x="2" y="40"/>
                    </a:lnTo>
                    <a:lnTo>
                      <a:pt x="0" y="48"/>
                    </a:lnTo>
                    <a:lnTo>
                      <a:pt x="0" y="96"/>
                    </a:lnTo>
                    <a:lnTo>
                      <a:pt x="2" y="104"/>
                    </a:lnTo>
                    <a:lnTo>
                      <a:pt x="4" y="109"/>
                    </a:lnTo>
                    <a:lnTo>
                      <a:pt x="6" y="117"/>
                    </a:lnTo>
                    <a:lnTo>
                      <a:pt x="10" y="123"/>
                    </a:lnTo>
                    <a:lnTo>
                      <a:pt x="16" y="129"/>
                    </a:lnTo>
                    <a:lnTo>
                      <a:pt x="19" y="134"/>
                    </a:lnTo>
                    <a:lnTo>
                      <a:pt x="27" y="138"/>
                    </a:lnTo>
                    <a:lnTo>
                      <a:pt x="33" y="140"/>
                    </a:lnTo>
                    <a:lnTo>
                      <a:pt x="40" y="142"/>
                    </a:lnTo>
                    <a:lnTo>
                      <a:pt x="48" y="144"/>
                    </a:lnTo>
                    <a:lnTo>
                      <a:pt x="192" y="144"/>
                    </a:lnTo>
                    <a:lnTo>
                      <a:pt x="192" y="144"/>
                    </a:lnTo>
                    <a:lnTo>
                      <a:pt x="192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4436280" y="470160"/>
                <a:ext cx="397080" cy="23832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192" y="142"/>
                    </a:moveTo>
                    <a:lnTo>
                      <a:pt x="200" y="142"/>
                    </a:lnTo>
                    <a:lnTo>
                      <a:pt x="208" y="140"/>
                    </a:lnTo>
                    <a:lnTo>
                      <a:pt x="215" y="138"/>
                    </a:lnTo>
                    <a:lnTo>
                      <a:pt x="221" y="134"/>
                    </a:lnTo>
                    <a:lnTo>
                      <a:pt x="227" y="129"/>
                    </a:lnTo>
                    <a:lnTo>
                      <a:pt x="231" y="123"/>
                    </a:lnTo>
                    <a:lnTo>
                      <a:pt x="234" y="117"/>
                    </a:lnTo>
                    <a:lnTo>
                      <a:pt x="238" y="109"/>
                    </a:lnTo>
                    <a:lnTo>
                      <a:pt x="240" y="104"/>
                    </a:lnTo>
                    <a:lnTo>
                      <a:pt x="240" y="96"/>
                    </a:lnTo>
                    <a:lnTo>
                      <a:pt x="240" y="48"/>
                    </a:lnTo>
                    <a:lnTo>
                      <a:pt x="240" y="40"/>
                    </a:lnTo>
                    <a:lnTo>
                      <a:pt x="238" y="33"/>
                    </a:lnTo>
                    <a:lnTo>
                      <a:pt x="234" y="25"/>
                    </a:lnTo>
                    <a:lnTo>
                      <a:pt x="231" y="19"/>
                    </a:lnTo>
                    <a:lnTo>
                      <a:pt x="227" y="13"/>
                    </a:lnTo>
                    <a:lnTo>
                      <a:pt x="221" y="8"/>
                    </a:lnTo>
                    <a:lnTo>
                      <a:pt x="215" y="4"/>
                    </a:lnTo>
                    <a:lnTo>
                      <a:pt x="208" y="2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3" y="2"/>
                    </a:lnTo>
                    <a:lnTo>
                      <a:pt x="27" y="4"/>
                    </a:lnTo>
                    <a:lnTo>
                      <a:pt x="19" y="8"/>
                    </a:lnTo>
                    <a:lnTo>
                      <a:pt x="16" y="13"/>
                    </a:lnTo>
                    <a:lnTo>
                      <a:pt x="10" y="19"/>
                    </a:lnTo>
                    <a:lnTo>
                      <a:pt x="6" y="25"/>
                    </a:lnTo>
                    <a:lnTo>
                      <a:pt x="4" y="33"/>
                    </a:lnTo>
                    <a:lnTo>
                      <a:pt x="2" y="40"/>
                    </a:lnTo>
                    <a:lnTo>
                      <a:pt x="0" y="48"/>
                    </a:lnTo>
                    <a:lnTo>
                      <a:pt x="0" y="96"/>
                    </a:lnTo>
                    <a:lnTo>
                      <a:pt x="2" y="104"/>
                    </a:lnTo>
                    <a:lnTo>
                      <a:pt x="4" y="109"/>
                    </a:lnTo>
                    <a:lnTo>
                      <a:pt x="6" y="117"/>
                    </a:lnTo>
                    <a:lnTo>
                      <a:pt x="10" y="123"/>
                    </a:lnTo>
                    <a:lnTo>
                      <a:pt x="16" y="129"/>
                    </a:lnTo>
                    <a:lnTo>
                      <a:pt x="19" y="134"/>
                    </a:lnTo>
                    <a:lnTo>
                      <a:pt x="27" y="138"/>
                    </a:lnTo>
                    <a:lnTo>
                      <a:pt x="33" y="140"/>
                    </a:lnTo>
                    <a:lnTo>
                      <a:pt x="40" y="142"/>
                    </a:lnTo>
                    <a:lnTo>
                      <a:pt x="48" y="144"/>
                    </a:lnTo>
                    <a:lnTo>
                      <a:pt x="192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6162480" y="2854080"/>
                <a:ext cx="397080" cy="23832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192" y="142"/>
                    </a:moveTo>
                    <a:lnTo>
                      <a:pt x="201" y="142"/>
                    </a:lnTo>
                    <a:lnTo>
                      <a:pt x="207" y="140"/>
                    </a:lnTo>
                    <a:lnTo>
                      <a:pt x="215" y="138"/>
                    </a:lnTo>
                    <a:lnTo>
                      <a:pt x="221" y="135"/>
                    </a:lnTo>
                    <a:lnTo>
                      <a:pt x="226" y="129"/>
                    </a:lnTo>
                    <a:lnTo>
                      <a:pt x="232" y="123"/>
                    </a:lnTo>
                    <a:lnTo>
                      <a:pt x="236" y="117"/>
                    </a:lnTo>
                    <a:lnTo>
                      <a:pt x="238" y="110"/>
                    </a:lnTo>
                    <a:lnTo>
                      <a:pt x="240" y="104"/>
                    </a:lnTo>
                    <a:lnTo>
                      <a:pt x="240" y="96"/>
                    </a:lnTo>
                    <a:lnTo>
                      <a:pt x="240" y="48"/>
                    </a:lnTo>
                    <a:lnTo>
                      <a:pt x="240" y="38"/>
                    </a:lnTo>
                    <a:lnTo>
                      <a:pt x="238" y="33"/>
                    </a:lnTo>
                    <a:lnTo>
                      <a:pt x="236" y="25"/>
                    </a:lnTo>
                    <a:lnTo>
                      <a:pt x="232" y="19"/>
                    </a:lnTo>
                    <a:lnTo>
                      <a:pt x="226" y="14"/>
                    </a:lnTo>
                    <a:lnTo>
                      <a:pt x="221" y="8"/>
                    </a:lnTo>
                    <a:lnTo>
                      <a:pt x="215" y="4"/>
                    </a:lnTo>
                    <a:lnTo>
                      <a:pt x="207" y="2"/>
                    </a:lnTo>
                    <a:lnTo>
                      <a:pt x="201" y="0"/>
                    </a:lnTo>
                    <a:lnTo>
                      <a:pt x="192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27" y="4"/>
                    </a:lnTo>
                    <a:lnTo>
                      <a:pt x="21" y="8"/>
                    </a:lnTo>
                    <a:lnTo>
                      <a:pt x="15" y="14"/>
                    </a:lnTo>
                    <a:lnTo>
                      <a:pt x="9" y="19"/>
                    </a:lnTo>
                    <a:lnTo>
                      <a:pt x="6" y="25"/>
                    </a:lnTo>
                    <a:lnTo>
                      <a:pt x="4" y="33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96"/>
                    </a:lnTo>
                    <a:lnTo>
                      <a:pt x="2" y="104"/>
                    </a:lnTo>
                    <a:lnTo>
                      <a:pt x="4" y="110"/>
                    </a:lnTo>
                    <a:lnTo>
                      <a:pt x="6" y="117"/>
                    </a:lnTo>
                    <a:lnTo>
                      <a:pt x="9" y="123"/>
                    </a:lnTo>
                    <a:lnTo>
                      <a:pt x="15" y="129"/>
                    </a:lnTo>
                    <a:lnTo>
                      <a:pt x="21" y="135"/>
                    </a:lnTo>
                    <a:lnTo>
                      <a:pt x="27" y="138"/>
                    </a:lnTo>
                    <a:lnTo>
                      <a:pt x="34" y="140"/>
                    </a:lnTo>
                    <a:lnTo>
                      <a:pt x="40" y="142"/>
                    </a:lnTo>
                    <a:lnTo>
                      <a:pt x="48" y="144"/>
                    </a:lnTo>
                    <a:lnTo>
                      <a:pt x="192" y="144"/>
                    </a:lnTo>
                    <a:lnTo>
                      <a:pt x="192" y="144"/>
                    </a:lnTo>
                    <a:lnTo>
                      <a:pt x="192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162480" y="2854080"/>
                <a:ext cx="397080" cy="23832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192" y="142"/>
                    </a:moveTo>
                    <a:lnTo>
                      <a:pt x="201" y="142"/>
                    </a:lnTo>
                    <a:lnTo>
                      <a:pt x="207" y="140"/>
                    </a:lnTo>
                    <a:lnTo>
                      <a:pt x="215" y="138"/>
                    </a:lnTo>
                    <a:lnTo>
                      <a:pt x="221" y="135"/>
                    </a:lnTo>
                    <a:lnTo>
                      <a:pt x="226" y="129"/>
                    </a:lnTo>
                    <a:lnTo>
                      <a:pt x="232" y="123"/>
                    </a:lnTo>
                    <a:lnTo>
                      <a:pt x="236" y="117"/>
                    </a:lnTo>
                    <a:lnTo>
                      <a:pt x="238" y="110"/>
                    </a:lnTo>
                    <a:lnTo>
                      <a:pt x="240" y="104"/>
                    </a:lnTo>
                    <a:lnTo>
                      <a:pt x="240" y="96"/>
                    </a:lnTo>
                    <a:lnTo>
                      <a:pt x="240" y="48"/>
                    </a:lnTo>
                    <a:lnTo>
                      <a:pt x="240" y="38"/>
                    </a:lnTo>
                    <a:lnTo>
                      <a:pt x="238" y="33"/>
                    </a:lnTo>
                    <a:lnTo>
                      <a:pt x="236" y="25"/>
                    </a:lnTo>
                    <a:lnTo>
                      <a:pt x="232" y="19"/>
                    </a:lnTo>
                    <a:lnTo>
                      <a:pt x="226" y="14"/>
                    </a:lnTo>
                    <a:lnTo>
                      <a:pt x="221" y="8"/>
                    </a:lnTo>
                    <a:lnTo>
                      <a:pt x="215" y="4"/>
                    </a:lnTo>
                    <a:lnTo>
                      <a:pt x="207" y="2"/>
                    </a:lnTo>
                    <a:lnTo>
                      <a:pt x="201" y="0"/>
                    </a:lnTo>
                    <a:lnTo>
                      <a:pt x="192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27" y="4"/>
                    </a:lnTo>
                    <a:lnTo>
                      <a:pt x="21" y="8"/>
                    </a:lnTo>
                    <a:lnTo>
                      <a:pt x="15" y="14"/>
                    </a:lnTo>
                    <a:lnTo>
                      <a:pt x="9" y="19"/>
                    </a:lnTo>
                    <a:lnTo>
                      <a:pt x="6" y="25"/>
                    </a:lnTo>
                    <a:lnTo>
                      <a:pt x="4" y="33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96"/>
                    </a:lnTo>
                    <a:lnTo>
                      <a:pt x="2" y="104"/>
                    </a:lnTo>
                    <a:lnTo>
                      <a:pt x="4" y="110"/>
                    </a:lnTo>
                    <a:lnTo>
                      <a:pt x="6" y="117"/>
                    </a:lnTo>
                    <a:lnTo>
                      <a:pt x="9" y="123"/>
                    </a:lnTo>
                    <a:lnTo>
                      <a:pt x="15" y="129"/>
                    </a:lnTo>
                    <a:lnTo>
                      <a:pt x="21" y="135"/>
                    </a:lnTo>
                    <a:lnTo>
                      <a:pt x="27" y="138"/>
                    </a:lnTo>
                    <a:lnTo>
                      <a:pt x="34" y="140"/>
                    </a:lnTo>
                    <a:lnTo>
                      <a:pt x="40" y="142"/>
                    </a:lnTo>
                    <a:lnTo>
                      <a:pt x="48" y="144"/>
                    </a:lnTo>
                    <a:lnTo>
                      <a:pt x="192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4553280" y="49500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4592160" y="4950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4620600" y="4950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4649760" y="4950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4677840" y="49500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4694400" y="4950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4725720" y="4950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4523040" y="559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4551120" y="559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4579920" y="5598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4595760" y="559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4623120" y="5598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4652640" y="5598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4664520" y="55980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4678560" y="559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4706280" y="559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4735800" y="5598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4588920" y="6256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4618080" y="6256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4649760" y="62568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4658760" y="62568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6228360" y="2892240"/>
                <a:ext cx="31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6263280" y="2892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6292080" y="289224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6307560" y="289224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6346440" y="2892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6377760" y="289224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6393960" y="2892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6425640" y="289224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6435720" y="2892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6463800" y="2892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6495120" y="28922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6314760" y="2958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6346440" y="2958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6374160" y="295848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6384240" y="295848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942520" y="205308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942520" y="1770120"/>
                <a:ext cx="29520" cy="25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6215400" y="1671840"/>
                <a:ext cx="29880" cy="248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0"/>
                    </a:moveTo>
                    <a:lnTo>
                      <a:pt x="2" y="15"/>
                    </a:lnTo>
                    <a:lnTo>
                      <a:pt x="18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 flipH="1">
                <a:off x="6072840" y="1683720"/>
                <a:ext cx="158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942520" y="16718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0"/>
                    </a:moveTo>
                    <a:lnTo>
                      <a:pt x="0" y="15"/>
                    </a:lnTo>
                    <a:lnTo>
                      <a:pt x="18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179320" y="1153800"/>
                <a:ext cx="64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297040" y="874080"/>
                <a:ext cx="25920" cy="280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0"/>
                    </a:moveTo>
                    <a:lnTo>
                      <a:pt x="0" y="2"/>
                    </a:lnTo>
                    <a:lnTo>
                      <a:pt x="8" y="17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4836600" y="619200"/>
                <a:ext cx="473040" cy="261360"/>
              </a:xfrm>
              <a:custGeom>
                <a:avLst/>
                <a:gdLst/>
                <a:ahLst/>
                <a:rect l="l" t="t" r="r" b="b"/>
                <a:pathLst>
                  <a:path w="286" h="158">
                    <a:moveTo>
                      <a:pt x="286" y="158"/>
                    </a:moveTo>
                    <a:lnTo>
                      <a:pt x="286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258520" y="905760"/>
                <a:ext cx="99360" cy="299520"/>
              </a:xfrm>
              <a:custGeom>
                <a:avLst/>
                <a:gdLst/>
                <a:ahLst/>
                <a:rect l="l" t="t" r="r" b="b"/>
                <a:pathLst>
                  <a:path w="60" h="181">
                    <a:moveTo>
                      <a:pt x="0" y="29"/>
                    </a:moveTo>
                    <a:lnTo>
                      <a:pt x="2" y="25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1" y="2"/>
                    </a:lnTo>
                    <a:lnTo>
                      <a:pt x="45" y="4"/>
                    </a:lnTo>
                    <a:lnTo>
                      <a:pt x="48" y="6"/>
                    </a:lnTo>
                    <a:lnTo>
                      <a:pt x="52" y="10"/>
                    </a:lnTo>
                    <a:lnTo>
                      <a:pt x="54" y="12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0" y="25"/>
                    </a:lnTo>
                    <a:lnTo>
                      <a:pt x="60" y="31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60" y="159"/>
                    </a:lnTo>
                    <a:lnTo>
                      <a:pt x="58" y="163"/>
                    </a:lnTo>
                    <a:lnTo>
                      <a:pt x="54" y="167"/>
                    </a:lnTo>
                    <a:lnTo>
                      <a:pt x="52" y="171"/>
                    </a:lnTo>
                    <a:lnTo>
                      <a:pt x="48" y="175"/>
                    </a:lnTo>
                    <a:lnTo>
                      <a:pt x="45" y="177"/>
                    </a:lnTo>
                    <a:lnTo>
                      <a:pt x="41" y="179"/>
                    </a:lnTo>
                    <a:lnTo>
                      <a:pt x="35" y="179"/>
                    </a:lnTo>
                    <a:lnTo>
                      <a:pt x="31" y="181"/>
                    </a:lnTo>
                    <a:lnTo>
                      <a:pt x="25" y="179"/>
                    </a:lnTo>
                    <a:lnTo>
                      <a:pt x="22" y="179"/>
                    </a:lnTo>
                    <a:lnTo>
                      <a:pt x="18" y="177"/>
                    </a:lnTo>
                    <a:lnTo>
                      <a:pt x="14" y="175"/>
                    </a:lnTo>
                    <a:lnTo>
                      <a:pt x="10" y="171"/>
                    </a:lnTo>
                    <a:lnTo>
                      <a:pt x="6" y="167"/>
                    </a:lnTo>
                    <a:lnTo>
                      <a:pt x="4" y="163"/>
                    </a:lnTo>
                    <a:lnTo>
                      <a:pt x="2" y="159"/>
                    </a:lnTo>
                    <a:lnTo>
                      <a:pt x="2" y="156"/>
                    </a:lnTo>
                    <a:lnTo>
                      <a:pt x="0" y="15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258520" y="905760"/>
                <a:ext cx="99360" cy="299520"/>
              </a:xfrm>
              <a:custGeom>
                <a:avLst/>
                <a:gdLst/>
                <a:ahLst/>
                <a:rect l="l" t="t" r="r" b="b"/>
                <a:pathLst>
                  <a:path w="60" h="181">
                    <a:moveTo>
                      <a:pt x="0" y="29"/>
                    </a:moveTo>
                    <a:lnTo>
                      <a:pt x="2" y="25"/>
                    </a:lnTo>
                    <a:lnTo>
                      <a:pt x="2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2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1" y="2"/>
                    </a:lnTo>
                    <a:lnTo>
                      <a:pt x="45" y="4"/>
                    </a:lnTo>
                    <a:lnTo>
                      <a:pt x="48" y="6"/>
                    </a:lnTo>
                    <a:lnTo>
                      <a:pt x="52" y="10"/>
                    </a:lnTo>
                    <a:lnTo>
                      <a:pt x="54" y="12"/>
                    </a:lnTo>
                    <a:lnTo>
                      <a:pt x="58" y="17"/>
                    </a:lnTo>
                    <a:lnTo>
                      <a:pt x="60" y="21"/>
                    </a:lnTo>
                    <a:lnTo>
                      <a:pt x="60" y="25"/>
                    </a:lnTo>
                    <a:lnTo>
                      <a:pt x="60" y="31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60" y="159"/>
                    </a:lnTo>
                    <a:lnTo>
                      <a:pt x="58" y="163"/>
                    </a:lnTo>
                    <a:lnTo>
                      <a:pt x="54" y="167"/>
                    </a:lnTo>
                    <a:lnTo>
                      <a:pt x="52" y="171"/>
                    </a:lnTo>
                    <a:lnTo>
                      <a:pt x="48" y="175"/>
                    </a:lnTo>
                    <a:lnTo>
                      <a:pt x="45" y="177"/>
                    </a:lnTo>
                    <a:lnTo>
                      <a:pt x="41" y="179"/>
                    </a:lnTo>
                    <a:lnTo>
                      <a:pt x="35" y="179"/>
                    </a:lnTo>
                    <a:lnTo>
                      <a:pt x="31" y="181"/>
                    </a:lnTo>
                    <a:lnTo>
                      <a:pt x="25" y="179"/>
                    </a:lnTo>
                    <a:lnTo>
                      <a:pt x="22" y="179"/>
                    </a:lnTo>
                    <a:lnTo>
                      <a:pt x="18" y="177"/>
                    </a:lnTo>
                    <a:lnTo>
                      <a:pt x="14" y="175"/>
                    </a:lnTo>
                    <a:lnTo>
                      <a:pt x="10" y="171"/>
                    </a:lnTo>
                    <a:lnTo>
                      <a:pt x="6" y="167"/>
                    </a:lnTo>
                    <a:lnTo>
                      <a:pt x="4" y="163"/>
                    </a:lnTo>
                    <a:lnTo>
                      <a:pt x="2" y="159"/>
                    </a:lnTo>
                    <a:lnTo>
                      <a:pt x="2" y="156"/>
                    </a:lnTo>
                    <a:lnTo>
                      <a:pt x="0" y="150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285520" y="9720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329800" y="9720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5295600" y="1023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5323320" y="10231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293800" y="107784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227560" y="113724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2" y="17"/>
                    </a:lnTo>
                    <a:lnTo>
                      <a:pt x="18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227560" y="103968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2" y="17"/>
                    </a:lnTo>
                    <a:lnTo>
                      <a:pt x="18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942520" y="1572840"/>
                <a:ext cx="29520" cy="25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 flipH="1">
                <a:off x="5596200" y="1586160"/>
                <a:ext cx="358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4224240" y="1913760"/>
                <a:ext cx="117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4860000" y="550080"/>
                <a:ext cx="795960" cy="504720"/>
              </a:xfrm>
              <a:custGeom>
                <a:avLst/>
                <a:gdLst/>
                <a:ahLst/>
                <a:rect l="l" t="t" r="r" b="b"/>
                <a:pathLst>
                  <a:path w="481" h="305">
                    <a:moveTo>
                      <a:pt x="480" y="305"/>
                    </a:moveTo>
                    <a:lnTo>
                      <a:pt x="48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5644440" y="104328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6" y="15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4836600" y="533520"/>
                <a:ext cx="28080" cy="295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5" y="16"/>
                    </a:moveTo>
                    <a:lnTo>
                      <a:pt x="17" y="0"/>
                    </a:lnTo>
                    <a:lnTo>
                      <a:pt x="0" y="10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4341600" y="625680"/>
                <a:ext cx="1123920" cy="2199960"/>
              </a:xfrm>
              <a:custGeom>
                <a:avLst/>
                <a:gdLst/>
                <a:ahLst/>
                <a:rect l="l" t="t" r="r" b="b"/>
                <a:pathLst>
                  <a:path w="679" h="1329">
                    <a:moveTo>
                      <a:pt x="44" y="0"/>
                    </a:moveTo>
                    <a:lnTo>
                      <a:pt x="0" y="2"/>
                    </a:lnTo>
                    <a:lnTo>
                      <a:pt x="0" y="1329"/>
                    </a:lnTo>
                    <a:lnTo>
                      <a:pt x="679" y="13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4404600" y="612720"/>
                <a:ext cx="28080" cy="298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2" y="18"/>
                    </a:lnTo>
                    <a:lnTo>
                      <a:pt x="17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5459040" y="266400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4462560" y="1872360"/>
                <a:ext cx="1002960" cy="804240"/>
              </a:xfrm>
              <a:custGeom>
                <a:avLst/>
                <a:gdLst/>
                <a:ahLst/>
                <a:rect l="l" t="t" r="r" b="b"/>
                <a:pathLst>
                  <a:path w="606" h="486">
                    <a:moveTo>
                      <a:pt x="606" y="486"/>
                    </a:moveTo>
                    <a:lnTo>
                      <a:pt x="0" y="48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5459040" y="2723400"/>
                <a:ext cx="29520" cy="25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5459040" y="2813040"/>
                <a:ext cx="29520" cy="244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0"/>
                    </a:moveTo>
                    <a:lnTo>
                      <a:pt x="0" y="15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4331880" y="2723400"/>
                <a:ext cx="24480" cy="2592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6" y="16"/>
                    </a:moveTo>
                    <a:lnTo>
                      <a:pt x="7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4328640" y="2364120"/>
                <a:ext cx="28080" cy="259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8" y="16"/>
                    </a:moveTo>
                    <a:lnTo>
                      <a:pt x="9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4621680" y="71208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15"/>
                    </a:moveTo>
                    <a:lnTo>
                      <a:pt x="15" y="15"/>
                    </a:lnTo>
                    <a:lnTo>
                      <a:pt x="7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174840" y="3528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191400" y="352800"/>
                <a:ext cx="31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222360" y="3528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234960" y="352800"/>
                <a:ext cx="31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269880" y="35280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279600" y="352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310560" y="3528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337200" y="352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5596560" y="2826000"/>
                <a:ext cx="963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5596560" y="2676960"/>
                <a:ext cx="539280" cy="317880"/>
              </a:xfrm>
              <a:custGeom>
                <a:avLst/>
                <a:gdLst/>
                <a:ahLst/>
                <a:rect l="l" t="t" r="r" b="b"/>
                <a:pathLst>
                  <a:path w="326" h="192">
                    <a:moveTo>
                      <a:pt x="0" y="0"/>
                    </a:moveTo>
                    <a:lnTo>
                      <a:pt x="217" y="1"/>
                    </a:lnTo>
                    <a:lnTo>
                      <a:pt x="217" y="192"/>
                    </a:lnTo>
                    <a:lnTo>
                      <a:pt x="32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5596560" y="2615760"/>
                <a:ext cx="539280" cy="340560"/>
              </a:xfrm>
              <a:custGeom>
                <a:avLst/>
                <a:gdLst/>
                <a:ahLst/>
                <a:rect l="l" t="t" r="r" b="b"/>
                <a:pathLst>
                  <a:path w="326" h="206">
                    <a:moveTo>
                      <a:pt x="0" y="0"/>
                    </a:moveTo>
                    <a:lnTo>
                      <a:pt x="252" y="2"/>
                    </a:lnTo>
                    <a:lnTo>
                      <a:pt x="252" y="206"/>
                    </a:lnTo>
                    <a:lnTo>
                      <a:pt x="326" y="20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132600" y="2940120"/>
                <a:ext cx="25920" cy="280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0" y="17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132600" y="2981520"/>
                <a:ext cx="25920" cy="248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0" y="15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556680" y="281304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7350840" y="281304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2" y="15"/>
                    </a:lnTo>
                    <a:lnTo>
                      <a:pt x="17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 flipH="1">
                <a:off x="6698520" y="2826000"/>
                <a:ext cx="65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584760" y="2826000"/>
                <a:ext cx="171720" cy="89280"/>
              </a:xfrm>
              <a:custGeom>
                <a:avLst/>
                <a:gdLst/>
                <a:ahLst/>
                <a:rect l="l" t="t" r="r" b="b"/>
                <a:pathLst>
                  <a:path w="104" h="54">
                    <a:moveTo>
                      <a:pt x="104" y="0"/>
                    </a:moveTo>
                    <a:lnTo>
                      <a:pt x="104" y="54"/>
                    </a:lnTo>
                    <a:lnTo>
                      <a:pt x="0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743520" y="281304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15"/>
                    </a:move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581160" y="2826000"/>
                <a:ext cx="966240" cy="168840"/>
              </a:xfrm>
              <a:custGeom>
                <a:avLst/>
                <a:gdLst/>
                <a:ahLst/>
                <a:rect l="l" t="t" r="r" b="b"/>
                <a:pathLst>
                  <a:path w="584" h="102">
                    <a:moveTo>
                      <a:pt x="0" y="102"/>
                    </a:moveTo>
                    <a:lnTo>
                      <a:pt x="584" y="102"/>
                    </a:lnTo>
                    <a:lnTo>
                      <a:pt x="584" y="0"/>
                    </a:lnTo>
                    <a:lnTo>
                      <a:pt x="54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566400" y="2981520"/>
                <a:ext cx="24480" cy="248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5" y="15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566400" y="290232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15" y="15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566400" y="294012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0"/>
                    </a:moveTo>
                    <a:lnTo>
                      <a:pt x="15" y="17"/>
                    </a:lnTo>
                    <a:lnTo>
                      <a:pt x="0" y="1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7596000" y="122040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7" y="15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925680" y="187920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7"/>
                    </a:lnTo>
                    <a:lnTo>
                      <a:pt x="17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 flipH="1">
                <a:off x="6698880" y="1890360"/>
                <a:ext cx="178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4515480" y="1976760"/>
                <a:ext cx="2610360" cy="1274400"/>
              </a:xfrm>
              <a:custGeom>
                <a:avLst/>
                <a:gdLst/>
                <a:ahLst/>
                <a:rect l="l" t="t" r="r" b="b"/>
                <a:pathLst>
                  <a:path w="1577" h="770">
                    <a:moveTo>
                      <a:pt x="1577" y="615"/>
                    </a:moveTo>
                    <a:lnTo>
                      <a:pt x="1577" y="770"/>
                    </a:lnTo>
                    <a:lnTo>
                      <a:pt x="0" y="770"/>
                    </a:lnTo>
                    <a:lnTo>
                      <a:pt x="0" y="0"/>
                    </a:lnTo>
                    <a:lnTo>
                      <a:pt x="20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7112520" y="2981520"/>
                <a:ext cx="24480" cy="248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8" y="15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459040" y="103968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4169880" y="76320"/>
                <a:ext cx="1440" cy="124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4156200" y="1217160"/>
                <a:ext cx="28080" cy="5760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6" y="0"/>
                    </a:moveTo>
                    <a:lnTo>
                      <a:pt x="17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4111560" y="12135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4125600" y="1213560"/>
                <a:ext cx="31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4156200" y="12135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4173120" y="12135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4188240" y="121356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4169880" y="2877480"/>
                <a:ext cx="1440" cy="46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541480" y="76320"/>
                <a:ext cx="1800" cy="712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323028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328248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333288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338436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41244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4635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35139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356472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58956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61584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366984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372060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374688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37713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38235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530320" y="698400"/>
                <a:ext cx="27720" cy="579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5" y="0"/>
                    </a:moveTo>
                    <a:lnTo>
                      <a:pt x="17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541480" y="2877480"/>
                <a:ext cx="1800" cy="46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645960" y="76320"/>
                <a:ext cx="1440" cy="888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433080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438408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443628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448668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4512240" y="9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45345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458424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463896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466452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469008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47415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479124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481932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48423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632280" y="877680"/>
                <a:ext cx="24840" cy="56160"/>
              </a:xfrm>
              <a:custGeom>
                <a:avLst/>
                <a:gdLst/>
                <a:ahLst/>
                <a:rect l="l" t="t" r="r" b="b"/>
                <a:pathLst>
                  <a:path w="15" h="34">
                    <a:moveTo>
                      <a:pt x="15" y="0"/>
                    </a:moveTo>
                    <a:lnTo>
                      <a:pt x="15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645960" y="2877480"/>
                <a:ext cx="1440" cy="46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7433640" y="76320"/>
                <a:ext cx="3240" cy="106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5626800" y="84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567252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57261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577620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580248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585360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59043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595476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598392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00948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05988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11028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135840" y="84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16176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211800" y="84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7423560" y="1054800"/>
                <a:ext cx="24480" cy="608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0"/>
                    </a:moveTo>
                    <a:lnTo>
                      <a:pt x="15" y="37"/>
                    </a:lnTo>
                    <a:lnTo>
                      <a:pt x="0" y="37"/>
                    </a:lnTo>
                    <a:lnTo>
                      <a:pt x="0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7433640" y="2877480"/>
                <a:ext cx="3240" cy="46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7324920" y="10548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7367400" y="105480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7403760" y="10548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7448400" y="10548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7461720" y="1054800"/>
                <a:ext cx="4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7512480" y="105480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543000" y="8776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577920" y="8776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612480" y="87768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629760" y="87768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674040" y="8776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708240" y="87768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475600" y="6984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488200" y="69840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530320" y="6984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541120" y="69840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575680" y="69840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3174840" y="3165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3240720" y="31654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3263400" y="316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3313440" y="3165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3358080" y="3165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3405960" y="316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3431520" y="316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3350880" y="1928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3378600" y="1928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3589560" y="1928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3616920" y="1928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029840" y="1293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059360" y="1293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367160" y="1293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398480" y="1293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646520" y="10893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674600" y="10893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703400" y="20840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5" name=""/>
            <p:cNvGrpSpPr/>
            <p:nvPr/>
          </p:nvGrpSpPr>
          <p:grpSpPr>
            <a:xfrm>
              <a:off x="3174120" y="91080"/>
              <a:ext cx="4808160" cy="6534360"/>
              <a:chOff x="3174120" y="91080"/>
              <a:chExt cx="4808160" cy="6534360"/>
            </a:xfrm>
          </p:grpSpPr>
          <p:sp>
            <p:nvSpPr>
              <p:cNvPr id="5876" name=""/>
              <p:cNvSpPr/>
              <p:nvPr/>
            </p:nvSpPr>
            <p:spPr>
              <a:xfrm>
                <a:off x="4830120" y="1904040"/>
                <a:ext cx="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371200" y="15098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400000" y="15098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371920" y="19252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400000" y="19252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5673240" y="2736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704920" y="2736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3734280" y="834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3765960" y="834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3744720" y="6886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3772800" y="6886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4884840" y="1297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4912920" y="1297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5138280" y="1123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4604760" y="4377240"/>
                <a:ext cx="6357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357880" y="4377240"/>
                <a:ext cx="11052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179320" y="4474800"/>
                <a:ext cx="64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5258520" y="4231440"/>
                <a:ext cx="99360" cy="294480"/>
              </a:xfrm>
              <a:custGeom>
                <a:avLst/>
                <a:gdLst/>
                <a:ahLst/>
                <a:rect l="l" t="t" r="r" b="b"/>
                <a:pathLst>
                  <a:path w="60" h="178">
                    <a:moveTo>
                      <a:pt x="0" y="28"/>
                    </a:moveTo>
                    <a:lnTo>
                      <a:pt x="2" y="24"/>
                    </a:lnTo>
                    <a:lnTo>
                      <a:pt x="2" y="21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10" y="9"/>
                    </a:lnTo>
                    <a:lnTo>
                      <a:pt x="14" y="5"/>
                    </a:lnTo>
                    <a:lnTo>
                      <a:pt x="18" y="3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1" y="1"/>
                    </a:lnTo>
                    <a:lnTo>
                      <a:pt x="45" y="3"/>
                    </a:lnTo>
                    <a:lnTo>
                      <a:pt x="48" y="5"/>
                    </a:lnTo>
                    <a:lnTo>
                      <a:pt x="52" y="9"/>
                    </a:lnTo>
                    <a:lnTo>
                      <a:pt x="54" y="11"/>
                    </a:lnTo>
                    <a:lnTo>
                      <a:pt x="58" y="15"/>
                    </a:lnTo>
                    <a:lnTo>
                      <a:pt x="60" y="21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149"/>
                    </a:lnTo>
                    <a:lnTo>
                      <a:pt x="60" y="153"/>
                    </a:lnTo>
                    <a:lnTo>
                      <a:pt x="60" y="159"/>
                    </a:lnTo>
                    <a:lnTo>
                      <a:pt x="58" y="163"/>
                    </a:lnTo>
                    <a:lnTo>
                      <a:pt x="54" y="167"/>
                    </a:lnTo>
                    <a:lnTo>
                      <a:pt x="52" y="170"/>
                    </a:lnTo>
                    <a:lnTo>
                      <a:pt x="48" y="172"/>
                    </a:lnTo>
                    <a:lnTo>
                      <a:pt x="45" y="176"/>
                    </a:lnTo>
                    <a:lnTo>
                      <a:pt x="41" y="178"/>
                    </a:lnTo>
                    <a:lnTo>
                      <a:pt x="35" y="178"/>
                    </a:lnTo>
                    <a:lnTo>
                      <a:pt x="31" y="178"/>
                    </a:lnTo>
                    <a:lnTo>
                      <a:pt x="25" y="178"/>
                    </a:lnTo>
                    <a:lnTo>
                      <a:pt x="22" y="178"/>
                    </a:lnTo>
                    <a:lnTo>
                      <a:pt x="18" y="176"/>
                    </a:lnTo>
                    <a:lnTo>
                      <a:pt x="14" y="172"/>
                    </a:lnTo>
                    <a:lnTo>
                      <a:pt x="10" y="170"/>
                    </a:lnTo>
                    <a:lnTo>
                      <a:pt x="6" y="167"/>
                    </a:lnTo>
                    <a:lnTo>
                      <a:pt x="4" y="163"/>
                    </a:lnTo>
                    <a:lnTo>
                      <a:pt x="2" y="159"/>
                    </a:lnTo>
                    <a:lnTo>
                      <a:pt x="2" y="153"/>
                    </a:lnTo>
                    <a:lnTo>
                      <a:pt x="0" y="14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5258520" y="4231440"/>
                <a:ext cx="99360" cy="294480"/>
              </a:xfrm>
              <a:custGeom>
                <a:avLst/>
                <a:gdLst/>
                <a:ahLst/>
                <a:rect l="l" t="t" r="r" b="b"/>
                <a:pathLst>
                  <a:path w="60" h="178">
                    <a:moveTo>
                      <a:pt x="0" y="28"/>
                    </a:moveTo>
                    <a:lnTo>
                      <a:pt x="2" y="24"/>
                    </a:lnTo>
                    <a:lnTo>
                      <a:pt x="2" y="21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10" y="9"/>
                    </a:lnTo>
                    <a:lnTo>
                      <a:pt x="14" y="5"/>
                    </a:lnTo>
                    <a:lnTo>
                      <a:pt x="18" y="3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1" y="1"/>
                    </a:lnTo>
                    <a:lnTo>
                      <a:pt x="45" y="3"/>
                    </a:lnTo>
                    <a:lnTo>
                      <a:pt x="48" y="5"/>
                    </a:lnTo>
                    <a:lnTo>
                      <a:pt x="52" y="9"/>
                    </a:lnTo>
                    <a:lnTo>
                      <a:pt x="54" y="11"/>
                    </a:lnTo>
                    <a:lnTo>
                      <a:pt x="58" y="15"/>
                    </a:lnTo>
                    <a:lnTo>
                      <a:pt x="60" y="21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149"/>
                    </a:lnTo>
                    <a:lnTo>
                      <a:pt x="60" y="153"/>
                    </a:lnTo>
                    <a:lnTo>
                      <a:pt x="60" y="159"/>
                    </a:lnTo>
                    <a:lnTo>
                      <a:pt x="58" y="163"/>
                    </a:lnTo>
                    <a:lnTo>
                      <a:pt x="54" y="167"/>
                    </a:lnTo>
                    <a:lnTo>
                      <a:pt x="52" y="170"/>
                    </a:lnTo>
                    <a:lnTo>
                      <a:pt x="48" y="172"/>
                    </a:lnTo>
                    <a:lnTo>
                      <a:pt x="45" y="176"/>
                    </a:lnTo>
                    <a:lnTo>
                      <a:pt x="41" y="178"/>
                    </a:lnTo>
                    <a:lnTo>
                      <a:pt x="35" y="178"/>
                    </a:lnTo>
                    <a:lnTo>
                      <a:pt x="31" y="178"/>
                    </a:lnTo>
                    <a:lnTo>
                      <a:pt x="25" y="178"/>
                    </a:lnTo>
                    <a:lnTo>
                      <a:pt x="22" y="178"/>
                    </a:lnTo>
                    <a:lnTo>
                      <a:pt x="18" y="176"/>
                    </a:lnTo>
                    <a:lnTo>
                      <a:pt x="14" y="172"/>
                    </a:lnTo>
                    <a:lnTo>
                      <a:pt x="10" y="170"/>
                    </a:lnTo>
                    <a:lnTo>
                      <a:pt x="6" y="167"/>
                    </a:lnTo>
                    <a:lnTo>
                      <a:pt x="4" y="163"/>
                    </a:lnTo>
                    <a:lnTo>
                      <a:pt x="2" y="159"/>
                    </a:lnTo>
                    <a:lnTo>
                      <a:pt x="2" y="153"/>
                    </a:lnTo>
                    <a:lnTo>
                      <a:pt x="0" y="14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5285520" y="429408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5329800" y="4294080"/>
                <a:ext cx="36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5295600" y="4347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323320" y="43477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293800" y="440208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5227560" y="446328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2" y="17"/>
                    </a:lnTo>
                    <a:lnTo>
                      <a:pt x="18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5227560" y="436392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2" y="17"/>
                    </a:lnTo>
                    <a:lnTo>
                      <a:pt x="18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5137560" y="4449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6130800" y="1605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6158880" y="1605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6158880" y="20260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6187320" y="20260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7516440" y="2751480"/>
                <a:ext cx="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6317640" y="186264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6352560" y="18626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6380640" y="186264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5942520" y="212040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7067520" y="183096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7106760" y="1830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7133400" y="18309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7150680" y="1830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7180200" y="1830960"/>
                <a:ext cx="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7030080" y="18972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7074360" y="18972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7103160" y="18972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7147440" y="18972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7178760" y="189720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7194240" y="18972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420768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425808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31136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436356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413600" y="3410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43628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486680" y="3410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511880" y="3410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54284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59504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64544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696920" y="3410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174120" y="3410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192120" y="3410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263760" y="3410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28824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33936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390120" y="3410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415680" y="3410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44052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49200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547080" y="3410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57444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628440" y="3410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679200" y="3410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174840" y="64879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40720" y="648792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63400" y="648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313440" y="6487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358080" y="64879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405960" y="6487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431520" y="6487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5821560" y="2055960"/>
                <a:ext cx="25920" cy="248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8" y="15"/>
                    </a:move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882760" y="2122200"/>
                <a:ext cx="24480" cy="262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7" y="14"/>
                    </a:moveTo>
                    <a:lnTo>
                      <a:pt x="9" y="16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821560" y="3181680"/>
                <a:ext cx="25920" cy="24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8" y="15"/>
                    </a:move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6877440" y="1890360"/>
                <a:ext cx="1440" cy="37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6864480" y="2249640"/>
                <a:ext cx="24480" cy="2988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4328640" y="190044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15"/>
                    </a:moveTo>
                    <a:lnTo>
                      <a:pt x="9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4843080" y="185580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7"/>
                    </a:lnTo>
                    <a:lnTo>
                      <a:pt x="17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341600" y="1869120"/>
                <a:ext cx="514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4449240" y="185580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8" y="16"/>
                    </a:moveTo>
                    <a:lnTo>
                      <a:pt x="9" y="17"/>
                    </a:lnTo>
                    <a:lnTo>
                      <a:pt x="9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4328640" y="185580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9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4843080" y="179604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0" y="15"/>
                    </a:lnTo>
                    <a:lnTo>
                      <a:pt x="17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 flipH="1">
                <a:off x="4343040" y="1807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4388040" y="1796040"/>
                <a:ext cx="25920" cy="24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8" y="15"/>
                    </a:moveTo>
                    <a:lnTo>
                      <a:pt x="10" y="15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4328640" y="179604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5"/>
                    </a:moveTo>
                    <a:lnTo>
                      <a:pt x="9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4328640" y="104292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15"/>
                    </a:moveTo>
                    <a:lnTo>
                      <a:pt x="9" y="15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4697280" y="11538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2" y="15"/>
                    </a:lnTo>
                    <a:lnTo>
                      <a:pt x="15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731040" y="425520"/>
                <a:ext cx="1166760" cy="860760"/>
              </a:xfrm>
              <a:custGeom>
                <a:avLst/>
                <a:gdLst/>
                <a:ahLst/>
                <a:rect l="l" t="t" r="r" b="b"/>
                <a:pathLst>
                  <a:path w="705" h="520">
                    <a:moveTo>
                      <a:pt x="668" y="520"/>
                    </a:moveTo>
                    <a:lnTo>
                      <a:pt x="705" y="520"/>
                    </a:lnTo>
                    <a:lnTo>
                      <a:pt x="705" y="0"/>
                    </a:lnTo>
                    <a:lnTo>
                      <a:pt x="0" y="0"/>
                    </a:lnTo>
                    <a:lnTo>
                      <a:pt x="0" y="202"/>
                    </a:lnTo>
                    <a:lnTo>
                      <a:pt x="36" y="202"/>
                    </a:lnTo>
                    <a:lnTo>
                      <a:pt x="42" y="2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790440" y="89892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0" y="16"/>
                    </a:lnTo>
                    <a:lnTo>
                      <a:pt x="14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790440" y="749880"/>
                <a:ext cx="25920" cy="24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2" y="15"/>
                    </a:lnTo>
                    <a:lnTo>
                      <a:pt x="16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816720" y="687240"/>
                <a:ext cx="86040" cy="287640"/>
              </a:xfrm>
              <a:custGeom>
                <a:avLst/>
                <a:gdLst/>
                <a:ahLst/>
                <a:rect l="l" t="t" r="r" b="b"/>
                <a:pathLst>
                  <a:path w="52" h="174">
                    <a:moveTo>
                      <a:pt x="0" y="28"/>
                    </a:moveTo>
                    <a:lnTo>
                      <a:pt x="2" y="24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7" y="7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6" y="7"/>
                    </a:lnTo>
                    <a:lnTo>
                      <a:pt x="48" y="11"/>
                    </a:lnTo>
                    <a:lnTo>
                      <a:pt x="50" y="15"/>
                    </a:lnTo>
                    <a:lnTo>
                      <a:pt x="52" y="19"/>
                    </a:lnTo>
                    <a:lnTo>
                      <a:pt x="52" y="24"/>
                    </a:lnTo>
                    <a:lnTo>
                      <a:pt x="52" y="28"/>
                    </a:lnTo>
                    <a:lnTo>
                      <a:pt x="52" y="144"/>
                    </a:lnTo>
                    <a:lnTo>
                      <a:pt x="52" y="149"/>
                    </a:lnTo>
                    <a:lnTo>
                      <a:pt x="52" y="153"/>
                    </a:lnTo>
                    <a:lnTo>
                      <a:pt x="50" y="157"/>
                    </a:lnTo>
                    <a:lnTo>
                      <a:pt x="48" y="161"/>
                    </a:lnTo>
                    <a:lnTo>
                      <a:pt x="46" y="165"/>
                    </a:lnTo>
                    <a:lnTo>
                      <a:pt x="42" y="168"/>
                    </a:lnTo>
                    <a:lnTo>
                      <a:pt x="38" y="170"/>
                    </a:lnTo>
                    <a:lnTo>
                      <a:pt x="34" y="172"/>
                    </a:lnTo>
                    <a:lnTo>
                      <a:pt x="30" y="172"/>
                    </a:lnTo>
                    <a:lnTo>
                      <a:pt x="27" y="174"/>
                    </a:lnTo>
                    <a:lnTo>
                      <a:pt x="23" y="172"/>
                    </a:lnTo>
                    <a:lnTo>
                      <a:pt x="19" y="172"/>
                    </a:lnTo>
                    <a:lnTo>
                      <a:pt x="15" y="170"/>
                    </a:lnTo>
                    <a:lnTo>
                      <a:pt x="11" y="168"/>
                    </a:lnTo>
                    <a:lnTo>
                      <a:pt x="7" y="165"/>
                    </a:lnTo>
                    <a:lnTo>
                      <a:pt x="6" y="161"/>
                    </a:lnTo>
                    <a:lnTo>
                      <a:pt x="4" y="157"/>
                    </a:lnTo>
                    <a:lnTo>
                      <a:pt x="2" y="153"/>
                    </a:lnTo>
                    <a:lnTo>
                      <a:pt x="2" y="149"/>
                    </a:lnTo>
                    <a:lnTo>
                      <a:pt x="0" y="144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816720" y="687240"/>
                <a:ext cx="86040" cy="287640"/>
              </a:xfrm>
              <a:custGeom>
                <a:avLst/>
                <a:gdLst/>
                <a:ahLst/>
                <a:rect l="l" t="t" r="r" b="b"/>
                <a:pathLst>
                  <a:path w="52" h="174">
                    <a:moveTo>
                      <a:pt x="0" y="28"/>
                    </a:moveTo>
                    <a:lnTo>
                      <a:pt x="2" y="24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7" y="7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6" y="7"/>
                    </a:lnTo>
                    <a:lnTo>
                      <a:pt x="48" y="11"/>
                    </a:lnTo>
                    <a:lnTo>
                      <a:pt x="50" y="15"/>
                    </a:lnTo>
                    <a:lnTo>
                      <a:pt x="52" y="19"/>
                    </a:lnTo>
                    <a:lnTo>
                      <a:pt x="52" y="24"/>
                    </a:lnTo>
                    <a:lnTo>
                      <a:pt x="52" y="28"/>
                    </a:lnTo>
                    <a:lnTo>
                      <a:pt x="52" y="144"/>
                    </a:lnTo>
                    <a:lnTo>
                      <a:pt x="52" y="149"/>
                    </a:lnTo>
                    <a:lnTo>
                      <a:pt x="52" y="153"/>
                    </a:lnTo>
                    <a:lnTo>
                      <a:pt x="50" y="157"/>
                    </a:lnTo>
                    <a:lnTo>
                      <a:pt x="48" y="161"/>
                    </a:lnTo>
                    <a:lnTo>
                      <a:pt x="46" y="165"/>
                    </a:lnTo>
                    <a:lnTo>
                      <a:pt x="42" y="168"/>
                    </a:lnTo>
                    <a:lnTo>
                      <a:pt x="38" y="170"/>
                    </a:lnTo>
                    <a:lnTo>
                      <a:pt x="34" y="172"/>
                    </a:lnTo>
                    <a:lnTo>
                      <a:pt x="30" y="172"/>
                    </a:lnTo>
                    <a:lnTo>
                      <a:pt x="27" y="174"/>
                    </a:lnTo>
                    <a:lnTo>
                      <a:pt x="23" y="172"/>
                    </a:lnTo>
                    <a:lnTo>
                      <a:pt x="19" y="172"/>
                    </a:lnTo>
                    <a:lnTo>
                      <a:pt x="15" y="170"/>
                    </a:lnTo>
                    <a:lnTo>
                      <a:pt x="11" y="168"/>
                    </a:lnTo>
                    <a:lnTo>
                      <a:pt x="7" y="165"/>
                    </a:lnTo>
                    <a:lnTo>
                      <a:pt x="6" y="161"/>
                    </a:lnTo>
                    <a:lnTo>
                      <a:pt x="4" y="157"/>
                    </a:lnTo>
                    <a:lnTo>
                      <a:pt x="2" y="153"/>
                    </a:lnTo>
                    <a:lnTo>
                      <a:pt x="2" y="149"/>
                    </a:lnTo>
                    <a:lnTo>
                      <a:pt x="0" y="144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839040" y="74988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876480" y="749880"/>
                <a:ext cx="36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848400" y="7992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3873240" y="7977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3848400" y="85428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3664800" y="911880"/>
                <a:ext cx="342360" cy="453600"/>
              </a:xfrm>
              <a:custGeom>
                <a:avLst/>
                <a:gdLst/>
                <a:ahLst/>
                <a:rect l="l" t="t" r="r" b="b"/>
                <a:pathLst>
                  <a:path w="207" h="274">
                    <a:moveTo>
                      <a:pt x="207" y="274"/>
                    </a:moveTo>
                    <a:lnTo>
                      <a:pt x="207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76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3385080" y="639000"/>
                <a:ext cx="570600" cy="1274400"/>
              </a:xfrm>
              <a:custGeom>
                <a:avLst/>
                <a:gdLst/>
                <a:ahLst/>
                <a:rect l="l" t="t" r="r" b="b"/>
                <a:pathLst>
                  <a:path w="345" h="770">
                    <a:moveTo>
                      <a:pt x="313" y="115"/>
                    </a:moveTo>
                    <a:lnTo>
                      <a:pt x="345" y="115"/>
                    </a:lnTo>
                    <a:lnTo>
                      <a:pt x="345" y="0"/>
                    </a:lnTo>
                    <a:lnTo>
                      <a:pt x="0" y="0"/>
                    </a:lnTo>
                    <a:lnTo>
                      <a:pt x="0" y="770"/>
                    </a:lnTo>
                    <a:lnTo>
                      <a:pt x="32" y="77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4725720" y="1085760"/>
                <a:ext cx="114480" cy="389160"/>
              </a:xfrm>
              <a:custGeom>
                <a:avLst/>
                <a:gdLst/>
                <a:ahLst/>
                <a:rect l="l" t="t" r="r" b="b"/>
                <a:pathLst>
                  <a:path w="69" h="235">
                    <a:moveTo>
                      <a:pt x="0" y="0"/>
                    </a:moveTo>
                    <a:lnTo>
                      <a:pt x="2" y="96"/>
                    </a:lnTo>
                    <a:lnTo>
                      <a:pt x="23" y="118"/>
                    </a:lnTo>
                    <a:lnTo>
                      <a:pt x="2" y="141"/>
                    </a:lnTo>
                    <a:lnTo>
                      <a:pt x="2" y="235"/>
                    </a:lnTo>
                    <a:lnTo>
                      <a:pt x="69" y="164"/>
                    </a:lnTo>
                    <a:lnTo>
                      <a:pt x="69" y="7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4725720" y="1085760"/>
                <a:ext cx="114480" cy="389160"/>
              </a:xfrm>
              <a:custGeom>
                <a:avLst/>
                <a:gdLst/>
                <a:ahLst/>
                <a:rect l="l" t="t" r="r" b="b"/>
                <a:pathLst>
                  <a:path w="69" h="235">
                    <a:moveTo>
                      <a:pt x="0" y="0"/>
                    </a:moveTo>
                    <a:lnTo>
                      <a:pt x="2" y="96"/>
                    </a:lnTo>
                    <a:lnTo>
                      <a:pt x="23" y="118"/>
                    </a:lnTo>
                    <a:lnTo>
                      <a:pt x="2" y="141"/>
                    </a:lnTo>
                    <a:lnTo>
                      <a:pt x="2" y="235"/>
                    </a:lnTo>
                    <a:lnTo>
                      <a:pt x="69" y="164"/>
                    </a:lnTo>
                    <a:lnTo>
                      <a:pt x="69" y="7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4788720" y="1265040"/>
                <a:ext cx="29520" cy="342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10" y="10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0" y="12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8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8" y="1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4674600" y="1165320"/>
                <a:ext cx="30960" cy="475200"/>
              </a:xfrm>
              <a:custGeom>
                <a:avLst/>
                <a:gdLst/>
                <a:ahLst/>
                <a:rect l="l" t="t" r="r" b="b"/>
                <a:pathLst>
                  <a:path w="19" h="287">
                    <a:moveTo>
                      <a:pt x="0" y="287"/>
                    </a:moveTo>
                    <a:lnTo>
                      <a:pt x="2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4677840" y="1509840"/>
                <a:ext cx="162000" cy="266400"/>
              </a:xfrm>
              <a:custGeom>
                <a:avLst/>
                <a:gdLst/>
                <a:ahLst/>
                <a:rect l="l" t="t" r="r" b="b"/>
                <a:pathLst>
                  <a:path w="98" h="161">
                    <a:moveTo>
                      <a:pt x="48" y="159"/>
                    </a:moveTo>
                    <a:lnTo>
                      <a:pt x="56" y="159"/>
                    </a:lnTo>
                    <a:lnTo>
                      <a:pt x="63" y="155"/>
                    </a:lnTo>
                    <a:lnTo>
                      <a:pt x="71" y="152"/>
                    </a:lnTo>
                    <a:lnTo>
                      <a:pt x="77" y="146"/>
                    </a:lnTo>
                    <a:lnTo>
                      <a:pt x="83" y="136"/>
                    </a:lnTo>
                    <a:lnTo>
                      <a:pt x="88" y="127"/>
                    </a:lnTo>
                    <a:lnTo>
                      <a:pt x="92" y="117"/>
                    </a:lnTo>
                    <a:lnTo>
                      <a:pt x="94" y="105"/>
                    </a:lnTo>
                    <a:lnTo>
                      <a:pt x="96" y="92"/>
                    </a:lnTo>
                    <a:lnTo>
                      <a:pt x="98" y="80"/>
                    </a:lnTo>
                    <a:lnTo>
                      <a:pt x="96" y="67"/>
                    </a:lnTo>
                    <a:lnTo>
                      <a:pt x="94" y="54"/>
                    </a:lnTo>
                    <a:lnTo>
                      <a:pt x="92" y="42"/>
                    </a:lnTo>
                    <a:lnTo>
                      <a:pt x="88" y="32"/>
                    </a:lnTo>
                    <a:lnTo>
                      <a:pt x="83" y="23"/>
                    </a:lnTo>
                    <a:lnTo>
                      <a:pt x="77" y="15"/>
                    </a:lnTo>
                    <a:lnTo>
                      <a:pt x="71" y="8"/>
                    </a:lnTo>
                    <a:lnTo>
                      <a:pt x="63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3" y="4"/>
                    </a:lnTo>
                    <a:lnTo>
                      <a:pt x="27" y="8"/>
                    </a:lnTo>
                    <a:lnTo>
                      <a:pt x="19" y="15"/>
                    </a:lnTo>
                    <a:lnTo>
                      <a:pt x="14" y="23"/>
                    </a:lnTo>
                    <a:lnTo>
                      <a:pt x="10" y="32"/>
                    </a:lnTo>
                    <a:lnTo>
                      <a:pt x="6" y="42"/>
                    </a:lnTo>
                    <a:lnTo>
                      <a:pt x="2" y="54"/>
                    </a:lnTo>
                    <a:lnTo>
                      <a:pt x="0" y="67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2" y="105"/>
                    </a:lnTo>
                    <a:lnTo>
                      <a:pt x="6" y="117"/>
                    </a:lnTo>
                    <a:lnTo>
                      <a:pt x="10" y="127"/>
                    </a:lnTo>
                    <a:lnTo>
                      <a:pt x="14" y="136"/>
                    </a:lnTo>
                    <a:lnTo>
                      <a:pt x="19" y="146"/>
                    </a:lnTo>
                    <a:lnTo>
                      <a:pt x="27" y="152"/>
                    </a:lnTo>
                    <a:lnTo>
                      <a:pt x="33" y="155"/>
                    </a:lnTo>
                    <a:lnTo>
                      <a:pt x="40" y="159"/>
                    </a:lnTo>
                    <a:lnTo>
                      <a:pt x="48" y="161"/>
                    </a:lnTo>
                    <a:lnTo>
                      <a:pt x="48" y="161"/>
                    </a:lnTo>
                    <a:lnTo>
                      <a:pt x="48" y="15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4677840" y="1509840"/>
                <a:ext cx="162000" cy="266400"/>
              </a:xfrm>
              <a:custGeom>
                <a:avLst/>
                <a:gdLst/>
                <a:ahLst/>
                <a:rect l="l" t="t" r="r" b="b"/>
                <a:pathLst>
                  <a:path w="98" h="161">
                    <a:moveTo>
                      <a:pt x="48" y="159"/>
                    </a:moveTo>
                    <a:lnTo>
                      <a:pt x="56" y="159"/>
                    </a:lnTo>
                    <a:lnTo>
                      <a:pt x="63" y="155"/>
                    </a:lnTo>
                    <a:lnTo>
                      <a:pt x="71" y="152"/>
                    </a:lnTo>
                    <a:lnTo>
                      <a:pt x="77" y="146"/>
                    </a:lnTo>
                    <a:lnTo>
                      <a:pt x="83" y="136"/>
                    </a:lnTo>
                    <a:lnTo>
                      <a:pt x="88" y="127"/>
                    </a:lnTo>
                    <a:lnTo>
                      <a:pt x="92" y="117"/>
                    </a:lnTo>
                    <a:lnTo>
                      <a:pt x="94" y="105"/>
                    </a:lnTo>
                    <a:lnTo>
                      <a:pt x="96" y="92"/>
                    </a:lnTo>
                    <a:lnTo>
                      <a:pt x="98" y="80"/>
                    </a:lnTo>
                    <a:lnTo>
                      <a:pt x="96" y="67"/>
                    </a:lnTo>
                    <a:lnTo>
                      <a:pt x="94" y="54"/>
                    </a:lnTo>
                    <a:lnTo>
                      <a:pt x="92" y="42"/>
                    </a:lnTo>
                    <a:lnTo>
                      <a:pt x="88" y="32"/>
                    </a:lnTo>
                    <a:lnTo>
                      <a:pt x="83" y="23"/>
                    </a:lnTo>
                    <a:lnTo>
                      <a:pt x="77" y="15"/>
                    </a:lnTo>
                    <a:lnTo>
                      <a:pt x="71" y="8"/>
                    </a:lnTo>
                    <a:lnTo>
                      <a:pt x="63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3" y="4"/>
                    </a:lnTo>
                    <a:lnTo>
                      <a:pt x="27" y="8"/>
                    </a:lnTo>
                    <a:lnTo>
                      <a:pt x="19" y="15"/>
                    </a:lnTo>
                    <a:lnTo>
                      <a:pt x="14" y="23"/>
                    </a:lnTo>
                    <a:lnTo>
                      <a:pt x="10" y="32"/>
                    </a:lnTo>
                    <a:lnTo>
                      <a:pt x="6" y="42"/>
                    </a:lnTo>
                    <a:lnTo>
                      <a:pt x="2" y="54"/>
                    </a:lnTo>
                    <a:lnTo>
                      <a:pt x="0" y="67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2" y="105"/>
                    </a:lnTo>
                    <a:lnTo>
                      <a:pt x="6" y="117"/>
                    </a:lnTo>
                    <a:lnTo>
                      <a:pt x="10" y="127"/>
                    </a:lnTo>
                    <a:lnTo>
                      <a:pt x="14" y="136"/>
                    </a:lnTo>
                    <a:lnTo>
                      <a:pt x="19" y="146"/>
                    </a:lnTo>
                    <a:lnTo>
                      <a:pt x="27" y="152"/>
                    </a:lnTo>
                    <a:lnTo>
                      <a:pt x="33" y="155"/>
                    </a:lnTo>
                    <a:lnTo>
                      <a:pt x="40" y="159"/>
                    </a:lnTo>
                    <a:lnTo>
                      <a:pt x="48" y="161"/>
                    </a:lnTo>
                    <a:lnTo>
                      <a:pt x="48" y="1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4702680" y="158256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4739760" y="1582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4767120" y="158256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4777200" y="15825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4791960" y="15825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4808520" y="15825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4693680" y="164700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4706280" y="16470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4735080" y="16470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4750920" y="16470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4763880" y="16470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781160" y="16470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 flipV="1">
                <a:off x="4747320" y="1776240"/>
                <a:ext cx="324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4522320" y="33472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6725160" y="91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6773760" y="91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6825240" y="91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6850080" y="91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6901920" y="910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6932880" y="91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6985800" y="910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7038720" y="91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7088400" y="910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560628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565488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571068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576108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5786640" y="3430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580896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585864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591012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593496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596124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601596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606564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609372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611712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6674400" y="3413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671868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677052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682236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684684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689832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950160" y="3413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700452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702972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705384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708012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710604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713016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7156440" y="34135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7543800" y="342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7594920" y="342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7645320" y="342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7670880" y="342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7724520" y="3423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7755480" y="342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7807680" y="34236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7861320" y="342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7914600" y="34236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7525440" y="95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7579440" y="95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7629840" y="957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7655400" y="95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7706160" y="957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7738200" y="95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7788960" y="95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7843320" y="95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7894080" y="95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5292000" y="1640520"/>
                <a:ext cx="117360" cy="266400"/>
              </a:xfrm>
              <a:custGeom>
                <a:avLst/>
                <a:gdLst/>
                <a:ahLst/>
                <a:rect l="l" t="t" r="r" b="b"/>
                <a:pathLst>
                  <a:path w="71" h="161">
                    <a:moveTo>
                      <a:pt x="34" y="161"/>
                    </a:moveTo>
                    <a:lnTo>
                      <a:pt x="40" y="161"/>
                    </a:lnTo>
                    <a:lnTo>
                      <a:pt x="46" y="157"/>
                    </a:lnTo>
                    <a:lnTo>
                      <a:pt x="51" y="151"/>
                    </a:lnTo>
                    <a:lnTo>
                      <a:pt x="55" y="146"/>
                    </a:lnTo>
                    <a:lnTo>
                      <a:pt x="59" y="138"/>
                    </a:lnTo>
                    <a:lnTo>
                      <a:pt x="63" y="128"/>
                    </a:lnTo>
                    <a:lnTo>
                      <a:pt x="67" y="117"/>
                    </a:lnTo>
                    <a:lnTo>
                      <a:pt x="69" y="105"/>
                    </a:lnTo>
                    <a:lnTo>
                      <a:pt x="69" y="94"/>
                    </a:lnTo>
                    <a:lnTo>
                      <a:pt x="71" y="80"/>
                    </a:lnTo>
                    <a:lnTo>
                      <a:pt x="69" y="67"/>
                    </a:lnTo>
                    <a:lnTo>
                      <a:pt x="69" y="55"/>
                    </a:lnTo>
                    <a:lnTo>
                      <a:pt x="67" y="42"/>
                    </a:lnTo>
                    <a:lnTo>
                      <a:pt x="63" y="32"/>
                    </a:lnTo>
                    <a:lnTo>
                      <a:pt x="59" y="23"/>
                    </a:lnTo>
                    <a:lnTo>
                      <a:pt x="55" y="15"/>
                    </a:lnTo>
                    <a:lnTo>
                      <a:pt x="51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5" y="3"/>
                    </a:lnTo>
                    <a:lnTo>
                      <a:pt x="19" y="7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7" y="32"/>
                    </a:lnTo>
                    <a:lnTo>
                      <a:pt x="3" y="42"/>
                    </a:lnTo>
                    <a:lnTo>
                      <a:pt x="2" y="55"/>
                    </a:lnTo>
                    <a:lnTo>
                      <a:pt x="0" y="67"/>
                    </a:lnTo>
                    <a:lnTo>
                      <a:pt x="0" y="80"/>
                    </a:lnTo>
                    <a:lnTo>
                      <a:pt x="0" y="94"/>
                    </a:lnTo>
                    <a:lnTo>
                      <a:pt x="2" y="105"/>
                    </a:lnTo>
                    <a:lnTo>
                      <a:pt x="3" y="117"/>
                    </a:lnTo>
                    <a:lnTo>
                      <a:pt x="7" y="128"/>
                    </a:lnTo>
                    <a:lnTo>
                      <a:pt x="9" y="138"/>
                    </a:lnTo>
                    <a:lnTo>
                      <a:pt x="15" y="146"/>
                    </a:lnTo>
                    <a:lnTo>
                      <a:pt x="19" y="151"/>
                    </a:lnTo>
                    <a:lnTo>
                      <a:pt x="25" y="157"/>
                    </a:lnTo>
                    <a:lnTo>
                      <a:pt x="28" y="161"/>
                    </a:lnTo>
                    <a:lnTo>
                      <a:pt x="34" y="161"/>
                    </a:lnTo>
                    <a:lnTo>
                      <a:pt x="34" y="1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5292000" y="1640520"/>
                <a:ext cx="117360" cy="266400"/>
              </a:xfrm>
              <a:custGeom>
                <a:avLst/>
                <a:gdLst/>
                <a:ahLst/>
                <a:rect l="l" t="t" r="r" b="b"/>
                <a:pathLst>
                  <a:path w="71" h="161">
                    <a:moveTo>
                      <a:pt x="34" y="161"/>
                    </a:moveTo>
                    <a:lnTo>
                      <a:pt x="40" y="161"/>
                    </a:lnTo>
                    <a:lnTo>
                      <a:pt x="46" y="157"/>
                    </a:lnTo>
                    <a:lnTo>
                      <a:pt x="51" y="151"/>
                    </a:lnTo>
                    <a:lnTo>
                      <a:pt x="55" y="146"/>
                    </a:lnTo>
                    <a:lnTo>
                      <a:pt x="59" y="138"/>
                    </a:lnTo>
                    <a:lnTo>
                      <a:pt x="63" y="128"/>
                    </a:lnTo>
                    <a:lnTo>
                      <a:pt x="67" y="117"/>
                    </a:lnTo>
                    <a:lnTo>
                      <a:pt x="69" y="105"/>
                    </a:lnTo>
                    <a:lnTo>
                      <a:pt x="69" y="94"/>
                    </a:lnTo>
                    <a:lnTo>
                      <a:pt x="71" y="80"/>
                    </a:lnTo>
                    <a:lnTo>
                      <a:pt x="69" y="67"/>
                    </a:lnTo>
                    <a:lnTo>
                      <a:pt x="69" y="55"/>
                    </a:lnTo>
                    <a:lnTo>
                      <a:pt x="67" y="42"/>
                    </a:lnTo>
                    <a:lnTo>
                      <a:pt x="63" y="32"/>
                    </a:lnTo>
                    <a:lnTo>
                      <a:pt x="59" y="23"/>
                    </a:lnTo>
                    <a:lnTo>
                      <a:pt x="55" y="15"/>
                    </a:lnTo>
                    <a:lnTo>
                      <a:pt x="51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5" y="3"/>
                    </a:lnTo>
                    <a:lnTo>
                      <a:pt x="19" y="7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7" y="32"/>
                    </a:lnTo>
                    <a:lnTo>
                      <a:pt x="3" y="42"/>
                    </a:lnTo>
                    <a:lnTo>
                      <a:pt x="2" y="55"/>
                    </a:lnTo>
                    <a:lnTo>
                      <a:pt x="0" y="67"/>
                    </a:lnTo>
                    <a:lnTo>
                      <a:pt x="0" y="80"/>
                    </a:lnTo>
                    <a:lnTo>
                      <a:pt x="0" y="94"/>
                    </a:lnTo>
                    <a:lnTo>
                      <a:pt x="2" y="105"/>
                    </a:lnTo>
                    <a:lnTo>
                      <a:pt x="3" y="117"/>
                    </a:lnTo>
                    <a:lnTo>
                      <a:pt x="7" y="128"/>
                    </a:lnTo>
                    <a:lnTo>
                      <a:pt x="9" y="138"/>
                    </a:lnTo>
                    <a:lnTo>
                      <a:pt x="15" y="146"/>
                    </a:lnTo>
                    <a:lnTo>
                      <a:pt x="19" y="151"/>
                    </a:lnTo>
                    <a:lnTo>
                      <a:pt x="25" y="157"/>
                    </a:lnTo>
                    <a:lnTo>
                      <a:pt x="28" y="161"/>
                    </a:lnTo>
                    <a:lnTo>
                      <a:pt x="34" y="161"/>
                    </a:lnTo>
                    <a:lnTo>
                      <a:pt x="34" y="1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320800" y="1710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341680" y="1592640"/>
                <a:ext cx="144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 flipV="1">
                <a:off x="5347800" y="1906920"/>
                <a:ext cx="180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574680" y="4557960"/>
                <a:ext cx="1032840" cy="1802520"/>
              </a:xfrm>
              <a:custGeom>
                <a:avLst/>
                <a:gdLst/>
                <a:ahLst/>
                <a:rect l="l" t="t" r="r" b="b"/>
                <a:pathLst>
                  <a:path w="624" h="1089">
                    <a:moveTo>
                      <a:pt x="624" y="0"/>
                    </a:moveTo>
                    <a:lnTo>
                      <a:pt x="624" y="1089"/>
                    </a:lnTo>
                    <a:lnTo>
                      <a:pt x="0" y="108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 flipH="1">
                <a:off x="5834520" y="5390640"/>
                <a:ext cx="12060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5834880" y="5009400"/>
                <a:ext cx="120600" cy="1509840"/>
              </a:xfrm>
              <a:custGeom>
                <a:avLst/>
                <a:gdLst/>
                <a:ahLst/>
                <a:rect l="l" t="t" r="r" b="b"/>
                <a:pathLst>
                  <a:path w="73" h="912">
                    <a:moveTo>
                      <a:pt x="73" y="0"/>
                    </a:moveTo>
                    <a:lnTo>
                      <a:pt x="0" y="0"/>
                    </a:lnTo>
                    <a:lnTo>
                      <a:pt x="0" y="912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894280" y="5108760"/>
                <a:ext cx="982800" cy="1350720"/>
              </a:xfrm>
              <a:custGeom>
                <a:avLst/>
                <a:gdLst/>
                <a:ahLst/>
                <a:rect l="l" t="t" r="r" b="b"/>
                <a:pathLst>
                  <a:path w="594" h="816">
                    <a:moveTo>
                      <a:pt x="594" y="288"/>
                    </a:moveTo>
                    <a:lnTo>
                      <a:pt x="594" y="816"/>
                    </a:lnTo>
                    <a:lnTo>
                      <a:pt x="0" y="816"/>
                    </a:ln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 flipH="1">
                <a:off x="5893920" y="5457960"/>
                <a:ext cx="60840" cy="32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596560" y="5524560"/>
                <a:ext cx="120600" cy="17856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0" y="106"/>
                    </a:moveTo>
                    <a:lnTo>
                      <a:pt x="73" y="108"/>
                    </a:lnTo>
                    <a:lnTo>
                      <a:pt x="73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5713920" y="5524560"/>
                <a:ext cx="2415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5654160" y="4198680"/>
                <a:ext cx="86040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 flipH="1">
                <a:off x="5596200" y="4377240"/>
                <a:ext cx="734760" cy="32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 flipH="1">
                <a:off x="7490160" y="5216760"/>
                <a:ext cx="2347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 flipH="1">
                <a:off x="7292520" y="5216760"/>
                <a:ext cx="6444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 flipH="1">
                <a:off x="6877080" y="5216760"/>
                <a:ext cx="52920" cy="28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071680" y="3814560"/>
                <a:ext cx="2535840" cy="997920"/>
              </a:xfrm>
              <a:custGeom>
                <a:avLst/>
                <a:gdLst/>
                <a:ahLst/>
                <a:rect l="l" t="t" r="r" b="b"/>
                <a:pathLst>
                  <a:path w="1532" h="603">
                    <a:moveTo>
                      <a:pt x="0" y="603"/>
                    </a:moveTo>
                    <a:lnTo>
                      <a:pt x="2" y="0"/>
                    </a:lnTo>
                    <a:lnTo>
                      <a:pt x="1532" y="0"/>
                    </a:lnTo>
                    <a:lnTo>
                      <a:pt x="1532" y="449"/>
                    </a:lnTo>
                  </a:path>
                </a:pathLst>
              </a:custGeom>
              <a:noFill/>
              <a:ln w="6480">
                <a:solidFill>
                  <a:srgbClr val="f7c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6" name=""/>
            <p:cNvGrpSpPr/>
            <p:nvPr/>
          </p:nvGrpSpPr>
          <p:grpSpPr>
            <a:xfrm>
              <a:off x="3323520" y="3755160"/>
              <a:ext cx="4579920" cy="2764080"/>
              <a:chOff x="3323520" y="3755160"/>
              <a:chExt cx="4579920" cy="2764080"/>
            </a:xfrm>
          </p:grpSpPr>
          <p:sp>
            <p:nvSpPr>
              <p:cNvPr id="6077" name=""/>
              <p:cNvSpPr/>
              <p:nvPr/>
            </p:nvSpPr>
            <p:spPr>
              <a:xfrm flipV="1">
                <a:off x="4632480" y="4052880"/>
                <a:ext cx="1800" cy="222768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596200" y="6062400"/>
                <a:ext cx="59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4341240" y="6062400"/>
                <a:ext cx="112716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6009840" y="557892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17" y="17"/>
                    </a:lnTo>
                    <a:lnTo>
                      <a:pt x="7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6009840" y="51620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6"/>
                    </a:moveTo>
                    <a:lnTo>
                      <a:pt x="17" y="16"/>
                    </a:lnTo>
                    <a:lnTo>
                      <a:pt x="7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6553080" y="6343920"/>
                <a:ext cx="28080" cy="295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5" y="0"/>
                    </a:moveTo>
                    <a:lnTo>
                      <a:pt x="17" y="18"/>
                    </a:lnTo>
                    <a:lnTo>
                      <a:pt x="0" y="1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7489800" y="4557960"/>
                <a:ext cx="117360" cy="1440"/>
              </a:xfrm>
              <a:prstGeom prst="line">
                <a:avLst/>
              </a:prstGeom>
              <a:ln w="64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6584400" y="4377240"/>
                <a:ext cx="231480" cy="1903320"/>
              </a:xfrm>
              <a:custGeom>
                <a:avLst/>
                <a:gdLst/>
                <a:ahLst/>
                <a:rect l="l" t="t" r="r" b="b"/>
                <a:pathLst>
                  <a:path w="140" h="1150">
                    <a:moveTo>
                      <a:pt x="140" y="0"/>
                    </a:moveTo>
                    <a:lnTo>
                      <a:pt x="140" y="1150"/>
                    </a:lnTo>
                    <a:lnTo>
                      <a:pt x="0" y="115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6021360" y="5597280"/>
                <a:ext cx="140760" cy="642240"/>
              </a:xfrm>
              <a:custGeom>
                <a:avLst/>
                <a:gdLst/>
                <a:ahLst/>
                <a:rect l="l" t="t" r="r" b="b"/>
                <a:pathLst>
                  <a:path w="85" h="388">
                    <a:moveTo>
                      <a:pt x="0" y="0"/>
                    </a:moveTo>
                    <a:lnTo>
                      <a:pt x="0" y="35"/>
                    </a:lnTo>
                    <a:lnTo>
                      <a:pt x="31" y="35"/>
                    </a:lnTo>
                    <a:lnTo>
                      <a:pt x="31" y="388"/>
                    </a:lnTo>
                    <a:lnTo>
                      <a:pt x="85" y="38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6021360" y="5181840"/>
                <a:ext cx="152280" cy="1029600"/>
              </a:xfrm>
              <a:custGeom>
                <a:avLst/>
                <a:gdLst/>
                <a:ahLst/>
                <a:rect l="l" t="t" r="r" b="b"/>
                <a:pathLst>
                  <a:path w="92" h="622">
                    <a:moveTo>
                      <a:pt x="0" y="0"/>
                    </a:moveTo>
                    <a:lnTo>
                      <a:pt x="0" y="34"/>
                    </a:lnTo>
                    <a:lnTo>
                      <a:pt x="67" y="34"/>
                    </a:lnTo>
                    <a:lnTo>
                      <a:pt x="67" y="622"/>
                    </a:lnTo>
                    <a:lnTo>
                      <a:pt x="92" y="622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4131000" y="461592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0"/>
                    </a:moveTo>
                    <a:lnTo>
                      <a:pt x="0" y="2"/>
                    </a:lnTo>
                    <a:lnTo>
                      <a:pt x="8" y="17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141440" y="3913920"/>
                <a:ext cx="294480" cy="708480"/>
              </a:xfrm>
              <a:custGeom>
                <a:avLst/>
                <a:gdLst/>
                <a:ahLst/>
                <a:rect l="l" t="t" r="r" b="b"/>
                <a:pathLst>
                  <a:path w="178" h="428">
                    <a:moveTo>
                      <a:pt x="0" y="428"/>
                    </a:moveTo>
                    <a:lnTo>
                      <a:pt x="2" y="0"/>
                    </a:lnTo>
                    <a:lnTo>
                      <a:pt x="178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510720" y="3872520"/>
                <a:ext cx="925200" cy="1199880"/>
              </a:xfrm>
              <a:custGeom>
                <a:avLst/>
                <a:gdLst/>
                <a:ahLst/>
                <a:rect l="l" t="t" r="r" b="b"/>
                <a:pathLst>
                  <a:path w="559" h="725">
                    <a:moveTo>
                      <a:pt x="0" y="725"/>
                    </a:moveTo>
                    <a:lnTo>
                      <a:pt x="0" y="0"/>
                    </a:lnTo>
                    <a:lnTo>
                      <a:pt x="559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498840" y="506772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0"/>
                    </a:moveTo>
                    <a:lnTo>
                      <a:pt x="0" y="1"/>
                    </a:lnTo>
                    <a:lnTo>
                      <a:pt x="7" y="17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3323520" y="3755160"/>
                <a:ext cx="772920" cy="2398680"/>
              </a:xfrm>
              <a:custGeom>
                <a:avLst/>
                <a:gdLst/>
                <a:ahLst/>
                <a:rect l="l" t="t" r="r" b="b"/>
                <a:pathLst>
                  <a:path w="467" h="1449">
                    <a:moveTo>
                      <a:pt x="0" y="0"/>
                    </a:moveTo>
                    <a:lnTo>
                      <a:pt x="0" y="1449"/>
                    </a:lnTo>
                    <a:lnTo>
                      <a:pt x="467" y="144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086360" y="613872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7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5061600" y="4806000"/>
                <a:ext cx="25920" cy="280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0"/>
                    </a:moveTo>
                    <a:lnTo>
                      <a:pt x="0" y="2"/>
                    </a:lnTo>
                    <a:lnTo>
                      <a:pt x="8" y="17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7c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5491800" y="4470120"/>
                <a:ext cx="104040" cy="177120"/>
              </a:xfrm>
              <a:custGeom>
                <a:avLst/>
                <a:gdLst/>
                <a:ahLst/>
                <a:rect l="l" t="t" r="r" b="b"/>
                <a:pathLst>
                  <a:path w="63" h="107">
                    <a:moveTo>
                      <a:pt x="63" y="107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63" y="107"/>
                    </a:lnTo>
                    <a:lnTo>
                      <a:pt x="63" y="10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5491800" y="4470120"/>
                <a:ext cx="104040" cy="177120"/>
              </a:xfrm>
              <a:custGeom>
                <a:avLst/>
                <a:gdLst/>
                <a:ahLst/>
                <a:rect l="l" t="t" r="r" b="b"/>
                <a:pathLst>
                  <a:path w="63" h="107">
                    <a:moveTo>
                      <a:pt x="63" y="107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63" y="107"/>
                    </a:lnTo>
                    <a:lnTo>
                      <a:pt x="63" y="107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842720" y="5286240"/>
                <a:ext cx="2484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0" y="17"/>
                    </a:lnTo>
                    <a:lnTo>
                      <a:pt x="15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3460680" y="5099400"/>
                <a:ext cx="100800" cy="279360"/>
              </a:xfrm>
              <a:custGeom>
                <a:avLst/>
                <a:gdLst/>
                <a:ahLst/>
                <a:rect l="l" t="t" r="r" b="b"/>
                <a:pathLst>
                  <a:path w="61" h="169">
                    <a:moveTo>
                      <a:pt x="59" y="167"/>
                    </a:moveTo>
                    <a:lnTo>
                      <a:pt x="61" y="0"/>
                    </a:lnTo>
                    <a:lnTo>
                      <a:pt x="0" y="0"/>
                    </a:lnTo>
                    <a:lnTo>
                      <a:pt x="0" y="169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59" y="16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3460680" y="5099400"/>
                <a:ext cx="100800" cy="279360"/>
              </a:xfrm>
              <a:custGeom>
                <a:avLst/>
                <a:gdLst/>
                <a:ahLst/>
                <a:rect l="l" t="t" r="r" b="b"/>
                <a:pathLst>
                  <a:path w="61" h="169">
                    <a:moveTo>
                      <a:pt x="59" y="167"/>
                    </a:moveTo>
                    <a:lnTo>
                      <a:pt x="61" y="0"/>
                    </a:lnTo>
                    <a:lnTo>
                      <a:pt x="0" y="0"/>
                    </a:lnTo>
                    <a:lnTo>
                      <a:pt x="0" y="169"/>
                    </a:lnTo>
                    <a:lnTo>
                      <a:pt x="61" y="169"/>
                    </a:lnTo>
                    <a:lnTo>
                      <a:pt x="61" y="1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3475800" y="52066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510720" y="520668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3699000" y="4926960"/>
                <a:ext cx="167400" cy="62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3699000" y="4926960"/>
                <a:ext cx="167400" cy="62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3866400" y="4926960"/>
                <a:ext cx="171720" cy="622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866400" y="4926960"/>
                <a:ext cx="171720" cy="622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740760" y="51786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751920" y="5178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785040" y="51786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3811320" y="51786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3823560" y="517860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841560" y="5178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868920" y="51786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899520" y="51786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911040" y="517860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924360" y="5178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3952440" y="5178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981960" y="51786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776760" y="52416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820680" y="5241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849480" y="52416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3893400" y="5241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921120" y="524160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937320" y="52416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6957000" y="4908600"/>
                <a:ext cx="335880" cy="622080"/>
              </a:xfrm>
              <a:custGeom>
                <a:avLst/>
                <a:gdLst/>
                <a:ahLst/>
                <a:rect l="l" t="t" r="r" b="b"/>
                <a:pathLst>
                  <a:path w="203" h="376">
                    <a:moveTo>
                      <a:pt x="203" y="374"/>
                    </a:moveTo>
                    <a:lnTo>
                      <a:pt x="203" y="0"/>
                    </a:lnTo>
                    <a:lnTo>
                      <a:pt x="0" y="0"/>
                    </a:lnTo>
                    <a:lnTo>
                      <a:pt x="0" y="376"/>
                    </a:lnTo>
                    <a:lnTo>
                      <a:pt x="203" y="376"/>
                    </a:lnTo>
                    <a:lnTo>
                      <a:pt x="203" y="376"/>
                    </a:lnTo>
                    <a:lnTo>
                      <a:pt x="203" y="3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6957000" y="4908600"/>
                <a:ext cx="335880" cy="622080"/>
              </a:xfrm>
              <a:custGeom>
                <a:avLst/>
                <a:gdLst/>
                <a:ahLst/>
                <a:rect l="l" t="t" r="r" b="b"/>
                <a:pathLst>
                  <a:path w="203" h="376">
                    <a:moveTo>
                      <a:pt x="203" y="374"/>
                    </a:moveTo>
                    <a:lnTo>
                      <a:pt x="203" y="0"/>
                    </a:lnTo>
                    <a:lnTo>
                      <a:pt x="0" y="0"/>
                    </a:lnTo>
                    <a:lnTo>
                      <a:pt x="0" y="376"/>
                    </a:lnTo>
                    <a:lnTo>
                      <a:pt x="203" y="376"/>
                    </a:lnTo>
                    <a:lnTo>
                      <a:pt x="203" y="376"/>
                    </a:lnTo>
                  </a:path>
                </a:pathLst>
              </a:custGeom>
              <a:noFill/>
              <a:ln w="64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842720" y="537552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0" y="15"/>
                    </a:lnTo>
                    <a:lnTo>
                      <a:pt x="17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619800" y="4581000"/>
                <a:ext cx="166680" cy="657000"/>
              </a:xfrm>
              <a:custGeom>
                <a:avLst/>
                <a:gdLst/>
                <a:ahLst/>
                <a:rect l="l" t="t" r="r" b="b"/>
                <a:pathLst>
                  <a:path w="101" h="397">
                    <a:moveTo>
                      <a:pt x="101" y="0"/>
                    </a:moveTo>
                    <a:lnTo>
                      <a:pt x="0" y="0"/>
                    </a:lnTo>
                    <a:lnTo>
                      <a:pt x="0" y="3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 flipH="1">
                <a:off x="3730680" y="4802760"/>
                <a:ext cx="561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810240" y="4491360"/>
                <a:ext cx="130320" cy="400320"/>
              </a:xfrm>
              <a:custGeom>
                <a:avLst/>
                <a:gdLst/>
                <a:ahLst/>
                <a:rect l="l" t="t" r="r" b="b"/>
                <a:pathLst>
                  <a:path w="79" h="242">
                    <a:moveTo>
                      <a:pt x="0" y="0"/>
                    </a:moveTo>
                    <a:lnTo>
                      <a:pt x="0" y="98"/>
                    </a:lnTo>
                    <a:lnTo>
                      <a:pt x="25" y="121"/>
                    </a:lnTo>
                    <a:lnTo>
                      <a:pt x="0" y="144"/>
                    </a:lnTo>
                    <a:lnTo>
                      <a:pt x="0" y="242"/>
                    </a:lnTo>
                    <a:lnTo>
                      <a:pt x="79" y="169"/>
                    </a:lnTo>
                    <a:lnTo>
                      <a:pt x="79" y="7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810240" y="4491360"/>
                <a:ext cx="130320" cy="400320"/>
              </a:xfrm>
              <a:custGeom>
                <a:avLst/>
                <a:gdLst/>
                <a:ahLst/>
                <a:rect l="l" t="t" r="r" b="b"/>
                <a:pathLst>
                  <a:path w="79" h="242">
                    <a:moveTo>
                      <a:pt x="0" y="0"/>
                    </a:moveTo>
                    <a:lnTo>
                      <a:pt x="0" y="98"/>
                    </a:lnTo>
                    <a:lnTo>
                      <a:pt x="25" y="121"/>
                    </a:lnTo>
                    <a:lnTo>
                      <a:pt x="0" y="144"/>
                    </a:lnTo>
                    <a:lnTo>
                      <a:pt x="0" y="242"/>
                    </a:lnTo>
                    <a:lnTo>
                      <a:pt x="79" y="169"/>
                    </a:lnTo>
                    <a:lnTo>
                      <a:pt x="79" y="7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5942160" y="5314320"/>
                <a:ext cx="29520" cy="25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5942160" y="5511600"/>
                <a:ext cx="29520" cy="295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6221880" y="5413320"/>
                <a:ext cx="25920" cy="248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0" y="15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 flipH="1">
                <a:off x="6072480" y="5427000"/>
                <a:ext cx="158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7713360" y="520344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7713360" y="540036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606480" y="522648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8" y="15"/>
                    </a:move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778560" y="456768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2" y="15"/>
                    </a:lnTo>
                    <a:lnTo>
                      <a:pt x="17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3778560" y="4789440"/>
                <a:ext cx="28080" cy="295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2" y="18"/>
                    </a:lnTo>
                    <a:lnTo>
                      <a:pt x="17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3676320" y="47696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3558600" y="5238000"/>
                <a:ext cx="120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3669480" y="522648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0" y="15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3431160" y="522648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0" y="15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4655880" y="5489640"/>
                <a:ext cx="200160" cy="422280"/>
              </a:xfrm>
              <a:custGeom>
                <a:avLst/>
                <a:gdLst/>
                <a:ahLst/>
                <a:rect l="l" t="t" r="r" b="b"/>
                <a:pathLst>
                  <a:path w="121" h="255">
                    <a:moveTo>
                      <a:pt x="59" y="255"/>
                    </a:moveTo>
                    <a:lnTo>
                      <a:pt x="71" y="253"/>
                    </a:lnTo>
                    <a:lnTo>
                      <a:pt x="78" y="250"/>
                    </a:lnTo>
                    <a:lnTo>
                      <a:pt x="88" y="242"/>
                    </a:lnTo>
                    <a:lnTo>
                      <a:pt x="96" y="230"/>
                    </a:lnTo>
                    <a:lnTo>
                      <a:pt x="103" y="219"/>
                    </a:lnTo>
                    <a:lnTo>
                      <a:pt x="109" y="203"/>
                    </a:lnTo>
                    <a:lnTo>
                      <a:pt x="113" y="186"/>
                    </a:lnTo>
                    <a:lnTo>
                      <a:pt x="117" y="169"/>
                    </a:lnTo>
                    <a:lnTo>
                      <a:pt x="119" y="150"/>
                    </a:lnTo>
                    <a:lnTo>
                      <a:pt x="121" y="129"/>
                    </a:lnTo>
                    <a:lnTo>
                      <a:pt x="119" y="107"/>
                    </a:lnTo>
                    <a:lnTo>
                      <a:pt x="117" y="88"/>
                    </a:lnTo>
                    <a:lnTo>
                      <a:pt x="113" y="69"/>
                    </a:lnTo>
                    <a:lnTo>
                      <a:pt x="109" y="54"/>
                    </a:lnTo>
                    <a:lnTo>
                      <a:pt x="103" y="38"/>
                    </a:lnTo>
                    <a:lnTo>
                      <a:pt x="96" y="25"/>
                    </a:lnTo>
                    <a:lnTo>
                      <a:pt x="88" y="15"/>
                    </a:lnTo>
                    <a:lnTo>
                      <a:pt x="78" y="8"/>
                    </a:lnTo>
                    <a:lnTo>
                      <a:pt x="71" y="2"/>
                    </a:lnTo>
                    <a:lnTo>
                      <a:pt x="61" y="0"/>
                    </a:lnTo>
                    <a:lnTo>
                      <a:pt x="51" y="2"/>
                    </a:lnTo>
                    <a:lnTo>
                      <a:pt x="42" y="8"/>
                    </a:lnTo>
                    <a:lnTo>
                      <a:pt x="32" y="15"/>
                    </a:lnTo>
                    <a:lnTo>
                      <a:pt x="25" y="25"/>
                    </a:lnTo>
                    <a:lnTo>
                      <a:pt x="17" y="38"/>
                    </a:lnTo>
                    <a:lnTo>
                      <a:pt x="11" y="54"/>
                    </a:lnTo>
                    <a:lnTo>
                      <a:pt x="7" y="69"/>
                    </a:lnTo>
                    <a:lnTo>
                      <a:pt x="3" y="88"/>
                    </a:lnTo>
                    <a:lnTo>
                      <a:pt x="2" y="107"/>
                    </a:lnTo>
                    <a:lnTo>
                      <a:pt x="0" y="129"/>
                    </a:lnTo>
                    <a:lnTo>
                      <a:pt x="2" y="150"/>
                    </a:lnTo>
                    <a:lnTo>
                      <a:pt x="3" y="169"/>
                    </a:lnTo>
                    <a:lnTo>
                      <a:pt x="7" y="186"/>
                    </a:lnTo>
                    <a:lnTo>
                      <a:pt x="11" y="203"/>
                    </a:lnTo>
                    <a:lnTo>
                      <a:pt x="17" y="219"/>
                    </a:lnTo>
                    <a:lnTo>
                      <a:pt x="25" y="230"/>
                    </a:lnTo>
                    <a:lnTo>
                      <a:pt x="32" y="242"/>
                    </a:lnTo>
                    <a:lnTo>
                      <a:pt x="42" y="250"/>
                    </a:lnTo>
                    <a:lnTo>
                      <a:pt x="51" y="253"/>
                    </a:lnTo>
                    <a:lnTo>
                      <a:pt x="61" y="255"/>
                    </a:lnTo>
                    <a:lnTo>
                      <a:pt x="61" y="255"/>
                    </a:lnTo>
                    <a:lnTo>
                      <a:pt x="59" y="2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4655880" y="5489640"/>
                <a:ext cx="200160" cy="422280"/>
              </a:xfrm>
              <a:custGeom>
                <a:avLst/>
                <a:gdLst/>
                <a:ahLst/>
                <a:rect l="l" t="t" r="r" b="b"/>
                <a:pathLst>
                  <a:path w="121" h="255">
                    <a:moveTo>
                      <a:pt x="59" y="255"/>
                    </a:moveTo>
                    <a:lnTo>
                      <a:pt x="71" y="253"/>
                    </a:lnTo>
                    <a:lnTo>
                      <a:pt x="78" y="250"/>
                    </a:lnTo>
                    <a:lnTo>
                      <a:pt x="88" y="242"/>
                    </a:lnTo>
                    <a:lnTo>
                      <a:pt x="96" y="230"/>
                    </a:lnTo>
                    <a:lnTo>
                      <a:pt x="103" y="219"/>
                    </a:lnTo>
                    <a:lnTo>
                      <a:pt x="109" y="203"/>
                    </a:lnTo>
                    <a:lnTo>
                      <a:pt x="113" y="186"/>
                    </a:lnTo>
                    <a:lnTo>
                      <a:pt x="117" y="169"/>
                    </a:lnTo>
                    <a:lnTo>
                      <a:pt x="119" y="150"/>
                    </a:lnTo>
                    <a:lnTo>
                      <a:pt x="121" y="129"/>
                    </a:lnTo>
                    <a:lnTo>
                      <a:pt x="119" y="107"/>
                    </a:lnTo>
                    <a:lnTo>
                      <a:pt x="117" y="88"/>
                    </a:lnTo>
                    <a:lnTo>
                      <a:pt x="113" y="69"/>
                    </a:lnTo>
                    <a:lnTo>
                      <a:pt x="109" y="54"/>
                    </a:lnTo>
                    <a:lnTo>
                      <a:pt x="103" y="38"/>
                    </a:lnTo>
                    <a:lnTo>
                      <a:pt x="96" y="25"/>
                    </a:lnTo>
                    <a:lnTo>
                      <a:pt x="88" y="15"/>
                    </a:lnTo>
                    <a:lnTo>
                      <a:pt x="78" y="8"/>
                    </a:lnTo>
                    <a:lnTo>
                      <a:pt x="71" y="2"/>
                    </a:lnTo>
                    <a:lnTo>
                      <a:pt x="61" y="0"/>
                    </a:lnTo>
                    <a:lnTo>
                      <a:pt x="51" y="2"/>
                    </a:lnTo>
                    <a:lnTo>
                      <a:pt x="42" y="8"/>
                    </a:lnTo>
                    <a:lnTo>
                      <a:pt x="32" y="15"/>
                    </a:lnTo>
                    <a:lnTo>
                      <a:pt x="25" y="25"/>
                    </a:lnTo>
                    <a:lnTo>
                      <a:pt x="17" y="38"/>
                    </a:lnTo>
                    <a:lnTo>
                      <a:pt x="11" y="54"/>
                    </a:lnTo>
                    <a:lnTo>
                      <a:pt x="7" y="69"/>
                    </a:lnTo>
                    <a:lnTo>
                      <a:pt x="3" y="88"/>
                    </a:lnTo>
                    <a:lnTo>
                      <a:pt x="2" y="107"/>
                    </a:lnTo>
                    <a:lnTo>
                      <a:pt x="0" y="129"/>
                    </a:lnTo>
                    <a:lnTo>
                      <a:pt x="2" y="150"/>
                    </a:lnTo>
                    <a:lnTo>
                      <a:pt x="3" y="169"/>
                    </a:lnTo>
                    <a:lnTo>
                      <a:pt x="7" y="186"/>
                    </a:lnTo>
                    <a:lnTo>
                      <a:pt x="11" y="203"/>
                    </a:lnTo>
                    <a:lnTo>
                      <a:pt x="17" y="219"/>
                    </a:lnTo>
                    <a:lnTo>
                      <a:pt x="25" y="230"/>
                    </a:lnTo>
                    <a:lnTo>
                      <a:pt x="32" y="242"/>
                    </a:lnTo>
                    <a:lnTo>
                      <a:pt x="42" y="250"/>
                    </a:lnTo>
                    <a:lnTo>
                      <a:pt x="51" y="253"/>
                    </a:lnTo>
                    <a:lnTo>
                      <a:pt x="61" y="255"/>
                    </a:lnTo>
                    <a:lnTo>
                      <a:pt x="61" y="25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7744680" y="5168880"/>
                <a:ext cx="100800" cy="297360"/>
              </a:xfrm>
              <a:custGeom>
                <a:avLst/>
                <a:gdLst/>
                <a:ahLst/>
                <a:rect l="l" t="t" r="r" b="b"/>
                <a:pathLst>
                  <a:path w="61" h="180">
                    <a:moveTo>
                      <a:pt x="0" y="29"/>
                    </a:moveTo>
                    <a:lnTo>
                      <a:pt x="2" y="25"/>
                    </a:lnTo>
                    <a:lnTo>
                      <a:pt x="2" y="21"/>
                    </a:lnTo>
                    <a:lnTo>
                      <a:pt x="4" y="15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0" y="2"/>
                    </a:lnTo>
                    <a:lnTo>
                      <a:pt x="44" y="4"/>
                    </a:lnTo>
                    <a:lnTo>
                      <a:pt x="48" y="6"/>
                    </a:lnTo>
                    <a:lnTo>
                      <a:pt x="52" y="10"/>
                    </a:lnTo>
                    <a:lnTo>
                      <a:pt x="56" y="12"/>
                    </a:lnTo>
                    <a:lnTo>
                      <a:pt x="58" y="15"/>
                    </a:lnTo>
                    <a:lnTo>
                      <a:pt x="59" y="21"/>
                    </a:lnTo>
                    <a:lnTo>
                      <a:pt x="59" y="25"/>
                    </a:lnTo>
                    <a:lnTo>
                      <a:pt x="61" y="31"/>
                    </a:lnTo>
                    <a:lnTo>
                      <a:pt x="61" y="150"/>
                    </a:lnTo>
                    <a:lnTo>
                      <a:pt x="59" y="154"/>
                    </a:lnTo>
                    <a:lnTo>
                      <a:pt x="59" y="159"/>
                    </a:lnTo>
                    <a:lnTo>
                      <a:pt x="58" y="163"/>
                    </a:lnTo>
                    <a:lnTo>
                      <a:pt x="56" y="167"/>
                    </a:lnTo>
                    <a:lnTo>
                      <a:pt x="52" y="171"/>
                    </a:lnTo>
                    <a:lnTo>
                      <a:pt x="48" y="175"/>
                    </a:lnTo>
                    <a:lnTo>
                      <a:pt x="44" y="177"/>
                    </a:lnTo>
                    <a:lnTo>
                      <a:pt x="40" y="179"/>
                    </a:lnTo>
                    <a:lnTo>
                      <a:pt x="36" y="179"/>
                    </a:lnTo>
                    <a:lnTo>
                      <a:pt x="31" y="180"/>
                    </a:lnTo>
                    <a:lnTo>
                      <a:pt x="25" y="179"/>
                    </a:lnTo>
                    <a:lnTo>
                      <a:pt x="21" y="179"/>
                    </a:lnTo>
                    <a:lnTo>
                      <a:pt x="17" y="177"/>
                    </a:lnTo>
                    <a:lnTo>
                      <a:pt x="13" y="175"/>
                    </a:lnTo>
                    <a:lnTo>
                      <a:pt x="10" y="171"/>
                    </a:lnTo>
                    <a:lnTo>
                      <a:pt x="6" y="167"/>
                    </a:lnTo>
                    <a:lnTo>
                      <a:pt x="4" y="163"/>
                    </a:lnTo>
                    <a:lnTo>
                      <a:pt x="2" y="159"/>
                    </a:lnTo>
                    <a:lnTo>
                      <a:pt x="2" y="154"/>
                    </a:lnTo>
                    <a:lnTo>
                      <a:pt x="0" y="15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7744680" y="5168880"/>
                <a:ext cx="100800" cy="297360"/>
              </a:xfrm>
              <a:custGeom>
                <a:avLst/>
                <a:gdLst/>
                <a:ahLst/>
                <a:rect l="l" t="t" r="r" b="b"/>
                <a:pathLst>
                  <a:path w="61" h="180">
                    <a:moveTo>
                      <a:pt x="0" y="29"/>
                    </a:moveTo>
                    <a:lnTo>
                      <a:pt x="2" y="25"/>
                    </a:lnTo>
                    <a:lnTo>
                      <a:pt x="2" y="21"/>
                    </a:lnTo>
                    <a:lnTo>
                      <a:pt x="4" y="15"/>
                    </a:lnTo>
                    <a:lnTo>
                      <a:pt x="6" y="12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0" y="2"/>
                    </a:lnTo>
                    <a:lnTo>
                      <a:pt x="44" y="4"/>
                    </a:lnTo>
                    <a:lnTo>
                      <a:pt x="48" y="6"/>
                    </a:lnTo>
                    <a:lnTo>
                      <a:pt x="52" y="10"/>
                    </a:lnTo>
                    <a:lnTo>
                      <a:pt x="56" y="12"/>
                    </a:lnTo>
                    <a:lnTo>
                      <a:pt x="58" y="15"/>
                    </a:lnTo>
                    <a:lnTo>
                      <a:pt x="59" y="21"/>
                    </a:lnTo>
                    <a:lnTo>
                      <a:pt x="59" y="25"/>
                    </a:lnTo>
                    <a:lnTo>
                      <a:pt x="61" y="31"/>
                    </a:lnTo>
                    <a:lnTo>
                      <a:pt x="61" y="150"/>
                    </a:lnTo>
                    <a:lnTo>
                      <a:pt x="59" y="154"/>
                    </a:lnTo>
                    <a:lnTo>
                      <a:pt x="59" y="159"/>
                    </a:lnTo>
                    <a:lnTo>
                      <a:pt x="58" y="163"/>
                    </a:lnTo>
                    <a:lnTo>
                      <a:pt x="56" y="167"/>
                    </a:lnTo>
                    <a:lnTo>
                      <a:pt x="52" y="171"/>
                    </a:lnTo>
                    <a:lnTo>
                      <a:pt x="48" y="175"/>
                    </a:lnTo>
                    <a:lnTo>
                      <a:pt x="44" y="177"/>
                    </a:lnTo>
                    <a:lnTo>
                      <a:pt x="40" y="179"/>
                    </a:lnTo>
                    <a:lnTo>
                      <a:pt x="36" y="179"/>
                    </a:lnTo>
                    <a:lnTo>
                      <a:pt x="31" y="180"/>
                    </a:lnTo>
                    <a:lnTo>
                      <a:pt x="25" y="179"/>
                    </a:lnTo>
                    <a:lnTo>
                      <a:pt x="21" y="179"/>
                    </a:lnTo>
                    <a:lnTo>
                      <a:pt x="17" y="177"/>
                    </a:lnTo>
                    <a:lnTo>
                      <a:pt x="13" y="175"/>
                    </a:lnTo>
                    <a:lnTo>
                      <a:pt x="10" y="171"/>
                    </a:lnTo>
                    <a:lnTo>
                      <a:pt x="6" y="167"/>
                    </a:lnTo>
                    <a:lnTo>
                      <a:pt x="4" y="163"/>
                    </a:lnTo>
                    <a:lnTo>
                      <a:pt x="2" y="159"/>
                    </a:lnTo>
                    <a:lnTo>
                      <a:pt x="2" y="154"/>
                    </a:lnTo>
                    <a:lnTo>
                      <a:pt x="0" y="150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972040" y="5279400"/>
                <a:ext cx="100800" cy="296280"/>
              </a:xfrm>
              <a:custGeom>
                <a:avLst/>
                <a:gdLst/>
                <a:ahLst/>
                <a:rect l="l" t="t" r="r" b="b"/>
                <a:pathLst>
                  <a:path w="61" h="179">
                    <a:moveTo>
                      <a:pt x="0" y="29"/>
                    </a:moveTo>
                    <a:lnTo>
                      <a:pt x="1" y="25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49" y="6"/>
                    </a:lnTo>
                    <a:lnTo>
                      <a:pt x="51" y="8"/>
                    </a:lnTo>
                    <a:lnTo>
                      <a:pt x="55" y="12"/>
                    </a:lnTo>
                    <a:lnTo>
                      <a:pt x="57" y="16"/>
                    </a:lnTo>
                    <a:lnTo>
                      <a:pt x="59" y="19"/>
                    </a:lnTo>
                    <a:lnTo>
                      <a:pt x="61" y="25"/>
                    </a:lnTo>
                    <a:lnTo>
                      <a:pt x="61" y="29"/>
                    </a:lnTo>
                    <a:lnTo>
                      <a:pt x="61" y="148"/>
                    </a:lnTo>
                    <a:lnTo>
                      <a:pt x="61" y="154"/>
                    </a:lnTo>
                    <a:lnTo>
                      <a:pt x="59" y="158"/>
                    </a:lnTo>
                    <a:lnTo>
                      <a:pt x="57" y="163"/>
                    </a:lnTo>
                    <a:lnTo>
                      <a:pt x="55" y="167"/>
                    </a:lnTo>
                    <a:lnTo>
                      <a:pt x="51" y="169"/>
                    </a:lnTo>
                    <a:lnTo>
                      <a:pt x="49" y="173"/>
                    </a:lnTo>
                    <a:lnTo>
                      <a:pt x="46" y="175"/>
                    </a:lnTo>
                    <a:lnTo>
                      <a:pt x="40" y="177"/>
                    </a:lnTo>
                    <a:lnTo>
                      <a:pt x="36" y="179"/>
                    </a:lnTo>
                    <a:lnTo>
                      <a:pt x="30" y="179"/>
                    </a:lnTo>
                    <a:lnTo>
                      <a:pt x="26" y="179"/>
                    </a:lnTo>
                    <a:lnTo>
                      <a:pt x="23" y="177"/>
                    </a:lnTo>
                    <a:lnTo>
                      <a:pt x="17" y="175"/>
                    </a:lnTo>
                    <a:lnTo>
                      <a:pt x="13" y="173"/>
                    </a:lnTo>
                    <a:lnTo>
                      <a:pt x="9" y="169"/>
                    </a:lnTo>
                    <a:lnTo>
                      <a:pt x="7" y="167"/>
                    </a:lnTo>
                    <a:lnTo>
                      <a:pt x="5" y="163"/>
                    </a:lnTo>
                    <a:lnTo>
                      <a:pt x="3" y="158"/>
                    </a:lnTo>
                    <a:lnTo>
                      <a:pt x="1" y="154"/>
                    </a:lnTo>
                    <a:lnTo>
                      <a:pt x="1" y="14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972040" y="5279400"/>
                <a:ext cx="100800" cy="296280"/>
              </a:xfrm>
              <a:custGeom>
                <a:avLst/>
                <a:gdLst/>
                <a:ahLst/>
                <a:rect l="l" t="t" r="r" b="b"/>
                <a:pathLst>
                  <a:path w="61" h="179">
                    <a:moveTo>
                      <a:pt x="0" y="29"/>
                    </a:moveTo>
                    <a:lnTo>
                      <a:pt x="1" y="25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49" y="6"/>
                    </a:lnTo>
                    <a:lnTo>
                      <a:pt x="51" y="8"/>
                    </a:lnTo>
                    <a:lnTo>
                      <a:pt x="55" y="12"/>
                    </a:lnTo>
                    <a:lnTo>
                      <a:pt x="57" y="16"/>
                    </a:lnTo>
                    <a:lnTo>
                      <a:pt x="59" y="19"/>
                    </a:lnTo>
                    <a:lnTo>
                      <a:pt x="61" y="25"/>
                    </a:lnTo>
                    <a:lnTo>
                      <a:pt x="61" y="29"/>
                    </a:lnTo>
                    <a:lnTo>
                      <a:pt x="61" y="148"/>
                    </a:lnTo>
                    <a:lnTo>
                      <a:pt x="61" y="154"/>
                    </a:lnTo>
                    <a:lnTo>
                      <a:pt x="59" y="158"/>
                    </a:lnTo>
                    <a:lnTo>
                      <a:pt x="57" y="163"/>
                    </a:lnTo>
                    <a:lnTo>
                      <a:pt x="55" y="167"/>
                    </a:lnTo>
                    <a:lnTo>
                      <a:pt x="51" y="169"/>
                    </a:lnTo>
                    <a:lnTo>
                      <a:pt x="49" y="173"/>
                    </a:lnTo>
                    <a:lnTo>
                      <a:pt x="46" y="175"/>
                    </a:lnTo>
                    <a:lnTo>
                      <a:pt x="40" y="177"/>
                    </a:lnTo>
                    <a:lnTo>
                      <a:pt x="36" y="179"/>
                    </a:lnTo>
                    <a:lnTo>
                      <a:pt x="30" y="179"/>
                    </a:lnTo>
                    <a:lnTo>
                      <a:pt x="26" y="179"/>
                    </a:lnTo>
                    <a:lnTo>
                      <a:pt x="23" y="177"/>
                    </a:lnTo>
                    <a:lnTo>
                      <a:pt x="17" y="175"/>
                    </a:lnTo>
                    <a:lnTo>
                      <a:pt x="13" y="173"/>
                    </a:lnTo>
                    <a:lnTo>
                      <a:pt x="9" y="169"/>
                    </a:lnTo>
                    <a:lnTo>
                      <a:pt x="7" y="167"/>
                    </a:lnTo>
                    <a:lnTo>
                      <a:pt x="5" y="163"/>
                    </a:lnTo>
                    <a:lnTo>
                      <a:pt x="3" y="158"/>
                    </a:lnTo>
                    <a:lnTo>
                      <a:pt x="1" y="154"/>
                    </a:lnTo>
                    <a:lnTo>
                      <a:pt x="1" y="148"/>
                    </a:lnTo>
                    <a:lnTo>
                      <a:pt x="1" y="29"/>
                    </a:lnTo>
                    <a:lnTo>
                      <a:pt x="1" y="2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363200" y="436428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0" y="17"/>
                    </a:lnTo>
                    <a:lnTo>
                      <a:pt x="15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874400" y="4837680"/>
                <a:ext cx="200160" cy="623880"/>
              </a:xfrm>
              <a:custGeom>
                <a:avLst/>
                <a:gdLst/>
                <a:ahLst/>
                <a:rect l="l" t="t" r="r" b="b"/>
                <a:pathLst>
                  <a:path w="121" h="377">
                    <a:moveTo>
                      <a:pt x="119" y="0"/>
                    </a:moveTo>
                    <a:lnTo>
                      <a:pt x="0" y="0"/>
                    </a:lnTo>
                    <a:lnTo>
                      <a:pt x="0" y="377"/>
                    </a:lnTo>
                    <a:lnTo>
                      <a:pt x="121" y="377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874400" y="4837680"/>
                <a:ext cx="200160" cy="623880"/>
              </a:xfrm>
              <a:custGeom>
                <a:avLst/>
                <a:gdLst/>
                <a:ahLst/>
                <a:rect l="l" t="t" r="r" b="b"/>
                <a:pathLst>
                  <a:path w="121" h="377">
                    <a:moveTo>
                      <a:pt x="119" y="0"/>
                    </a:moveTo>
                    <a:lnTo>
                      <a:pt x="0" y="0"/>
                    </a:lnTo>
                    <a:lnTo>
                      <a:pt x="0" y="377"/>
                    </a:lnTo>
                    <a:lnTo>
                      <a:pt x="121" y="3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5071320" y="4837680"/>
                <a:ext cx="200160" cy="623880"/>
              </a:xfrm>
              <a:custGeom>
                <a:avLst/>
                <a:gdLst/>
                <a:ahLst/>
                <a:rect l="l" t="t" r="r" b="b"/>
                <a:pathLst>
                  <a:path w="121" h="377">
                    <a:moveTo>
                      <a:pt x="0" y="377"/>
                    </a:moveTo>
                    <a:lnTo>
                      <a:pt x="121" y="377"/>
                    </a:lnTo>
                    <a:lnTo>
                      <a:pt x="121" y="0"/>
                    </a:lnTo>
                    <a:lnTo>
                      <a:pt x="2" y="0"/>
                    </a:lnTo>
                    <a:lnTo>
                      <a:pt x="0" y="3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5071320" y="4837680"/>
                <a:ext cx="200160" cy="623880"/>
              </a:xfrm>
              <a:custGeom>
                <a:avLst/>
                <a:gdLst/>
                <a:ahLst/>
                <a:rect l="l" t="t" r="r" b="b"/>
                <a:pathLst>
                  <a:path w="121" h="377">
                    <a:moveTo>
                      <a:pt x="0" y="377"/>
                    </a:moveTo>
                    <a:lnTo>
                      <a:pt x="121" y="377"/>
                    </a:lnTo>
                    <a:lnTo>
                      <a:pt x="121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956840" y="511596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4995360" y="5115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5026680" y="5115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5056560" y="511596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5067000" y="511596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5094720" y="51159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5109480" y="5115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5137920" y="511596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5153400" y="511596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4576680" y="5317920"/>
                <a:ext cx="3326760" cy="1201320"/>
              </a:xfrm>
              <a:custGeom>
                <a:avLst/>
                <a:gdLst/>
                <a:ahLst/>
                <a:rect l="l" t="t" r="r" b="b"/>
                <a:pathLst>
                  <a:path w="2010" h="726">
                    <a:moveTo>
                      <a:pt x="167" y="42"/>
                    </a:moveTo>
                    <a:lnTo>
                      <a:pt x="0" y="42"/>
                    </a:lnTo>
                    <a:lnTo>
                      <a:pt x="0" y="726"/>
                    </a:lnTo>
                    <a:lnTo>
                      <a:pt x="2010" y="726"/>
                    </a:lnTo>
                    <a:lnTo>
                      <a:pt x="2010" y="0"/>
                    </a:lnTo>
                    <a:lnTo>
                      <a:pt x="197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4341240" y="5699880"/>
                <a:ext cx="31428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4693320" y="56422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4728600" y="564228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4741200" y="56422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4770000" y="56422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4801680" y="56422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4664880" y="5708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692960" y="570816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718880" y="57081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4735440" y="5708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763520" y="5708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795200" y="5708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856400" y="5699880"/>
                <a:ext cx="612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000480" y="53406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6044760" y="53391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6010560" y="5397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6037920" y="53971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6008760" y="544824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7769880" y="523008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7814160" y="52279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7779240" y="5286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7807680" y="52862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7778160" y="533916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5458680" y="5314320"/>
                <a:ext cx="29520" cy="25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 flipH="1">
                <a:off x="5595840" y="5327640"/>
                <a:ext cx="358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flipH="1">
                <a:off x="5271840" y="5327640"/>
                <a:ext cx="190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6864120" y="520344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8" y="15"/>
                    </a:moveTo>
                    <a:lnTo>
                      <a:pt x="10" y="17"/>
                    </a:lnTo>
                    <a:lnTo>
                      <a:pt x="10" y="17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391280" y="4148640"/>
                <a:ext cx="219960" cy="463320"/>
              </a:xfrm>
              <a:custGeom>
                <a:avLst/>
                <a:gdLst/>
                <a:ahLst/>
                <a:rect l="l" t="t" r="r" b="b"/>
                <a:pathLst>
                  <a:path w="133" h="280">
                    <a:moveTo>
                      <a:pt x="66" y="278"/>
                    </a:moveTo>
                    <a:lnTo>
                      <a:pt x="77" y="278"/>
                    </a:lnTo>
                    <a:lnTo>
                      <a:pt x="89" y="272"/>
                    </a:lnTo>
                    <a:lnTo>
                      <a:pt x="96" y="265"/>
                    </a:lnTo>
                    <a:lnTo>
                      <a:pt x="106" y="253"/>
                    </a:lnTo>
                    <a:lnTo>
                      <a:pt x="114" y="240"/>
                    </a:lnTo>
                    <a:lnTo>
                      <a:pt x="119" y="222"/>
                    </a:lnTo>
                    <a:lnTo>
                      <a:pt x="125" y="203"/>
                    </a:lnTo>
                    <a:lnTo>
                      <a:pt x="129" y="184"/>
                    </a:lnTo>
                    <a:lnTo>
                      <a:pt x="133" y="163"/>
                    </a:lnTo>
                    <a:lnTo>
                      <a:pt x="133" y="140"/>
                    </a:lnTo>
                    <a:lnTo>
                      <a:pt x="133" y="117"/>
                    </a:lnTo>
                    <a:lnTo>
                      <a:pt x="129" y="96"/>
                    </a:lnTo>
                    <a:lnTo>
                      <a:pt x="125" y="74"/>
                    </a:lnTo>
                    <a:lnTo>
                      <a:pt x="119" y="57"/>
                    </a:lnTo>
                    <a:lnTo>
                      <a:pt x="114" y="40"/>
                    </a:lnTo>
                    <a:lnTo>
                      <a:pt x="106" y="26"/>
                    </a:lnTo>
                    <a:lnTo>
                      <a:pt x="96" y="15"/>
                    </a:lnTo>
                    <a:lnTo>
                      <a:pt x="89" y="7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7"/>
                    </a:lnTo>
                    <a:lnTo>
                      <a:pt x="37" y="15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4" y="57"/>
                    </a:lnTo>
                    <a:lnTo>
                      <a:pt x="8" y="74"/>
                    </a:lnTo>
                    <a:lnTo>
                      <a:pt x="4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4" y="184"/>
                    </a:lnTo>
                    <a:lnTo>
                      <a:pt x="8" y="203"/>
                    </a:lnTo>
                    <a:lnTo>
                      <a:pt x="14" y="222"/>
                    </a:lnTo>
                    <a:lnTo>
                      <a:pt x="19" y="240"/>
                    </a:lnTo>
                    <a:lnTo>
                      <a:pt x="27" y="253"/>
                    </a:lnTo>
                    <a:lnTo>
                      <a:pt x="37" y="265"/>
                    </a:lnTo>
                    <a:lnTo>
                      <a:pt x="46" y="272"/>
                    </a:lnTo>
                    <a:lnTo>
                      <a:pt x="56" y="278"/>
                    </a:lnTo>
                    <a:lnTo>
                      <a:pt x="67" y="280"/>
                    </a:lnTo>
                    <a:lnTo>
                      <a:pt x="67" y="280"/>
                    </a:lnTo>
                    <a:lnTo>
                      <a:pt x="66" y="278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391280" y="4148640"/>
                <a:ext cx="219960" cy="463320"/>
              </a:xfrm>
              <a:custGeom>
                <a:avLst/>
                <a:gdLst/>
                <a:ahLst/>
                <a:rect l="l" t="t" r="r" b="b"/>
                <a:pathLst>
                  <a:path w="133" h="280">
                    <a:moveTo>
                      <a:pt x="66" y="278"/>
                    </a:moveTo>
                    <a:lnTo>
                      <a:pt x="77" y="278"/>
                    </a:lnTo>
                    <a:lnTo>
                      <a:pt x="89" y="272"/>
                    </a:lnTo>
                    <a:lnTo>
                      <a:pt x="96" y="265"/>
                    </a:lnTo>
                    <a:lnTo>
                      <a:pt x="106" y="253"/>
                    </a:lnTo>
                    <a:lnTo>
                      <a:pt x="114" y="240"/>
                    </a:lnTo>
                    <a:lnTo>
                      <a:pt x="119" y="222"/>
                    </a:lnTo>
                    <a:lnTo>
                      <a:pt x="125" y="203"/>
                    </a:lnTo>
                    <a:lnTo>
                      <a:pt x="129" y="184"/>
                    </a:lnTo>
                    <a:lnTo>
                      <a:pt x="133" y="163"/>
                    </a:lnTo>
                    <a:lnTo>
                      <a:pt x="133" y="140"/>
                    </a:lnTo>
                    <a:lnTo>
                      <a:pt x="133" y="117"/>
                    </a:lnTo>
                    <a:lnTo>
                      <a:pt x="129" y="96"/>
                    </a:lnTo>
                    <a:lnTo>
                      <a:pt x="125" y="74"/>
                    </a:lnTo>
                    <a:lnTo>
                      <a:pt x="119" y="57"/>
                    </a:lnTo>
                    <a:lnTo>
                      <a:pt x="114" y="40"/>
                    </a:lnTo>
                    <a:lnTo>
                      <a:pt x="106" y="26"/>
                    </a:lnTo>
                    <a:lnTo>
                      <a:pt x="96" y="15"/>
                    </a:lnTo>
                    <a:lnTo>
                      <a:pt x="89" y="7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7"/>
                    </a:lnTo>
                    <a:lnTo>
                      <a:pt x="37" y="15"/>
                    </a:lnTo>
                    <a:lnTo>
                      <a:pt x="27" y="26"/>
                    </a:lnTo>
                    <a:lnTo>
                      <a:pt x="19" y="40"/>
                    </a:lnTo>
                    <a:lnTo>
                      <a:pt x="14" y="57"/>
                    </a:lnTo>
                    <a:lnTo>
                      <a:pt x="8" y="74"/>
                    </a:lnTo>
                    <a:lnTo>
                      <a:pt x="4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4" y="184"/>
                    </a:lnTo>
                    <a:lnTo>
                      <a:pt x="8" y="203"/>
                    </a:lnTo>
                    <a:lnTo>
                      <a:pt x="14" y="222"/>
                    </a:lnTo>
                    <a:lnTo>
                      <a:pt x="19" y="240"/>
                    </a:lnTo>
                    <a:lnTo>
                      <a:pt x="27" y="253"/>
                    </a:lnTo>
                    <a:lnTo>
                      <a:pt x="37" y="265"/>
                    </a:lnTo>
                    <a:lnTo>
                      <a:pt x="46" y="272"/>
                    </a:lnTo>
                    <a:lnTo>
                      <a:pt x="56" y="278"/>
                    </a:lnTo>
                    <a:lnTo>
                      <a:pt x="67" y="280"/>
                    </a:lnTo>
                    <a:lnTo>
                      <a:pt x="67" y="28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413960" y="434592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452480" y="4345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480560" y="4345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512240" y="434592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525200" y="434592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543200" y="4345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573440" y="434592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118040" y="4647240"/>
                <a:ext cx="105840" cy="1554120"/>
              </a:xfrm>
              <a:custGeom>
                <a:avLst/>
                <a:gdLst/>
                <a:ahLst/>
                <a:rect l="l" t="t" r="r" b="b"/>
                <a:pathLst>
                  <a:path w="64" h="939">
                    <a:moveTo>
                      <a:pt x="64" y="937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4" y="939"/>
                    </a:lnTo>
                    <a:lnTo>
                      <a:pt x="64" y="939"/>
                    </a:lnTo>
                    <a:lnTo>
                      <a:pt x="64" y="93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118040" y="4647240"/>
                <a:ext cx="105840" cy="1554120"/>
              </a:xfrm>
              <a:custGeom>
                <a:avLst/>
                <a:gdLst/>
                <a:ahLst/>
                <a:rect l="l" t="t" r="r" b="b"/>
                <a:pathLst>
                  <a:path w="64" h="939">
                    <a:moveTo>
                      <a:pt x="64" y="937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4" y="939"/>
                    </a:lnTo>
                    <a:lnTo>
                      <a:pt x="64" y="9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5491800" y="4647240"/>
                <a:ext cx="104040" cy="1554120"/>
              </a:xfrm>
              <a:custGeom>
                <a:avLst/>
                <a:gdLst/>
                <a:ahLst/>
                <a:rect l="l" t="t" r="r" b="b"/>
                <a:pathLst>
                  <a:path w="63" h="939">
                    <a:moveTo>
                      <a:pt x="63" y="937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3" y="939"/>
                    </a:lnTo>
                    <a:lnTo>
                      <a:pt x="63" y="939"/>
                    </a:lnTo>
                    <a:lnTo>
                      <a:pt x="63" y="93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5491800" y="4647240"/>
                <a:ext cx="104040" cy="1554120"/>
              </a:xfrm>
              <a:custGeom>
                <a:avLst/>
                <a:gdLst/>
                <a:ahLst/>
                <a:rect l="l" t="t" r="r" b="b"/>
                <a:pathLst>
                  <a:path w="63" h="939">
                    <a:moveTo>
                      <a:pt x="63" y="937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3" y="939"/>
                    </a:lnTo>
                    <a:lnTo>
                      <a:pt x="63" y="9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086360" y="522648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0" y="15"/>
                    </a:lnTo>
                    <a:lnTo>
                      <a:pt x="17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035240" y="5238000"/>
                <a:ext cx="57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5458680" y="489528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 flipH="1">
                <a:off x="5271840" y="4910400"/>
                <a:ext cx="190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5458680" y="568692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5458680" y="592848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401000" y="5137200"/>
                <a:ext cx="1064520" cy="807840"/>
              </a:xfrm>
              <a:custGeom>
                <a:avLst/>
                <a:gdLst/>
                <a:ahLst/>
                <a:rect l="l" t="t" r="r" b="b"/>
                <a:pathLst>
                  <a:path w="643" h="488">
                    <a:moveTo>
                      <a:pt x="643" y="486"/>
                    </a:moveTo>
                    <a:lnTo>
                      <a:pt x="0" y="48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341240" y="4377240"/>
                <a:ext cx="313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5513040" y="45262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5547600" y="45262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5491800" y="4291560"/>
                <a:ext cx="104040" cy="17856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63" y="10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3" y="108"/>
                    </a:lnTo>
                    <a:lnTo>
                      <a:pt x="63" y="108"/>
                    </a:lnTo>
                    <a:lnTo>
                      <a:pt x="63" y="106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5491800" y="4291560"/>
                <a:ext cx="104040" cy="17856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63" y="106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3" y="108"/>
                    </a:lnTo>
                    <a:lnTo>
                      <a:pt x="63" y="10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5520240" y="434592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5491800" y="4110840"/>
                <a:ext cx="104040" cy="180360"/>
              </a:xfrm>
              <a:custGeom>
                <a:avLst/>
                <a:gdLst/>
                <a:ahLst/>
                <a:rect l="l" t="t" r="r" b="b"/>
                <a:pathLst>
                  <a:path w="63" h="109">
                    <a:moveTo>
                      <a:pt x="63" y="107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9"/>
                    </a:lnTo>
                    <a:lnTo>
                      <a:pt x="63" y="109"/>
                    </a:lnTo>
                    <a:lnTo>
                      <a:pt x="63" y="109"/>
                    </a:lnTo>
                    <a:lnTo>
                      <a:pt x="63" y="10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5491800" y="4110840"/>
                <a:ext cx="104040" cy="180360"/>
              </a:xfrm>
              <a:custGeom>
                <a:avLst/>
                <a:gdLst/>
                <a:ahLst/>
                <a:rect l="l" t="t" r="r" b="b"/>
                <a:pathLst>
                  <a:path w="63" h="109">
                    <a:moveTo>
                      <a:pt x="63" y="107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109"/>
                    </a:lnTo>
                    <a:lnTo>
                      <a:pt x="63" y="109"/>
                    </a:lnTo>
                    <a:lnTo>
                      <a:pt x="63" y="109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5504040" y="4170600"/>
                <a:ext cx="4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5554800" y="417060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5458680" y="454284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5458680" y="418716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5412240" y="4198680"/>
                <a:ext cx="56160" cy="358920"/>
              </a:xfrm>
              <a:custGeom>
                <a:avLst/>
                <a:gdLst/>
                <a:ahLst/>
                <a:rect l="l" t="t" r="r" b="b"/>
                <a:pathLst>
                  <a:path w="34" h="217">
                    <a:moveTo>
                      <a:pt x="32" y="0"/>
                    </a:moveTo>
                    <a:lnTo>
                      <a:pt x="0" y="0"/>
                    </a:lnTo>
                    <a:lnTo>
                      <a:pt x="0" y="217"/>
                    </a:lnTo>
                    <a:lnTo>
                      <a:pt x="34" y="21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6590880" y="4470120"/>
                <a:ext cx="107640" cy="177120"/>
              </a:xfrm>
              <a:custGeom>
                <a:avLst/>
                <a:gdLst/>
                <a:ahLst/>
                <a:rect l="l" t="t" r="r" b="b"/>
                <a:pathLst>
                  <a:path w="65" h="107">
                    <a:moveTo>
                      <a:pt x="63" y="10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65" y="107"/>
                    </a:lnTo>
                    <a:lnTo>
                      <a:pt x="65" y="107"/>
                    </a:lnTo>
                    <a:lnTo>
                      <a:pt x="63" y="10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6590880" y="4470120"/>
                <a:ext cx="107640" cy="177120"/>
              </a:xfrm>
              <a:custGeom>
                <a:avLst/>
                <a:gdLst/>
                <a:ahLst/>
                <a:rect l="l" t="t" r="r" b="b"/>
                <a:pathLst>
                  <a:path w="65" h="107">
                    <a:moveTo>
                      <a:pt x="63" y="10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65" y="107"/>
                    </a:lnTo>
                    <a:lnTo>
                      <a:pt x="65" y="107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6590880" y="4647240"/>
                <a:ext cx="107640" cy="1554120"/>
              </a:xfrm>
              <a:custGeom>
                <a:avLst/>
                <a:gdLst/>
                <a:ahLst/>
                <a:rect l="l" t="t" r="r" b="b"/>
                <a:pathLst>
                  <a:path w="65" h="939">
                    <a:moveTo>
                      <a:pt x="63" y="93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5" y="939"/>
                    </a:lnTo>
                    <a:lnTo>
                      <a:pt x="65" y="939"/>
                    </a:lnTo>
                    <a:lnTo>
                      <a:pt x="63" y="93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6590880" y="4647240"/>
                <a:ext cx="107640" cy="1554120"/>
              </a:xfrm>
              <a:custGeom>
                <a:avLst/>
                <a:gdLst/>
                <a:ahLst/>
                <a:rect l="l" t="t" r="r" b="b"/>
                <a:pathLst>
                  <a:path w="65" h="939">
                    <a:moveTo>
                      <a:pt x="63" y="93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5" y="939"/>
                    </a:lnTo>
                    <a:lnTo>
                      <a:pt x="65" y="9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622920" y="452628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590880" y="4291560"/>
                <a:ext cx="107640" cy="178560"/>
              </a:xfrm>
              <a:custGeom>
                <a:avLst/>
                <a:gdLst/>
                <a:ahLst/>
                <a:rect l="l" t="t" r="r" b="b"/>
                <a:pathLst>
                  <a:path w="65" h="108">
                    <a:moveTo>
                      <a:pt x="63" y="106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5" y="108"/>
                    </a:lnTo>
                    <a:lnTo>
                      <a:pt x="65" y="108"/>
                    </a:lnTo>
                    <a:lnTo>
                      <a:pt x="63" y="106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590880" y="4291560"/>
                <a:ext cx="107640" cy="178560"/>
              </a:xfrm>
              <a:custGeom>
                <a:avLst/>
                <a:gdLst/>
                <a:ahLst/>
                <a:rect l="l" t="t" r="r" b="b"/>
                <a:pathLst>
                  <a:path w="65" h="108">
                    <a:moveTo>
                      <a:pt x="63" y="106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65" y="108"/>
                    </a:lnTo>
                    <a:lnTo>
                      <a:pt x="65" y="108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6607440" y="4345920"/>
                <a:ext cx="4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6653160" y="434592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6562800" y="452988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0" y="17"/>
                    </a:lnTo>
                    <a:lnTo>
                      <a:pt x="15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6331320" y="4380840"/>
                <a:ext cx="238320" cy="165240"/>
              </a:xfrm>
              <a:custGeom>
                <a:avLst/>
                <a:gdLst/>
                <a:ahLst/>
                <a:rect l="l" t="t" r="r" b="b"/>
                <a:pathLst>
                  <a:path w="144" h="100">
                    <a:moveTo>
                      <a:pt x="144" y="100"/>
                    </a:moveTo>
                    <a:lnTo>
                      <a:pt x="86" y="100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6562800" y="436428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0" y="17"/>
                    </a:lnTo>
                    <a:lnTo>
                      <a:pt x="15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5596200" y="4198680"/>
                <a:ext cx="59400" cy="1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6511320" y="4198680"/>
                <a:ext cx="57960" cy="181800"/>
              </a:xfrm>
              <a:custGeom>
                <a:avLst/>
                <a:gdLst/>
                <a:ahLst/>
                <a:rect l="l" t="t" r="r" b="b"/>
                <a:pathLst>
                  <a:path w="35" h="110">
                    <a:moveTo>
                      <a:pt x="0" y="0"/>
                    </a:moveTo>
                    <a:lnTo>
                      <a:pt x="0" y="110"/>
                    </a:lnTo>
                    <a:lnTo>
                      <a:pt x="35" y="11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7382160" y="4470120"/>
                <a:ext cx="107640" cy="177120"/>
              </a:xfrm>
              <a:custGeom>
                <a:avLst/>
                <a:gdLst/>
                <a:ahLst/>
                <a:rect l="l" t="t" r="r" b="b"/>
                <a:pathLst>
                  <a:path w="65" h="107">
                    <a:moveTo>
                      <a:pt x="63" y="10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65" y="107"/>
                    </a:lnTo>
                    <a:lnTo>
                      <a:pt x="65" y="107"/>
                    </a:lnTo>
                    <a:lnTo>
                      <a:pt x="63" y="107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7382160" y="4470120"/>
                <a:ext cx="107640" cy="177120"/>
              </a:xfrm>
              <a:custGeom>
                <a:avLst/>
                <a:gdLst/>
                <a:ahLst/>
                <a:rect l="l" t="t" r="r" b="b"/>
                <a:pathLst>
                  <a:path w="65" h="107">
                    <a:moveTo>
                      <a:pt x="63" y="10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65" y="107"/>
                    </a:lnTo>
                    <a:lnTo>
                      <a:pt x="65" y="107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7382160" y="4647240"/>
                <a:ext cx="107640" cy="1554120"/>
              </a:xfrm>
              <a:custGeom>
                <a:avLst/>
                <a:gdLst/>
                <a:ahLst/>
                <a:rect l="l" t="t" r="r" b="b"/>
                <a:pathLst>
                  <a:path w="65" h="939">
                    <a:moveTo>
                      <a:pt x="63" y="93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5" y="939"/>
                    </a:lnTo>
                    <a:lnTo>
                      <a:pt x="65" y="939"/>
                    </a:lnTo>
                    <a:lnTo>
                      <a:pt x="63" y="93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7382160" y="4647240"/>
                <a:ext cx="107640" cy="1554120"/>
              </a:xfrm>
              <a:custGeom>
                <a:avLst/>
                <a:gdLst/>
                <a:ahLst/>
                <a:rect l="l" t="t" r="r" b="b"/>
                <a:pathLst>
                  <a:path w="65" h="939">
                    <a:moveTo>
                      <a:pt x="63" y="937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939"/>
                    </a:lnTo>
                    <a:lnTo>
                      <a:pt x="65" y="939"/>
                    </a:lnTo>
                    <a:lnTo>
                      <a:pt x="65" y="9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7398720" y="4526280"/>
                <a:ext cx="4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7444440" y="45262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697280" y="4678560"/>
                <a:ext cx="2484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0" y="16"/>
                    </a:ln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6562800" y="520344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0" y="17"/>
                    </a:lnTo>
                    <a:lnTo>
                      <a:pt x="15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 flipH="1">
                <a:off x="6421680" y="5216760"/>
                <a:ext cx="1472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7354080" y="454284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0" y="17"/>
                    </a:lnTo>
                    <a:lnTo>
                      <a:pt x="15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6698520" y="4380840"/>
                <a:ext cx="662040" cy="177120"/>
              </a:xfrm>
              <a:custGeom>
                <a:avLst/>
                <a:gdLst/>
                <a:ahLst/>
                <a:rect l="l" t="t" r="r" b="b"/>
                <a:pathLst>
                  <a:path w="400" h="107">
                    <a:moveTo>
                      <a:pt x="400" y="107"/>
                    </a:moveTo>
                    <a:lnTo>
                      <a:pt x="365" y="107"/>
                    </a:lnTo>
                    <a:lnTo>
                      <a:pt x="365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7350840" y="520344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1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7350840" y="5576040"/>
                <a:ext cx="28080" cy="277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7489800" y="5416920"/>
                <a:ext cx="234720" cy="17028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142" y="0"/>
                    </a:moveTo>
                    <a:lnTo>
                      <a:pt x="108" y="0"/>
                    </a:lnTo>
                    <a:lnTo>
                      <a:pt x="108" y="103"/>
                    </a:lnTo>
                    <a:lnTo>
                      <a:pt x="0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H="1">
                <a:off x="6877080" y="5587200"/>
                <a:ext cx="479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086360" y="467856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0" y="16"/>
                    </a:lnTo>
                    <a:lnTo>
                      <a:pt x="17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H="1">
                <a:off x="4223880" y="4691880"/>
                <a:ext cx="476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H="1">
                <a:off x="3940560" y="4691880"/>
                <a:ext cx="152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3993840" y="467856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3879720" y="4672080"/>
                <a:ext cx="31320" cy="3780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0" y="0"/>
                    </a:moveTo>
                    <a:lnTo>
                      <a:pt x="12" y="12"/>
                    </a:lnTo>
                    <a:lnTo>
                      <a:pt x="19" y="12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12" y="23"/>
                    </a:lnTo>
                    <a:lnTo>
                      <a:pt x="8" y="23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8" y="1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6251760" y="4948200"/>
                <a:ext cx="170280" cy="537840"/>
              </a:xfrm>
              <a:custGeom>
                <a:avLst/>
                <a:gdLst/>
                <a:ahLst/>
                <a:rect l="l" t="t" r="r" b="b"/>
                <a:pathLst>
                  <a:path w="103" h="325">
                    <a:moveTo>
                      <a:pt x="0" y="0"/>
                    </a:moveTo>
                    <a:lnTo>
                      <a:pt x="0" y="133"/>
                    </a:lnTo>
                    <a:lnTo>
                      <a:pt x="32" y="164"/>
                    </a:lnTo>
                    <a:lnTo>
                      <a:pt x="0" y="194"/>
                    </a:lnTo>
                    <a:lnTo>
                      <a:pt x="0" y="325"/>
                    </a:lnTo>
                    <a:lnTo>
                      <a:pt x="103" y="225"/>
                    </a:lnTo>
                    <a:lnTo>
                      <a:pt x="103" y="10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6251760" y="4948200"/>
                <a:ext cx="170280" cy="537840"/>
              </a:xfrm>
              <a:custGeom>
                <a:avLst/>
                <a:gdLst/>
                <a:ahLst/>
                <a:rect l="l" t="t" r="r" b="b"/>
                <a:pathLst>
                  <a:path w="103" h="325">
                    <a:moveTo>
                      <a:pt x="0" y="0"/>
                    </a:moveTo>
                    <a:lnTo>
                      <a:pt x="0" y="133"/>
                    </a:lnTo>
                    <a:lnTo>
                      <a:pt x="32" y="164"/>
                    </a:lnTo>
                    <a:lnTo>
                      <a:pt x="0" y="194"/>
                    </a:lnTo>
                    <a:lnTo>
                      <a:pt x="0" y="325"/>
                    </a:lnTo>
                    <a:lnTo>
                      <a:pt x="103" y="225"/>
                    </a:lnTo>
                    <a:lnTo>
                      <a:pt x="103" y="10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5972040" y="4861080"/>
                <a:ext cx="100800" cy="297360"/>
              </a:xfrm>
              <a:custGeom>
                <a:avLst/>
                <a:gdLst/>
                <a:ahLst/>
                <a:rect l="l" t="t" r="r" b="b"/>
                <a:pathLst>
                  <a:path w="61" h="180">
                    <a:moveTo>
                      <a:pt x="0" y="29"/>
                    </a:moveTo>
                    <a:lnTo>
                      <a:pt x="1" y="25"/>
                    </a:lnTo>
                    <a:lnTo>
                      <a:pt x="3" y="21"/>
                    </a:lnTo>
                    <a:lnTo>
                      <a:pt x="5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3" y="5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49" y="5"/>
                    </a:lnTo>
                    <a:lnTo>
                      <a:pt x="51" y="9"/>
                    </a:lnTo>
                    <a:lnTo>
                      <a:pt x="55" y="13"/>
                    </a:lnTo>
                    <a:lnTo>
                      <a:pt x="57" y="17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1" y="30"/>
                    </a:lnTo>
                    <a:lnTo>
                      <a:pt x="61" y="150"/>
                    </a:lnTo>
                    <a:lnTo>
                      <a:pt x="61" y="155"/>
                    </a:lnTo>
                    <a:lnTo>
                      <a:pt x="59" y="159"/>
                    </a:lnTo>
                    <a:lnTo>
                      <a:pt x="57" y="163"/>
                    </a:lnTo>
                    <a:lnTo>
                      <a:pt x="55" y="167"/>
                    </a:lnTo>
                    <a:lnTo>
                      <a:pt x="51" y="171"/>
                    </a:lnTo>
                    <a:lnTo>
                      <a:pt x="49" y="174"/>
                    </a:lnTo>
                    <a:lnTo>
                      <a:pt x="46" y="176"/>
                    </a:lnTo>
                    <a:lnTo>
                      <a:pt x="40" y="178"/>
                    </a:lnTo>
                    <a:lnTo>
                      <a:pt x="36" y="180"/>
                    </a:lnTo>
                    <a:lnTo>
                      <a:pt x="30" y="180"/>
                    </a:lnTo>
                    <a:lnTo>
                      <a:pt x="26" y="180"/>
                    </a:lnTo>
                    <a:lnTo>
                      <a:pt x="23" y="178"/>
                    </a:lnTo>
                    <a:lnTo>
                      <a:pt x="17" y="176"/>
                    </a:lnTo>
                    <a:lnTo>
                      <a:pt x="13" y="174"/>
                    </a:lnTo>
                    <a:lnTo>
                      <a:pt x="9" y="171"/>
                    </a:lnTo>
                    <a:lnTo>
                      <a:pt x="7" y="167"/>
                    </a:lnTo>
                    <a:lnTo>
                      <a:pt x="5" y="163"/>
                    </a:lnTo>
                    <a:lnTo>
                      <a:pt x="3" y="159"/>
                    </a:lnTo>
                    <a:lnTo>
                      <a:pt x="1" y="155"/>
                    </a:lnTo>
                    <a:lnTo>
                      <a:pt x="1" y="15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5972040" y="4861080"/>
                <a:ext cx="100800" cy="297360"/>
              </a:xfrm>
              <a:custGeom>
                <a:avLst/>
                <a:gdLst/>
                <a:ahLst/>
                <a:rect l="l" t="t" r="r" b="b"/>
                <a:pathLst>
                  <a:path w="61" h="180">
                    <a:moveTo>
                      <a:pt x="0" y="29"/>
                    </a:moveTo>
                    <a:lnTo>
                      <a:pt x="1" y="25"/>
                    </a:lnTo>
                    <a:lnTo>
                      <a:pt x="3" y="21"/>
                    </a:lnTo>
                    <a:lnTo>
                      <a:pt x="5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3" y="5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49" y="5"/>
                    </a:lnTo>
                    <a:lnTo>
                      <a:pt x="51" y="9"/>
                    </a:lnTo>
                    <a:lnTo>
                      <a:pt x="55" y="13"/>
                    </a:lnTo>
                    <a:lnTo>
                      <a:pt x="57" y="17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1" y="30"/>
                    </a:lnTo>
                    <a:lnTo>
                      <a:pt x="61" y="150"/>
                    </a:lnTo>
                    <a:lnTo>
                      <a:pt x="61" y="155"/>
                    </a:lnTo>
                    <a:lnTo>
                      <a:pt x="59" y="159"/>
                    </a:lnTo>
                    <a:lnTo>
                      <a:pt x="57" y="163"/>
                    </a:lnTo>
                    <a:lnTo>
                      <a:pt x="55" y="167"/>
                    </a:lnTo>
                    <a:lnTo>
                      <a:pt x="51" y="171"/>
                    </a:lnTo>
                    <a:lnTo>
                      <a:pt x="49" y="174"/>
                    </a:lnTo>
                    <a:lnTo>
                      <a:pt x="46" y="176"/>
                    </a:lnTo>
                    <a:lnTo>
                      <a:pt x="40" y="178"/>
                    </a:lnTo>
                    <a:lnTo>
                      <a:pt x="36" y="180"/>
                    </a:lnTo>
                    <a:lnTo>
                      <a:pt x="30" y="180"/>
                    </a:lnTo>
                    <a:lnTo>
                      <a:pt x="26" y="180"/>
                    </a:lnTo>
                    <a:lnTo>
                      <a:pt x="23" y="178"/>
                    </a:lnTo>
                    <a:lnTo>
                      <a:pt x="17" y="176"/>
                    </a:lnTo>
                    <a:lnTo>
                      <a:pt x="13" y="174"/>
                    </a:lnTo>
                    <a:lnTo>
                      <a:pt x="9" y="171"/>
                    </a:lnTo>
                    <a:lnTo>
                      <a:pt x="7" y="167"/>
                    </a:lnTo>
                    <a:lnTo>
                      <a:pt x="5" y="163"/>
                    </a:lnTo>
                    <a:lnTo>
                      <a:pt x="3" y="159"/>
                    </a:lnTo>
                    <a:lnTo>
                      <a:pt x="1" y="155"/>
                    </a:lnTo>
                    <a:lnTo>
                      <a:pt x="1" y="150"/>
                    </a:lnTo>
                    <a:lnTo>
                      <a:pt x="1" y="30"/>
                    </a:lnTo>
                    <a:lnTo>
                      <a:pt x="1" y="3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6001560" y="492696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6044760" y="4926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6010560" y="49784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6037920" y="49784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6008760" y="502956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435920" y="3792960"/>
                <a:ext cx="397080" cy="23832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192" y="144"/>
                    </a:moveTo>
                    <a:lnTo>
                      <a:pt x="200" y="144"/>
                    </a:lnTo>
                    <a:lnTo>
                      <a:pt x="208" y="142"/>
                    </a:lnTo>
                    <a:lnTo>
                      <a:pt x="215" y="140"/>
                    </a:lnTo>
                    <a:lnTo>
                      <a:pt x="221" y="136"/>
                    </a:lnTo>
                    <a:lnTo>
                      <a:pt x="227" y="130"/>
                    </a:lnTo>
                    <a:lnTo>
                      <a:pt x="231" y="124"/>
                    </a:lnTo>
                    <a:lnTo>
                      <a:pt x="234" y="119"/>
                    </a:lnTo>
                    <a:lnTo>
                      <a:pt x="238" y="111"/>
                    </a:lnTo>
                    <a:lnTo>
                      <a:pt x="240" y="103"/>
                    </a:lnTo>
                    <a:lnTo>
                      <a:pt x="240" y="96"/>
                    </a:lnTo>
                    <a:lnTo>
                      <a:pt x="240" y="48"/>
                    </a:lnTo>
                    <a:lnTo>
                      <a:pt x="240" y="40"/>
                    </a:lnTo>
                    <a:lnTo>
                      <a:pt x="238" y="34"/>
                    </a:lnTo>
                    <a:lnTo>
                      <a:pt x="234" y="26"/>
                    </a:lnTo>
                    <a:lnTo>
                      <a:pt x="231" y="21"/>
                    </a:lnTo>
                    <a:lnTo>
                      <a:pt x="227" y="15"/>
                    </a:lnTo>
                    <a:lnTo>
                      <a:pt x="221" y="9"/>
                    </a:lnTo>
                    <a:lnTo>
                      <a:pt x="215" y="5"/>
                    </a:lnTo>
                    <a:lnTo>
                      <a:pt x="208" y="3"/>
                    </a:lnTo>
                    <a:lnTo>
                      <a:pt x="200" y="1"/>
                    </a:lnTo>
                    <a:lnTo>
                      <a:pt x="192" y="0"/>
                    </a:lnTo>
                    <a:lnTo>
                      <a:pt x="48" y="0"/>
                    </a:lnTo>
                    <a:lnTo>
                      <a:pt x="40" y="1"/>
                    </a:lnTo>
                    <a:lnTo>
                      <a:pt x="33" y="3"/>
                    </a:lnTo>
                    <a:lnTo>
                      <a:pt x="27" y="5"/>
                    </a:lnTo>
                    <a:lnTo>
                      <a:pt x="19" y="9"/>
                    </a:lnTo>
                    <a:lnTo>
                      <a:pt x="16" y="15"/>
                    </a:lnTo>
                    <a:lnTo>
                      <a:pt x="10" y="21"/>
                    </a:lnTo>
                    <a:lnTo>
                      <a:pt x="6" y="26"/>
                    </a:lnTo>
                    <a:lnTo>
                      <a:pt x="4" y="34"/>
                    </a:lnTo>
                    <a:lnTo>
                      <a:pt x="2" y="40"/>
                    </a:lnTo>
                    <a:lnTo>
                      <a:pt x="0" y="48"/>
                    </a:lnTo>
                    <a:lnTo>
                      <a:pt x="0" y="96"/>
                    </a:lnTo>
                    <a:lnTo>
                      <a:pt x="2" y="103"/>
                    </a:lnTo>
                    <a:lnTo>
                      <a:pt x="4" y="111"/>
                    </a:lnTo>
                    <a:lnTo>
                      <a:pt x="6" y="119"/>
                    </a:lnTo>
                    <a:lnTo>
                      <a:pt x="10" y="124"/>
                    </a:lnTo>
                    <a:lnTo>
                      <a:pt x="16" y="130"/>
                    </a:lnTo>
                    <a:lnTo>
                      <a:pt x="19" y="136"/>
                    </a:lnTo>
                    <a:lnTo>
                      <a:pt x="27" y="140"/>
                    </a:lnTo>
                    <a:lnTo>
                      <a:pt x="33" y="142"/>
                    </a:lnTo>
                    <a:lnTo>
                      <a:pt x="40" y="144"/>
                    </a:lnTo>
                    <a:lnTo>
                      <a:pt x="48" y="144"/>
                    </a:lnTo>
                    <a:lnTo>
                      <a:pt x="192" y="144"/>
                    </a:lnTo>
                    <a:lnTo>
                      <a:pt x="192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435920" y="3792960"/>
                <a:ext cx="397080" cy="23832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192" y="144"/>
                    </a:moveTo>
                    <a:lnTo>
                      <a:pt x="200" y="144"/>
                    </a:lnTo>
                    <a:lnTo>
                      <a:pt x="208" y="142"/>
                    </a:lnTo>
                    <a:lnTo>
                      <a:pt x="215" y="140"/>
                    </a:lnTo>
                    <a:lnTo>
                      <a:pt x="221" y="136"/>
                    </a:lnTo>
                    <a:lnTo>
                      <a:pt x="227" y="130"/>
                    </a:lnTo>
                    <a:lnTo>
                      <a:pt x="231" y="124"/>
                    </a:lnTo>
                    <a:lnTo>
                      <a:pt x="234" y="119"/>
                    </a:lnTo>
                    <a:lnTo>
                      <a:pt x="238" y="111"/>
                    </a:lnTo>
                    <a:lnTo>
                      <a:pt x="240" y="103"/>
                    </a:lnTo>
                    <a:lnTo>
                      <a:pt x="240" y="96"/>
                    </a:lnTo>
                    <a:lnTo>
                      <a:pt x="240" y="48"/>
                    </a:lnTo>
                    <a:lnTo>
                      <a:pt x="240" y="40"/>
                    </a:lnTo>
                    <a:lnTo>
                      <a:pt x="238" y="34"/>
                    </a:lnTo>
                    <a:lnTo>
                      <a:pt x="234" y="26"/>
                    </a:lnTo>
                    <a:lnTo>
                      <a:pt x="231" y="21"/>
                    </a:lnTo>
                    <a:lnTo>
                      <a:pt x="227" y="15"/>
                    </a:lnTo>
                    <a:lnTo>
                      <a:pt x="221" y="9"/>
                    </a:lnTo>
                    <a:lnTo>
                      <a:pt x="215" y="5"/>
                    </a:lnTo>
                    <a:lnTo>
                      <a:pt x="208" y="3"/>
                    </a:lnTo>
                    <a:lnTo>
                      <a:pt x="200" y="1"/>
                    </a:lnTo>
                    <a:lnTo>
                      <a:pt x="192" y="0"/>
                    </a:lnTo>
                    <a:lnTo>
                      <a:pt x="48" y="0"/>
                    </a:lnTo>
                    <a:lnTo>
                      <a:pt x="40" y="1"/>
                    </a:lnTo>
                    <a:lnTo>
                      <a:pt x="33" y="3"/>
                    </a:lnTo>
                    <a:lnTo>
                      <a:pt x="27" y="5"/>
                    </a:lnTo>
                    <a:lnTo>
                      <a:pt x="19" y="9"/>
                    </a:lnTo>
                    <a:lnTo>
                      <a:pt x="16" y="15"/>
                    </a:lnTo>
                    <a:lnTo>
                      <a:pt x="10" y="21"/>
                    </a:lnTo>
                    <a:lnTo>
                      <a:pt x="6" y="26"/>
                    </a:lnTo>
                    <a:lnTo>
                      <a:pt x="4" y="34"/>
                    </a:lnTo>
                    <a:lnTo>
                      <a:pt x="2" y="40"/>
                    </a:lnTo>
                    <a:lnTo>
                      <a:pt x="0" y="48"/>
                    </a:lnTo>
                    <a:lnTo>
                      <a:pt x="0" y="96"/>
                    </a:lnTo>
                    <a:lnTo>
                      <a:pt x="2" y="103"/>
                    </a:lnTo>
                    <a:lnTo>
                      <a:pt x="4" y="111"/>
                    </a:lnTo>
                    <a:lnTo>
                      <a:pt x="6" y="119"/>
                    </a:lnTo>
                    <a:lnTo>
                      <a:pt x="10" y="124"/>
                    </a:lnTo>
                    <a:lnTo>
                      <a:pt x="16" y="130"/>
                    </a:lnTo>
                    <a:lnTo>
                      <a:pt x="19" y="136"/>
                    </a:lnTo>
                    <a:lnTo>
                      <a:pt x="27" y="140"/>
                    </a:lnTo>
                    <a:lnTo>
                      <a:pt x="33" y="142"/>
                    </a:lnTo>
                    <a:lnTo>
                      <a:pt x="40" y="144"/>
                    </a:lnTo>
                    <a:lnTo>
                      <a:pt x="48" y="144"/>
                    </a:lnTo>
                    <a:lnTo>
                      <a:pt x="192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6162120" y="6180120"/>
                <a:ext cx="397080" cy="23832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192" y="144"/>
                    </a:moveTo>
                    <a:lnTo>
                      <a:pt x="201" y="144"/>
                    </a:lnTo>
                    <a:lnTo>
                      <a:pt x="207" y="142"/>
                    </a:lnTo>
                    <a:lnTo>
                      <a:pt x="215" y="140"/>
                    </a:lnTo>
                    <a:lnTo>
                      <a:pt x="221" y="136"/>
                    </a:lnTo>
                    <a:lnTo>
                      <a:pt x="226" y="130"/>
                    </a:lnTo>
                    <a:lnTo>
                      <a:pt x="232" y="124"/>
                    </a:lnTo>
                    <a:lnTo>
                      <a:pt x="236" y="119"/>
                    </a:lnTo>
                    <a:lnTo>
                      <a:pt x="238" y="111"/>
                    </a:lnTo>
                    <a:lnTo>
                      <a:pt x="240" y="103"/>
                    </a:lnTo>
                    <a:lnTo>
                      <a:pt x="240" y="96"/>
                    </a:lnTo>
                    <a:lnTo>
                      <a:pt x="240" y="48"/>
                    </a:lnTo>
                    <a:lnTo>
                      <a:pt x="240" y="40"/>
                    </a:lnTo>
                    <a:lnTo>
                      <a:pt x="238" y="34"/>
                    </a:lnTo>
                    <a:lnTo>
                      <a:pt x="236" y="26"/>
                    </a:lnTo>
                    <a:lnTo>
                      <a:pt x="232" y="21"/>
                    </a:lnTo>
                    <a:lnTo>
                      <a:pt x="226" y="15"/>
                    </a:lnTo>
                    <a:lnTo>
                      <a:pt x="221" y="9"/>
                    </a:lnTo>
                    <a:lnTo>
                      <a:pt x="215" y="5"/>
                    </a:lnTo>
                    <a:lnTo>
                      <a:pt x="207" y="3"/>
                    </a:lnTo>
                    <a:lnTo>
                      <a:pt x="201" y="2"/>
                    </a:lnTo>
                    <a:lnTo>
                      <a:pt x="192" y="0"/>
                    </a:lnTo>
                    <a:lnTo>
                      <a:pt x="48" y="0"/>
                    </a:lnTo>
                    <a:lnTo>
                      <a:pt x="40" y="2"/>
                    </a:lnTo>
                    <a:lnTo>
                      <a:pt x="34" y="3"/>
                    </a:lnTo>
                    <a:lnTo>
                      <a:pt x="27" y="5"/>
                    </a:lnTo>
                    <a:lnTo>
                      <a:pt x="21" y="9"/>
                    </a:lnTo>
                    <a:lnTo>
                      <a:pt x="15" y="15"/>
                    </a:lnTo>
                    <a:lnTo>
                      <a:pt x="9" y="21"/>
                    </a:lnTo>
                    <a:lnTo>
                      <a:pt x="6" y="26"/>
                    </a:lnTo>
                    <a:lnTo>
                      <a:pt x="4" y="34"/>
                    </a:lnTo>
                    <a:lnTo>
                      <a:pt x="2" y="40"/>
                    </a:lnTo>
                    <a:lnTo>
                      <a:pt x="0" y="48"/>
                    </a:lnTo>
                    <a:lnTo>
                      <a:pt x="0" y="96"/>
                    </a:lnTo>
                    <a:lnTo>
                      <a:pt x="2" y="103"/>
                    </a:lnTo>
                    <a:lnTo>
                      <a:pt x="4" y="111"/>
                    </a:lnTo>
                    <a:lnTo>
                      <a:pt x="6" y="119"/>
                    </a:lnTo>
                    <a:lnTo>
                      <a:pt x="9" y="124"/>
                    </a:lnTo>
                    <a:lnTo>
                      <a:pt x="15" y="130"/>
                    </a:lnTo>
                    <a:lnTo>
                      <a:pt x="21" y="136"/>
                    </a:lnTo>
                    <a:lnTo>
                      <a:pt x="27" y="140"/>
                    </a:lnTo>
                    <a:lnTo>
                      <a:pt x="34" y="142"/>
                    </a:lnTo>
                    <a:lnTo>
                      <a:pt x="40" y="144"/>
                    </a:lnTo>
                    <a:lnTo>
                      <a:pt x="48" y="144"/>
                    </a:lnTo>
                    <a:lnTo>
                      <a:pt x="192" y="144"/>
                    </a:lnTo>
                    <a:lnTo>
                      <a:pt x="192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6162120" y="6180120"/>
                <a:ext cx="397080" cy="23832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192" y="144"/>
                    </a:moveTo>
                    <a:lnTo>
                      <a:pt x="201" y="144"/>
                    </a:lnTo>
                    <a:lnTo>
                      <a:pt x="207" y="142"/>
                    </a:lnTo>
                    <a:lnTo>
                      <a:pt x="215" y="140"/>
                    </a:lnTo>
                    <a:lnTo>
                      <a:pt x="221" y="136"/>
                    </a:lnTo>
                    <a:lnTo>
                      <a:pt x="226" y="130"/>
                    </a:lnTo>
                    <a:lnTo>
                      <a:pt x="232" y="124"/>
                    </a:lnTo>
                    <a:lnTo>
                      <a:pt x="236" y="119"/>
                    </a:lnTo>
                    <a:lnTo>
                      <a:pt x="238" y="111"/>
                    </a:lnTo>
                    <a:lnTo>
                      <a:pt x="240" y="103"/>
                    </a:lnTo>
                    <a:lnTo>
                      <a:pt x="240" y="96"/>
                    </a:lnTo>
                    <a:lnTo>
                      <a:pt x="240" y="48"/>
                    </a:lnTo>
                    <a:lnTo>
                      <a:pt x="240" y="40"/>
                    </a:lnTo>
                    <a:lnTo>
                      <a:pt x="238" y="34"/>
                    </a:lnTo>
                    <a:lnTo>
                      <a:pt x="236" y="26"/>
                    </a:lnTo>
                    <a:lnTo>
                      <a:pt x="232" y="21"/>
                    </a:lnTo>
                    <a:lnTo>
                      <a:pt x="226" y="15"/>
                    </a:lnTo>
                    <a:lnTo>
                      <a:pt x="221" y="9"/>
                    </a:lnTo>
                    <a:lnTo>
                      <a:pt x="215" y="5"/>
                    </a:lnTo>
                    <a:lnTo>
                      <a:pt x="207" y="3"/>
                    </a:lnTo>
                    <a:lnTo>
                      <a:pt x="201" y="2"/>
                    </a:lnTo>
                    <a:lnTo>
                      <a:pt x="192" y="0"/>
                    </a:lnTo>
                    <a:lnTo>
                      <a:pt x="48" y="0"/>
                    </a:lnTo>
                    <a:lnTo>
                      <a:pt x="40" y="2"/>
                    </a:lnTo>
                    <a:lnTo>
                      <a:pt x="34" y="3"/>
                    </a:lnTo>
                    <a:lnTo>
                      <a:pt x="27" y="5"/>
                    </a:lnTo>
                    <a:lnTo>
                      <a:pt x="21" y="9"/>
                    </a:lnTo>
                    <a:lnTo>
                      <a:pt x="15" y="15"/>
                    </a:lnTo>
                    <a:lnTo>
                      <a:pt x="9" y="21"/>
                    </a:lnTo>
                    <a:lnTo>
                      <a:pt x="6" y="26"/>
                    </a:lnTo>
                    <a:lnTo>
                      <a:pt x="4" y="34"/>
                    </a:lnTo>
                    <a:lnTo>
                      <a:pt x="2" y="40"/>
                    </a:lnTo>
                    <a:lnTo>
                      <a:pt x="0" y="48"/>
                    </a:lnTo>
                    <a:lnTo>
                      <a:pt x="0" y="96"/>
                    </a:lnTo>
                    <a:lnTo>
                      <a:pt x="2" y="103"/>
                    </a:lnTo>
                    <a:lnTo>
                      <a:pt x="4" y="111"/>
                    </a:lnTo>
                    <a:lnTo>
                      <a:pt x="6" y="119"/>
                    </a:lnTo>
                    <a:lnTo>
                      <a:pt x="9" y="124"/>
                    </a:lnTo>
                    <a:lnTo>
                      <a:pt x="15" y="130"/>
                    </a:lnTo>
                    <a:lnTo>
                      <a:pt x="21" y="136"/>
                    </a:lnTo>
                    <a:lnTo>
                      <a:pt x="27" y="140"/>
                    </a:lnTo>
                    <a:lnTo>
                      <a:pt x="34" y="142"/>
                    </a:lnTo>
                    <a:lnTo>
                      <a:pt x="40" y="144"/>
                    </a:lnTo>
                    <a:lnTo>
                      <a:pt x="48" y="144"/>
                    </a:lnTo>
                    <a:lnTo>
                      <a:pt x="192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553280" y="381780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592160" y="3817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620960" y="381780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650120" y="3817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677840" y="381780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694760" y="3817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7" name=""/>
            <p:cNvGrpSpPr/>
            <p:nvPr/>
          </p:nvGrpSpPr>
          <p:grpSpPr>
            <a:xfrm>
              <a:off x="3174840" y="3400560"/>
              <a:ext cx="4445640" cy="3267720"/>
              <a:chOff x="3174840" y="3400560"/>
              <a:chExt cx="4445640" cy="3267720"/>
            </a:xfrm>
          </p:grpSpPr>
          <p:sp>
            <p:nvSpPr>
              <p:cNvPr id="6278" name=""/>
              <p:cNvSpPr/>
              <p:nvPr/>
            </p:nvSpPr>
            <p:spPr>
              <a:xfrm>
                <a:off x="4725720" y="38174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523040" y="38840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551120" y="38840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579920" y="38840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595760" y="38840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623120" y="388404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652640" y="38840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664520" y="388404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678560" y="38840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706280" y="38840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735800" y="38840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588920" y="3949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618080" y="3949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649760" y="394992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658760" y="394992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6228360" y="6216480"/>
                <a:ext cx="31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6263280" y="6216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6292080" y="621648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6307560" y="621648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6346440" y="6216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6377760" y="621648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6393960" y="6216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6425640" y="621648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6435720" y="6216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6463800" y="6216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6495120" y="62164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314760" y="62845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6346440" y="62845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6374160" y="628452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6384240" y="628452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5942520" y="537876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5942520" y="5095800"/>
                <a:ext cx="29520" cy="244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0"/>
                    </a:moveTo>
                    <a:lnTo>
                      <a:pt x="0" y="15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6222240" y="4992840"/>
                <a:ext cx="25920" cy="2988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H="1">
                <a:off x="6072840" y="5009400"/>
                <a:ext cx="158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5942520" y="4992840"/>
                <a:ext cx="29520" cy="29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5942520" y="489528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H="1">
                <a:off x="5596200" y="4910400"/>
                <a:ext cx="358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224240" y="5238000"/>
                <a:ext cx="11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860000" y="3872160"/>
                <a:ext cx="795960" cy="508320"/>
              </a:xfrm>
              <a:custGeom>
                <a:avLst/>
                <a:gdLst/>
                <a:ahLst/>
                <a:rect l="l" t="t" r="r" b="b"/>
                <a:pathLst>
                  <a:path w="481" h="307">
                    <a:moveTo>
                      <a:pt x="480" y="307"/>
                    </a:moveTo>
                    <a:lnTo>
                      <a:pt x="48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5644440" y="4367160"/>
                <a:ext cx="24480" cy="248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6" y="15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836600" y="385920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5" y="15"/>
                    </a:moveTo>
                    <a:lnTo>
                      <a:pt x="17" y="0"/>
                    </a:lnTo>
                    <a:lnTo>
                      <a:pt x="0" y="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341600" y="3951720"/>
                <a:ext cx="1123920" cy="2198160"/>
              </a:xfrm>
              <a:custGeom>
                <a:avLst/>
                <a:gdLst/>
                <a:ahLst/>
                <a:rect l="l" t="t" r="r" b="b"/>
                <a:pathLst>
                  <a:path w="679" h="1328">
                    <a:moveTo>
                      <a:pt x="44" y="0"/>
                    </a:moveTo>
                    <a:lnTo>
                      <a:pt x="0" y="0"/>
                    </a:lnTo>
                    <a:lnTo>
                      <a:pt x="0" y="1328"/>
                    </a:lnTo>
                    <a:lnTo>
                      <a:pt x="679" y="13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404600" y="393840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5459040" y="5988240"/>
                <a:ext cx="29520" cy="25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6"/>
                    </a:lnTo>
                    <a:lnTo>
                      <a:pt x="1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462560" y="5193360"/>
                <a:ext cx="1002960" cy="807840"/>
              </a:xfrm>
              <a:custGeom>
                <a:avLst/>
                <a:gdLst/>
                <a:ahLst/>
                <a:rect l="l" t="t" r="r" b="b"/>
                <a:pathLst>
                  <a:path w="606" h="488">
                    <a:moveTo>
                      <a:pt x="606" y="488"/>
                    </a:moveTo>
                    <a:lnTo>
                      <a:pt x="0" y="48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459040" y="604584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5459040" y="6138720"/>
                <a:ext cx="29520" cy="244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0"/>
                    </a:moveTo>
                    <a:lnTo>
                      <a:pt x="0" y="15"/>
                    </a:lnTo>
                    <a:lnTo>
                      <a:pt x="18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4331880" y="604944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6" y="15"/>
                    </a:moveTo>
                    <a:lnTo>
                      <a:pt x="7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328640" y="569016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15"/>
                    </a:moveTo>
                    <a:lnTo>
                      <a:pt x="9" y="15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4621680" y="403596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6"/>
                    </a:moveTo>
                    <a:lnTo>
                      <a:pt x="15" y="16"/>
                    </a:lnTo>
                    <a:lnTo>
                      <a:pt x="7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3174840" y="36770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3191400" y="3677040"/>
                <a:ext cx="31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3222360" y="36770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3234960" y="3677040"/>
                <a:ext cx="31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3269880" y="367704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3279600" y="36770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3310560" y="367704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3337200" y="36770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596560" y="6150240"/>
                <a:ext cx="963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596560" y="6001200"/>
                <a:ext cx="539280" cy="317520"/>
              </a:xfrm>
              <a:custGeom>
                <a:avLst/>
                <a:gdLst/>
                <a:ahLst/>
                <a:rect l="l" t="t" r="r" b="b"/>
                <a:pathLst>
                  <a:path w="326" h="192">
                    <a:moveTo>
                      <a:pt x="0" y="0"/>
                    </a:moveTo>
                    <a:lnTo>
                      <a:pt x="217" y="0"/>
                    </a:lnTo>
                    <a:lnTo>
                      <a:pt x="217" y="192"/>
                    </a:lnTo>
                    <a:lnTo>
                      <a:pt x="32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596560" y="5941800"/>
                <a:ext cx="539280" cy="339120"/>
              </a:xfrm>
              <a:custGeom>
                <a:avLst/>
                <a:gdLst/>
                <a:ahLst/>
                <a:rect l="l" t="t" r="r" b="b"/>
                <a:pathLst>
                  <a:path w="326" h="205">
                    <a:moveTo>
                      <a:pt x="0" y="0"/>
                    </a:moveTo>
                    <a:lnTo>
                      <a:pt x="252" y="2"/>
                    </a:lnTo>
                    <a:lnTo>
                      <a:pt x="252" y="205"/>
                    </a:lnTo>
                    <a:lnTo>
                      <a:pt x="326" y="20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6132600" y="6264360"/>
                <a:ext cx="25920" cy="2952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8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6132600" y="630576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6559560" y="613548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17"/>
                    </a:lnTo>
                    <a:lnTo>
                      <a:pt x="17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7350840" y="613872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2" y="15"/>
                    </a:lnTo>
                    <a:lnTo>
                      <a:pt x="17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 flipH="1">
                <a:off x="6698520" y="6150240"/>
                <a:ext cx="65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6584760" y="6150240"/>
                <a:ext cx="171720" cy="89280"/>
              </a:xfrm>
              <a:custGeom>
                <a:avLst/>
                <a:gdLst/>
                <a:ahLst/>
                <a:rect l="l" t="t" r="r" b="b"/>
                <a:pathLst>
                  <a:path w="104" h="54">
                    <a:moveTo>
                      <a:pt x="104" y="0"/>
                    </a:moveTo>
                    <a:lnTo>
                      <a:pt x="104" y="54"/>
                    </a:lnTo>
                    <a:lnTo>
                      <a:pt x="0" y="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6743520" y="613872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15"/>
                    </a:move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6581160" y="6150240"/>
                <a:ext cx="966240" cy="168480"/>
              </a:xfrm>
              <a:custGeom>
                <a:avLst/>
                <a:gdLst/>
                <a:ahLst/>
                <a:rect l="l" t="t" r="r" b="b"/>
                <a:pathLst>
                  <a:path w="584" h="102">
                    <a:moveTo>
                      <a:pt x="0" y="102"/>
                    </a:moveTo>
                    <a:lnTo>
                      <a:pt x="584" y="102"/>
                    </a:lnTo>
                    <a:lnTo>
                      <a:pt x="584" y="0"/>
                    </a:lnTo>
                    <a:lnTo>
                      <a:pt x="54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6566400" y="630576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0"/>
                    </a:moveTo>
                    <a:lnTo>
                      <a:pt x="15" y="16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6566400" y="6226560"/>
                <a:ext cx="24480" cy="2592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0"/>
                    </a:moveTo>
                    <a:lnTo>
                      <a:pt x="15" y="16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6566400" y="62643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5" y="0"/>
                    </a:moveTo>
                    <a:lnTo>
                      <a:pt x="15" y="18"/>
                    </a:lnTo>
                    <a:lnTo>
                      <a:pt x="0" y="1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7596000" y="454608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7" y="15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6925680" y="520308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7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6698880" y="5216760"/>
                <a:ext cx="1785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4515480" y="5302800"/>
                <a:ext cx="2610360" cy="1274400"/>
              </a:xfrm>
              <a:custGeom>
                <a:avLst/>
                <a:gdLst/>
                <a:ahLst/>
                <a:rect l="l" t="t" r="r" b="b"/>
                <a:pathLst>
                  <a:path w="1577" h="770">
                    <a:moveTo>
                      <a:pt x="1577" y="614"/>
                    </a:moveTo>
                    <a:lnTo>
                      <a:pt x="1577" y="770"/>
                    </a:lnTo>
                    <a:lnTo>
                      <a:pt x="0" y="770"/>
                    </a:lnTo>
                    <a:lnTo>
                      <a:pt x="0" y="0"/>
                    </a:lnTo>
                    <a:lnTo>
                      <a:pt x="20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7112520" y="630576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8" y="16"/>
                    </a:moveTo>
                    <a:lnTo>
                      <a:pt x="9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459040" y="436392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4169880" y="3400560"/>
                <a:ext cx="1440" cy="124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4156200" y="4539240"/>
                <a:ext cx="28080" cy="5940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6" y="0"/>
                    </a:moveTo>
                    <a:lnTo>
                      <a:pt x="17" y="36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4111560" y="45392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4125600" y="4539240"/>
                <a:ext cx="31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4156200" y="45392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4173120" y="45392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4188240" y="453924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4169880" y="6201360"/>
                <a:ext cx="1440" cy="4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541480" y="3400560"/>
                <a:ext cx="1800" cy="71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530320" y="4024800"/>
                <a:ext cx="27720" cy="5616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0"/>
                    </a:moveTo>
                    <a:lnTo>
                      <a:pt x="17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5541480" y="6201360"/>
                <a:ext cx="1800" cy="4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6645960" y="3400560"/>
                <a:ext cx="1440" cy="89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6632280" y="4201560"/>
                <a:ext cx="24840" cy="5796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15" y="0"/>
                    </a:moveTo>
                    <a:lnTo>
                      <a:pt x="1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6645960" y="6201360"/>
                <a:ext cx="1440" cy="4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7433640" y="3400560"/>
                <a:ext cx="3240" cy="1069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7423560" y="4380480"/>
                <a:ext cx="24480" cy="56160"/>
              </a:xfrm>
              <a:custGeom>
                <a:avLst/>
                <a:gdLst/>
                <a:ahLst/>
                <a:rect l="l" t="t" r="r" b="b"/>
                <a:pathLst>
                  <a:path w="15" h="34">
                    <a:moveTo>
                      <a:pt x="15" y="0"/>
                    </a:moveTo>
                    <a:lnTo>
                      <a:pt x="15" y="34"/>
                    </a:lnTo>
                    <a:lnTo>
                      <a:pt x="0" y="34"/>
                    </a:lnTo>
                    <a:lnTo>
                      <a:pt x="0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7433640" y="6201360"/>
                <a:ext cx="3240" cy="4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7324920" y="437868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7368480" y="43786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7404120" y="437868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7448400" y="437868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7461720" y="4378680"/>
                <a:ext cx="4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7512480" y="43786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6543000" y="420156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6577920" y="420156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6612480" y="420156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6629760" y="420156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6674040" y="420156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6708240" y="420156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475600" y="40212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488200" y="402120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530320" y="40212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541120" y="402120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5575680" y="402120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3350880" y="5254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3378600" y="5254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3589560" y="5254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3616920" y="5254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4029840" y="4619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4059360" y="4619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4367160" y="4619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4398480" y="4619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4646520" y="444348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4687560" y="54104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4830120" y="52279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6149160" y="4939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6180840" y="49399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6149880" y="5355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6181560" y="5355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6728400" y="6060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6757200" y="6060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3735000" y="4160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3766680" y="41601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3807000" y="40111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4884840" y="46436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7516440" y="60775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6317640" y="518508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6352560" y="51850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6380640" y="518508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942520" y="5445000"/>
                <a:ext cx="29520" cy="280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7068240" y="515520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7106760" y="51552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7134120" y="51552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7151400" y="51552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7180200" y="51552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7030080" y="522144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7074360" y="52214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7103160" y="522144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7147440" y="52214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7178760" y="522144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7194240" y="522144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5821560" y="5382360"/>
                <a:ext cx="25920" cy="24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8" y="15"/>
                    </a:move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882760" y="544500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7" y="15"/>
                    </a:moveTo>
                    <a:lnTo>
                      <a:pt x="9" y="17"/>
                    </a:lnTo>
                    <a:lnTo>
                      <a:pt x="9" y="17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821560" y="6503040"/>
                <a:ext cx="25920" cy="2952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8" y="16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6877440" y="5216760"/>
                <a:ext cx="1440" cy="37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6864480" y="5576040"/>
                <a:ext cx="24480" cy="2772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8" y="15"/>
                    </a:moveTo>
                    <a:lnTo>
                      <a:pt x="10" y="17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4328640" y="522648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15"/>
                    </a:moveTo>
                    <a:lnTo>
                      <a:pt x="9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4843080" y="518184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7"/>
                    </a:lnTo>
                    <a:lnTo>
                      <a:pt x="17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4341600" y="5193360"/>
                <a:ext cx="514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449240" y="518184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8" y="15"/>
                    </a:moveTo>
                    <a:lnTo>
                      <a:pt x="9" y="17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4328640" y="518184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5"/>
                    </a:moveTo>
                    <a:lnTo>
                      <a:pt x="9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4843080" y="5117040"/>
                <a:ext cx="28080" cy="295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0"/>
                    </a:moveTo>
                    <a:lnTo>
                      <a:pt x="0" y="18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4343040" y="5133600"/>
                <a:ext cx="50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4388040" y="512064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4328640" y="5120640"/>
                <a:ext cx="28080" cy="259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8" y="16"/>
                    </a:moveTo>
                    <a:lnTo>
                      <a:pt x="9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4328640" y="436392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9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700880" y="451116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15"/>
                    </a:lnTo>
                    <a:lnTo>
                      <a:pt x="15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3731040" y="3751560"/>
                <a:ext cx="1166760" cy="864000"/>
              </a:xfrm>
              <a:custGeom>
                <a:avLst/>
                <a:gdLst/>
                <a:ahLst/>
                <a:rect l="l" t="t" r="r" b="b"/>
                <a:pathLst>
                  <a:path w="705" h="522">
                    <a:moveTo>
                      <a:pt x="668" y="520"/>
                    </a:moveTo>
                    <a:lnTo>
                      <a:pt x="705" y="522"/>
                    </a:lnTo>
                    <a:lnTo>
                      <a:pt x="705" y="0"/>
                    </a:lnTo>
                    <a:lnTo>
                      <a:pt x="0" y="0"/>
                    </a:lnTo>
                    <a:lnTo>
                      <a:pt x="0" y="201"/>
                    </a:lnTo>
                    <a:lnTo>
                      <a:pt x="36" y="201"/>
                    </a:lnTo>
                    <a:lnTo>
                      <a:pt x="42" y="201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3787200" y="422496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2" y="15"/>
                    </a:lnTo>
                    <a:lnTo>
                      <a:pt x="16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3787200" y="407232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2" y="17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3816720" y="4011120"/>
                <a:ext cx="86040" cy="286200"/>
              </a:xfrm>
              <a:custGeom>
                <a:avLst/>
                <a:gdLst/>
                <a:ahLst/>
                <a:rect l="l" t="t" r="r" b="b"/>
                <a:pathLst>
                  <a:path w="52" h="173">
                    <a:moveTo>
                      <a:pt x="0" y="29"/>
                    </a:moveTo>
                    <a:lnTo>
                      <a:pt x="2" y="23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6" y="8"/>
                    </a:lnTo>
                    <a:lnTo>
                      <a:pt x="48" y="12"/>
                    </a:lnTo>
                    <a:lnTo>
                      <a:pt x="50" y="15"/>
                    </a:lnTo>
                    <a:lnTo>
                      <a:pt x="52" y="19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144"/>
                    </a:lnTo>
                    <a:lnTo>
                      <a:pt x="52" y="150"/>
                    </a:lnTo>
                    <a:lnTo>
                      <a:pt x="52" y="154"/>
                    </a:lnTo>
                    <a:lnTo>
                      <a:pt x="50" y="157"/>
                    </a:lnTo>
                    <a:lnTo>
                      <a:pt x="48" y="161"/>
                    </a:lnTo>
                    <a:lnTo>
                      <a:pt x="46" y="165"/>
                    </a:lnTo>
                    <a:lnTo>
                      <a:pt x="42" y="167"/>
                    </a:lnTo>
                    <a:lnTo>
                      <a:pt x="38" y="171"/>
                    </a:lnTo>
                    <a:lnTo>
                      <a:pt x="34" y="173"/>
                    </a:lnTo>
                    <a:lnTo>
                      <a:pt x="30" y="173"/>
                    </a:lnTo>
                    <a:lnTo>
                      <a:pt x="27" y="173"/>
                    </a:lnTo>
                    <a:lnTo>
                      <a:pt x="23" y="173"/>
                    </a:lnTo>
                    <a:lnTo>
                      <a:pt x="19" y="173"/>
                    </a:lnTo>
                    <a:lnTo>
                      <a:pt x="15" y="171"/>
                    </a:lnTo>
                    <a:lnTo>
                      <a:pt x="11" y="167"/>
                    </a:lnTo>
                    <a:lnTo>
                      <a:pt x="7" y="165"/>
                    </a:lnTo>
                    <a:lnTo>
                      <a:pt x="6" y="161"/>
                    </a:lnTo>
                    <a:lnTo>
                      <a:pt x="4" y="157"/>
                    </a:lnTo>
                    <a:lnTo>
                      <a:pt x="2" y="154"/>
                    </a:lnTo>
                    <a:lnTo>
                      <a:pt x="2" y="150"/>
                    </a:lnTo>
                    <a:lnTo>
                      <a:pt x="0" y="144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3816720" y="4011120"/>
                <a:ext cx="86040" cy="286200"/>
              </a:xfrm>
              <a:custGeom>
                <a:avLst/>
                <a:gdLst/>
                <a:ahLst/>
                <a:rect l="l" t="t" r="r" b="b"/>
                <a:pathLst>
                  <a:path w="52" h="173">
                    <a:moveTo>
                      <a:pt x="0" y="29"/>
                    </a:moveTo>
                    <a:lnTo>
                      <a:pt x="2" y="23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6" y="8"/>
                    </a:lnTo>
                    <a:lnTo>
                      <a:pt x="48" y="12"/>
                    </a:lnTo>
                    <a:lnTo>
                      <a:pt x="50" y="15"/>
                    </a:lnTo>
                    <a:lnTo>
                      <a:pt x="52" y="19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144"/>
                    </a:lnTo>
                    <a:lnTo>
                      <a:pt x="52" y="150"/>
                    </a:lnTo>
                    <a:lnTo>
                      <a:pt x="52" y="154"/>
                    </a:lnTo>
                    <a:lnTo>
                      <a:pt x="50" y="157"/>
                    </a:lnTo>
                    <a:lnTo>
                      <a:pt x="48" y="161"/>
                    </a:lnTo>
                    <a:lnTo>
                      <a:pt x="46" y="165"/>
                    </a:lnTo>
                    <a:lnTo>
                      <a:pt x="42" y="167"/>
                    </a:lnTo>
                    <a:lnTo>
                      <a:pt x="38" y="171"/>
                    </a:lnTo>
                    <a:lnTo>
                      <a:pt x="34" y="173"/>
                    </a:lnTo>
                    <a:lnTo>
                      <a:pt x="30" y="173"/>
                    </a:lnTo>
                    <a:lnTo>
                      <a:pt x="27" y="173"/>
                    </a:lnTo>
                    <a:lnTo>
                      <a:pt x="23" y="173"/>
                    </a:lnTo>
                    <a:lnTo>
                      <a:pt x="19" y="173"/>
                    </a:lnTo>
                    <a:lnTo>
                      <a:pt x="15" y="171"/>
                    </a:lnTo>
                    <a:lnTo>
                      <a:pt x="11" y="167"/>
                    </a:lnTo>
                    <a:lnTo>
                      <a:pt x="7" y="165"/>
                    </a:lnTo>
                    <a:lnTo>
                      <a:pt x="6" y="161"/>
                    </a:lnTo>
                    <a:lnTo>
                      <a:pt x="4" y="157"/>
                    </a:lnTo>
                    <a:lnTo>
                      <a:pt x="2" y="154"/>
                    </a:lnTo>
                    <a:lnTo>
                      <a:pt x="2" y="150"/>
                    </a:lnTo>
                    <a:lnTo>
                      <a:pt x="0" y="144"/>
                    </a:lnTo>
                    <a:lnTo>
                      <a:pt x="0" y="29"/>
                    </a:lnTo>
                    <a:lnTo>
                      <a:pt x="0" y="2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3840120" y="407412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3876480" y="40741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3849120" y="41256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3873240" y="41256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3847320" y="4176720"/>
                <a:ext cx="26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3664800" y="4236480"/>
                <a:ext cx="342360" cy="455040"/>
              </a:xfrm>
              <a:custGeom>
                <a:avLst/>
                <a:gdLst/>
                <a:ahLst/>
                <a:rect l="l" t="t" r="r" b="b"/>
                <a:pathLst>
                  <a:path w="207" h="275">
                    <a:moveTo>
                      <a:pt x="207" y="275"/>
                    </a:moveTo>
                    <a:lnTo>
                      <a:pt x="207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7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3385080" y="3963240"/>
                <a:ext cx="570600" cy="1274760"/>
              </a:xfrm>
              <a:custGeom>
                <a:avLst/>
                <a:gdLst/>
                <a:ahLst/>
                <a:rect l="l" t="t" r="r" b="b"/>
                <a:pathLst>
                  <a:path w="345" h="770">
                    <a:moveTo>
                      <a:pt x="313" y="115"/>
                    </a:moveTo>
                    <a:lnTo>
                      <a:pt x="345" y="115"/>
                    </a:lnTo>
                    <a:lnTo>
                      <a:pt x="345" y="0"/>
                    </a:lnTo>
                    <a:lnTo>
                      <a:pt x="0" y="0"/>
                    </a:lnTo>
                    <a:lnTo>
                      <a:pt x="0" y="770"/>
                    </a:lnTo>
                    <a:lnTo>
                      <a:pt x="32" y="77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725720" y="4425120"/>
                <a:ext cx="114480" cy="387360"/>
              </a:xfrm>
              <a:custGeom>
                <a:avLst/>
                <a:gdLst/>
                <a:ahLst/>
                <a:rect l="l" t="t" r="r" b="b"/>
                <a:pathLst>
                  <a:path w="69" h="234">
                    <a:moveTo>
                      <a:pt x="0" y="0"/>
                    </a:moveTo>
                    <a:lnTo>
                      <a:pt x="2" y="96"/>
                    </a:lnTo>
                    <a:lnTo>
                      <a:pt x="23" y="117"/>
                    </a:lnTo>
                    <a:lnTo>
                      <a:pt x="2" y="140"/>
                    </a:lnTo>
                    <a:lnTo>
                      <a:pt x="2" y="234"/>
                    </a:lnTo>
                    <a:lnTo>
                      <a:pt x="69" y="163"/>
                    </a:lnTo>
                    <a:lnTo>
                      <a:pt x="69" y="7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725720" y="4425120"/>
                <a:ext cx="114480" cy="387360"/>
              </a:xfrm>
              <a:custGeom>
                <a:avLst/>
                <a:gdLst/>
                <a:ahLst/>
                <a:rect l="l" t="t" r="r" b="b"/>
                <a:pathLst>
                  <a:path w="69" h="234">
                    <a:moveTo>
                      <a:pt x="0" y="0"/>
                    </a:moveTo>
                    <a:lnTo>
                      <a:pt x="2" y="96"/>
                    </a:lnTo>
                    <a:lnTo>
                      <a:pt x="23" y="117"/>
                    </a:lnTo>
                    <a:lnTo>
                      <a:pt x="2" y="140"/>
                    </a:lnTo>
                    <a:lnTo>
                      <a:pt x="2" y="234"/>
                    </a:lnTo>
                    <a:lnTo>
                      <a:pt x="69" y="163"/>
                    </a:lnTo>
                    <a:lnTo>
                      <a:pt x="69" y="7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788720" y="4602600"/>
                <a:ext cx="29520" cy="342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10" y="10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0" y="12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8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8" y="1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671000" y="4523040"/>
                <a:ext cx="34200" cy="441720"/>
              </a:xfrm>
              <a:custGeom>
                <a:avLst/>
                <a:gdLst/>
                <a:ahLst/>
                <a:rect l="l" t="t" r="r" b="b"/>
                <a:pathLst>
                  <a:path w="21" h="267">
                    <a:moveTo>
                      <a:pt x="0" y="267"/>
                    </a:moveTo>
                    <a:lnTo>
                      <a:pt x="2" y="0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674600" y="4837680"/>
                <a:ext cx="162000" cy="264600"/>
              </a:xfrm>
              <a:custGeom>
                <a:avLst/>
                <a:gdLst/>
                <a:ahLst/>
                <a:rect l="l" t="t" r="r" b="b"/>
                <a:pathLst>
                  <a:path w="98" h="160">
                    <a:moveTo>
                      <a:pt x="48" y="160"/>
                    </a:moveTo>
                    <a:lnTo>
                      <a:pt x="56" y="160"/>
                    </a:lnTo>
                    <a:lnTo>
                      <a:pt x="64" y="156"/>
                    </a:lnTo>
                    <a:lnTo>
                      <a:pt x="71" y="152"/>
                    </a:lnTo>
                    <a:lnTo>
                      <a:pt x="77" y="144"/>
                    </a:lnTo>
                    <a:lnTo>
                      <a:pt x="83" y="137"/>
                    </a:lnTo>
                    <a:lnTo>
                      <a:pt x="88" y="127"/>
                    </a:lnTo>
                    <a:lnTo>
                      <a:pt x="92" y="117"/>
                    </a:lnTo>
                    <a:lnTo>
                      <a:pt x="94" y="106"/>
                    </a:lnTo>
                    <a:lnTo>
                      <a:pt x="96" y="92"/>
                    </a:lnTo>
                    <a:lnTo>
                      <a:pt x="98" y="81"/>
                    </a:lnTo>
                    <a:lnTo>
                      <a:pt x="96" y="67"/>
                    </a:lnTo>
                    <a:lnTo>
                      <a:pt x="94" y="54"/>
                    </a:lnTo>
                    <a:lnTo>
                      <a:pt x="92" y="43"/>
                    </a:lnTo>
                    <a:lnTo>
                      <a:pt x="88" y="33"/>
                    </a:lnTo>
                    <a:lnTo>
                      <a:pt x="83" y="23"/>
                    </a:lnTo>
                    <a:lnTo>
                      <a:pt x="77" y="16"/>
                    </a:lnTo>
                    <a:lnTo>
                      <a:pt x="71" y="8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3" y="4"/>
                    </a:lnTo>
                    <a:lnTo>
                      <a:pt x="25" y="8"/>
                    </a:lnTo>
                    <a:lnTo>
                      <a:pt x="19" y="16"/>
                    </a:lnTo>
                    <a:lnTo>
                      <a:pt x="14" y="23"/>
                    </a:lnTo>
                    <a:lnTo>
                      <a:pt x="10" y="33"/>
                    </a:lnTo>
                    <a:lnTo>
                      <a:pt x="6" y="43"/>
                    </a:lnTo>
                    <a:lnTo>
                      <a:pt x="2" y="54"/>
                    </a:lnTo>
                    <a:lnTo>
                      <a:pt x="0" y="67"/>
                    </a:lnTo>
                    <a:lnTo>
                      <a:pt x="0" y="81"/>
                    </a:lnTo>
                    <a:lnTo>
                      <a:pt x="0" y="92"/>
                    </a:lnTo>
                    <a:lnTo>
                      <a:pt x="2" y="106"/>
                    </a:lnTo>
                    <a:lnTo>
                      <a:pt x="6" y="117"/>
                    </a:lnTo>
                    <a:lnTo>
                      <a:pt x="10" y="127"/>
                    </a:lnTo>
                    <a:lnTo>
                      <a:pt x="14" y="137"/>
                    </a:lnTo>
                    <a:lnTo>
                      <a:pt x="19" y="144"/>
                    </a:lnTo>
                    <a:lnTo>
                      <a:pt x="25" y="152"/>
                    </a:lnTo>
                    <a:lnTo>
                      <a:pt x="33" y="156"/>
                    </a:lnTo>
                    <a:lnTo>
                      <a:pt x="40" y="160"/>
                    </a:lnTo>
                    <a:lnTo>
                      <a:pt x="48" y="160"/>
                    </a:lnTo>
                    <a:lnTo>
                      <a:pt x="48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674600" y="4837680"/>
                <a:ext cx="162000" cy="264600"/>
              </a:xfrm>
              <a:custGeom>
                <a:avLst/>
                <a:gdLst/>
                <a:ahLst/>
                <a:rect l="l" t="t" r="r" b="b"/>
                <a:pathLst>
                  <a:path w="98" h="160">
                    <a:moveTo>
                      <a:pt x="48" y="160"/>
                    </a:moveTo>
                    <a:lnTo>
                      <a:pt x="56" y="160"/>
                    </a:lnTo>
                    <a:lnTo>
                      <a:pt x="64" y="156"/>
                    </a:lnTo>
                    <a:lnTo>
                      <a:pt x="71" y="152"/>
                    </a:lnTo>
                    <a:lnTo>
                      <a:pt x="77" y="144"/>
                    </a:lnTo>
                    <a:lnTo>
                      <a:pt x="83" y="137"/>
                    </a:lnTo>
                    <a:lnTo>
                      <a:pt x="88" y="127"/>
                    </a:lnTo>
                    <a:lnTo>
                      <a:pt x="92" y="117"/>
                    </a:lnTo>
                    <a:lnTo>
                      <a:pt x="94" y="106"/>
                    </a:lnTo>
                    <a:lnTo>
                      <a:pt x="96" y="92"/>
                    </a:lnTo>
                    <a:lnTo>
                      <a:pt x="98" y="81"/>
                    </a:lnTo>
                    <a:lnTo>
                      <a:pt x="96" y="67"/>
                    </a:lnTo>
                    <a:lnTo>
                      <a:pt x="94" y="54"/>
                    </a:lnTo>
                    <a:lnTo>
                      <a:pt x="92" y="43"/>
                    </a:lnTo>
                    <a:lnTo>
                      <a:pt x="88" y="33"/>
                    </a:lnTo>
                    <a:lnTo>
                      <a:pt x="83" y="23"/>
                    </a:lnTo>
                    <a:lnTo>
                      <a:pt x="77" y="16"/>
                    </a:lnTo>
                    <a:lnTo>
                      <a:pt x="71" y="8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3" y="4"/>
                    </a:lnTo>
                    <a:lnTo>
                      <a:pt x="25" y="8"/>
                    </a:lnTo>
                    <a:lnTo>
                      <a:pt x="19" y="16"/>
                    </a:lnTo>
                    <a:lnTo>
                      <a:pt x="14" y="23"/>
                    </a:lnTo>
                    <a:lnTo>
                      <a:pt x="10" y="33"/>
                    </a:lnTo>
                    <a:lnTo>
                      <a:pt x="6" y="43"/>
                    </a:lnTo>
                    <a:lnTo>
                      <a:pt x="2" y="54"/>
                    </a:lnTo>
                    <a:lnTo>
                      <a:pt x="0" y="67"/>
                    </a:lnTo>
                    <a:lnTo>
                      <a:pt x="0" y="81"/>
                    </a:lnTo>
                    <a:lnTo>
                      <a:pt x="0" y="92"/>
                    </a:lnTo>
                    <a:lnTo>
                      <a:pt x="2" y="106"/>
                    </a:lnTo>
                    <a:lnTo>
                      <a:pt x="6" y="117"/>
                    </a:lnTo>
                    <a:lnTo>
                      <a:pt x="10" y="127"/>
                    </a:lnTo>
                    <a:lnTo>
                      <a:pt x="14" y="137"/>
                    </a:lnTo>
                    <a:lnTo>
                      <a:pt x="19" y="144"/>
                    </a:lnTo>
                    <a:lnTo>
                      <a:pt x="25" y="152"/>
                    </a:lnTo>
                    <a:lnTo>
                      <a:pt x="33" y="156"/>
                    </a:lnTo>
                    <a:lnTo>
                      <a:pt x="40" y="160"/>
                    </a:lnTo>
                    <a:lnTo>
                      <a:pt x="48" y="160"/>
                    </a:lnTo>
                    <a:lnTo>
                      <a:pt x="48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700160" y="4906800"/>
                <a:ext cx="3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4735800" y="4906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763880" y="490680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4773240" y="49068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788720" y="490680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801680" y="49068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691160" y="4978440"/>
                <a:ext cx="11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4703400" y="49784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4731480" y="49784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747320" y="49784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4760640" y="4978440"/>
                <a:ext cx="14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4776840" y="49784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 flipV="1">
                <a:off x="4753800" y="5108400"/>
                <a:ext cx="324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292000" y="4961880"/>
                <a:ext cx="117360" cy="269280"/>
              </a:xfrm>
              <a:custGeom>
                <a:avLst/>
                <a:gdLst/>
                <a:ahLst/>
                <a:rect l="l" t="t" r="r" b="b"/>
                <a:pathLst>
                  <a:path w="71" h="163">
                    <a:moveTo>
                      <a:pt x="34" y="163"/>
                    </a:moveTo>
                    <a:lnTo>
                      <a:pt x="40" y="161"/>
                    </a:lnTo>
                    <a:lnTo>
                      <a:pt x="46" y="160"/>
                    </a:lnTo>
                    <a:lnTo>
                      <a:pt x="51" y="154"/>
                    </a:lnTo>
                    <a:lnTo>
                      <a:pt x="55" y="148"/>
                    </a:lnTo>
                    <a:lnTo>
                      <a:pt x="59" y="140"/>
                    </a:lnTo>
                    <a:lnTo>
                      <a:pt x="63" y="131"/>
                    </a:lnTo>
                    <a:lnTo>
                      <a:pt x="67" y="119"/>
                    </a:lnTo>
                    <a:lnTo>
                      <a:pt x="69" y="108"/>
                    </a:lnTo>
                    <a:lnTo>
                      <a:pt x="69" y="96"/>
                    </a:lnTo>
                    <a:lnTo>
                      <a:pt x="71" y="83"/>
                    </a:lnTo>
                    <a:lnTo>
                      <a:pt x="69" y="69"/>
                    </a:lnTo>
                    <a:lnTo>
                      <a:pt x="69" y="56"/>
                    </a:lnTo>
                    <a:lnTo>
                      <a:pt x="67" y="44"/>
                    </a:lnTo>
                    <a:lnTo>
                      <a:pt x="63" y="35"/>
                    </a:lnTo>
                    <a:lnTo>
                      <a:pt x="59" y="25"/>
                    </a:lnTo>
                    <a:lnTo>
                      <a:pt x="55" y="17"/>
                    </a:lnTo>
                    <a:lnTo>
                      <a:pt x="51" y="10"/>
                    </a:lnTo>
                    <a:lnTo>
                      <a:pt x="46" y="6"/>
                    </a:lnTo>
                    <a:lnTo>
                      <a:pt x="40" y="2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5" y="6"/>
                    </a:lnTo>
                    <a:lnTo>
                      <a:pt x="19" y="10"/>
                    </a:lnTo>
                    <a:lnTo>
                      <a:pt x="15" y="17"/>
                    </a:lnTo>
                    <a:lnTo>
                      <a:pt x="9" y="25"/>
                    </a:lnTo>
                    <a:lnTo>
                      <a:pt x="7" y="35"/>
                    </a:lnTo>
                    <a:lnTo>
                      <a:pt x="3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6"/>
                    </a:lnTo>
                    <a:lnTo>
                      <a:pt x="2" y="108"/>
                    </a:lnTo>
                    <a:lnTo>
                      <a:pt x="3" y="119"/>
                    </a:lnTo>
                    <a:lnTo>
                      <a:pt x="7" y="131"/>
                    </a:lnTo>
                    <a:lnTo>
                      <a:pt x="9" y="140"/>
                    </a:lnTo>
                    <a:lnTo>
                      <a:pt x="15" y="148"/>
                    </a:lnTo>
                    <a:lnTo>
                      <a:pt x="19" y="154"/>
                    </a:lnTo>
                    <a:lnTo>
                      <a:pt x="25" y="160"/>
                    </a:lnTo>
                    <a:lnTo>
                      <a:pt x="28" y="161"/>
                    </a:lnTo>
                    <a:lnTo>
                      <a:pt x="34" y="163"/>
                    </a:lnTo>
                    <a:lnTo>
                      <a:pt x="34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5292000" y="4961880"/>
                <a:ext cx="117360" cy="269280"/>
              </a:xfrm>
              <a:custGeom>
                <a:avLst/>
                <a:gdLst/>
                <a:ahLst/>
                <a:rect l="l" t="t" r="r" b="b"/>
                <a:pathLst>
                  <a:path w="71" h="163">
                    <a:moveTo>
                      <a:pt x="34" y="163"/>
                    </a:moveTo>
                    <a:lnTo>
                      <a:pt x="40" y="161"/>
                    </a:lnTo>
                    <a:lnTo>
                      <a:pt x="46" y="160"/>
                    </a:lnTo>
                    <a:lnTo>
                      <a:pt x="51" y="154"/>
                    </a:lnTo>
                    <a:lnTo>
                      <a:pt x="55" y="148"/>
                    </a:lnTo>
                    <a:lnTo>
                      <a:pt x="59" y="140"/>
                    </a:lnTo>
                    <a:lnTo>
                      <a:pt x="63" y="131"/>
                    </a:lnTo>
                    <a:lnTo>
                      <a:pt x="67" y="119"/>
                    </a:lnTo>
                    <a:lnTo>
                      <a:pt x="69" y="108"/>
                    </a:lnTo>
                    <a:lnTo>
                      <a:pt x="69" y="96"/>
                    </a:lnTo>
                    <a:lnTo>
                      <a:pt x="71" y="83"/>
                    </a:lnTo>
                    <a:lnTo>
                      <a:pt x="69" y="69"/>
                    </a:lnTo>
                    <a:lnTo>
                      <a:pt x="69" y="56"/>
                    </a:lnTo>
                    <a:lnTo>
                      <a:pt x="67" y="44"/>
                    </a:lnTo>
                    <a:lnTo>
                      <a:pt x="63" y="35"/>
                    </a:lnTo>
                    <a:lnTo>
                      <a:pt x="59" y="25"/>
                    </a:lnTo>
                    <a:lnTo>
                      <a:pt x="55" y="17"/>
                    </a:lnTo>
                    <a:lnTo>
                      <a:pt x="51" y="10"/>
                    </a:lnTo>
                    <a:lnTo>
                      <a:pt x="46" y="6"/>
                    </a:lnTo>
                    <a:lnTo>
                      <a:pt x="40" y="2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5" y="6"/>
                    </a:lnTo>
                    <a:lnTo>
                      <a:pt x="19" y="10"/>
                    </a:lnTo>
                    <a:lnTo>
                      <a:pt x="15" y="17"/>
                    </a:lnTo>
                    <a:lnTo>
                      <a:pt x="9" y="25"/>
                    </a:lnTo>
                    <a:lnTo>
                      <a:pt x="7" y="35"/>
                    </a:lnTo>
                    <a:lnTo>
                      <a:pt x="3" y="44"/>
                    </a:lnTo>
                    <a:lnTo>
                      <a:pt x="2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6"/>
                    </a:lnTo>
                    <a:lnTo>
                      <a:pt x="2" y="108"/>
                    </a:lnTo>
                    <a:lnTo>
                      <a:pt x="3" y="119"/>
                    </a:lnTo>
                    <a:lnTo>
                      <a:pt x="7" y="131"/>
                    </a:lnTo>
                    <a:lnTo>
                      <a:pt x="9" y="140"/>
                    </a:lnTo>
                    <a:lnTo>
                      <a:pt x="15" y="148"/>
                    </a:lnTo>
                    <a:lnTo>
                      <a:pt x="19" y="154"/>
                    </a:lnTo>
                    <a:lnTo>
                      <a:pt x="25" y="160"/>
                    </a:lnTo>
                    <a:lnTo>
                      <a:pt x="28" y="161"/>
                    </a:lnTo>
                    <a:lnTo>
                      <a:pt x="34" y="163"/>
                    </a:lnTo>
                    <a:lnTo>
                      <a:pt x="34" y="1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319000" y="50346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5341680" y="4916880"/>
                <a:ext cx="1440" cy="4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8" name=""/>
            <p:cNvSpPr/>
            <p:nvPr/>
          </p:nvSpPr>
          <p:spPr>
            <a:xfrm flipV="1">
              <a:off x="5348160" y="5231520"/>
              <a:ext cx="180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4632840" y="6062760"/>
              <a:ext cx="1017720" cy="221760"/>
            </a:xfrm>
            <a:custGeom>
              <a:avLst/>
              <a:gdLst/>
              <a:ahLst/>
              <a:rect l="l" t="t" r="r" b="b"/>
              <a:pathLst>
                <a:path w="615" h="134">
                  <a:moveTo>
                    <a:pt x="0" y="132"/>
                  </a:moveTo>
                  <a:lnTo>
                    <a:pt x="615" y="134"/>
                  </a:lnTo>
                  <a:lnTo>
                    <a:pt x="615" y="0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4836960" y="3945240"/>
              <a:ext cx="473040" cy="259560"/>
            </a:xfrm>
            <a:custGeom>
              <a:avLst/>
              <a:gdLst/>
              <a:ahLst/>
              <a:rect l="l" t="t" r="r" b="b"/>
              <a:pathLst>
                <a:path w="286" h="157">
                  <a:moveTo>
                    <a:pt x="286" y="157"/>
                  </a:move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5297040" y="4198680"/>
              <a:ext cx="2592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0"/>
                  </a:moveTo>
                  <a:lnTo>
                    <a:pt x="0" y="2"/>
                  </a:lnTo>
                  <a:lnTo>
                    <a:pt x="8" y="18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2" name=""/>
          <p:cNvGrpSpPr/>
          <p:nvPr/>
        </p:nvGrpSpPr>
        <p:grpSpPr>
          <a:xfrm>
            <a:off x="345240" y="3741840"/>
            <a:ext cx="1218600" cy="2583000"/>
            <a:chOff x="345240" y="3741840"/>
            <a:chExt cx="1218600" cy="2583000"/>
          </a:xfrm>
        </p:grpSpPr>
        <p:sp>
          <p:nvSpPr>
            <p:cNvPr id="6483" name=""/>
            <p:cNvSpPr/>
            <p:nvPr/>
          </p:nvSpPr>
          <p:spPr>
            <a:xfrm>
              <a:off x="34524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41364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488520" y="374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52308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59292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66600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36200" y="374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7400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84384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917280" y="374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952200" y="374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98676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105948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1130040" y="374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1169640" y="374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1202400" y="37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4524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41364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488520" y="434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52308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59292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66600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736200" y="434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77400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84384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91692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987120" y="434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1025280" y="434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105948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112932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1203120" y="434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1238040" y="434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127224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134712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4524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41364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488520" y="4941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52308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593640" y="4941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634680" y="4941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67392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74376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81684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887040" y="4941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925200" y="4941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95976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102960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1103040" y="4941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1137960" y="4941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117252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1245240" y="494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34524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41364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488520" y="5540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52308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59292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66600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736200" y="5540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77400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84384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91692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987120" y="5540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1025280" y="5540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105948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112932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1203120" y="5540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1238040" y="5540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127224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1347120" y="554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345240" y="614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413640" y="614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488520" y="614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523440" y="6141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550440" y="6141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642600" y="614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681840" y="614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750240" y="614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25120" y="614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60040" y="6141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94600" y="614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967680" y="614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1038240" y="6141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1080360" y="614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1153440" y="614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1224000" y="6141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39880" y="3914640"/>
              <a:ext cx="723960" cy="2171520"/>
            </a:xfrm>
            <a:custGeom>
              <a:avLst/>
              <a:gdLst/>
              <a:ahLst/>
              <a:rect l="l" t="t" r="r" b="b"/>
              <a:pathLst>
                <a:path w="456" h="1368">
                  <a:moveTo>
                    <a:pt x="0" y="1368"/>
                  </a:moveTo>
                  <a:lnTo>
                    <a:pt x="0" y="1261"/>
                  </a:lnTo>
                  <a:lnTo>
                    <a:pt x="456" y="1261"/>
                  </a:lnTo>
                  <a:lnTo>
                    <a:pt x="456" y="133"/>
                  </a:lnTo>
                  <a:lnTo>
                    <a:pt x="0" y="13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2880" y="6075360"/>
              <a:ext cx="50760" cy="5832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0"/>
                  </a:moveTo>
                  <a:lnTo>
                    <a:pt x="0" y="3"/>
                  </a:lnTo>
                  <a:lnTo>
                    <a:pt x="17" y="37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y and avoid stalls!  E.g., reorder these instructions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w $t2, 4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2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 $t0, 4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d a “branch delay slo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he next instruction after a branch is alway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ly on compiler to “fill” the slot with something useful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anch predi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ntar acertar se o desvio será tomado ou n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loops, desvio é tomado a maior parte das vez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ranch history tabl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perscalar:  start more than one instruction in the sam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lay branch (fig 6.5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3" name=""/>
          <p:cNvGrpSpPr/>
          <p:nvPr/>
        </p:nvGrpSpPr>
        <p:grpSpPr>
          <a:xfrm>
            <a:off x="1659240" y="1197000"/>
            <a:ext cx="5807520" cy="4821840"/>
            <a:chOff x="1659240" y="1197000"/>
            <a:chExt cx="5807520" cy="4821840"/>
          </a:xfrm>
        </p:grpSpPr>
        <p:grpSp>
          <p:nvGrpSpPr>
            <p:cNvPr id="6574" name=""/>
            <p:cNvGrpSpPr/>
            <p:nvPr/>
          </p:nvGrpSpPr>
          <p:grpSpPr>
            <a:xfrm>
              <a:off x="1659240" y="1197000"/>
              <a:ext cx="5807520" cy="4821840"/>
              <a:chOff x="1659240" y="1197000"/>
              <a:chExt cx="5807520" cy="4821840"/>
            </a:xfrm>
          </p:grpSpPr>
          <p:sp>
            <p:nvSpPr>
              <p:cNvPr id="6575" name=""/>
              <p:cNvSpPr/>
              <p:nvPr/>
            </p:nvSpPr>
            <p:spPr>
              <a:xfrm>
                <a:off x="1781280" y="1431720"/>
                <a:ext cx="1613160" cy="1940040"/>
              </a:xfrm>
              <a:custGeom>
                <a:avLst/>
                <a:gdLst/>
                <a:ahLst/>
                <a:rect l="l" t="t" r="r" b="b"/>
                <a:pathLst>
                  <a:path w="639" h="768">
                    <a:moveTo>
                      <a:pt x="637" y="768"/>
                    </a:moveTo>
                    <a:lnTo>
                      <a:pt x="63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639" y="768"/>
                    </a:lnTo>
                    <a:lnTo>
                      <a:pt x="639" y="768"/>
                    </a:lnTo>
                    <a:lnTo>
                      <a:pt x="637" y="7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1781280" y="1431720"/>
                <a:ext cx="1613160" cy="1940040"/>
              </a:xfrm>
              <a:custGeom>
                <a:avLst/>
                <a:gdLst/>
                <a:ahLst/>
                <a:rect l="l" t="t" r="r" b="b"/>
                <a:pathLst>
                  <a:path w="639" h="768">
                    <a:moveTo>
                      <a:pt x="637" y="768"/>
                    </a:moveTo>
                    <a:lnTo>
                      <a:pt x="63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639" y="768"/>
                    </a:lnTo>
                    <a:lnTo>
                      <a:pt x="639" y="7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3816360" y="1431720"/>
                <a:ext cx="1615320" cy="1940040"/>
              </a:xfrm>
              <a:custGeom>
                <a:avLst/>
                <a:gdLst/>
                <a:ahLst/>
                <a:rect l="l" t="t" r="r" b="b"/>
                <a:pathLst>
                  <a:path w="640" h="768">
                    <a:moveTo>
                      <a:pt x="638" y="7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640" y="768"/>
                    </a:lnTo>
                    <a:lnTo>
                      <a:pt x="640" y="768"/>
                    </a:lnTo>
                    <a:lnTo>
                      <a:pt x="638" y="7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3816360" y="1431720"/>
                <a:ext cx="1615320" cy="1940040"/>
              </a:xfrm>
              <a:custGeom>
                <a:avLst/>
                <a:gdLst/>
                <a:ahLst/>
                <a:rect l="l" t="t" r="r" b="b"/>
                <a:pathLst>
                  <a:path w="640" h="768">
                    <a:moveTo>
                      <a:pt x="638" y="7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640" y="768"/>
                    </a:lnTo>
                    <a:lnTo>
                      <a:pt x="640" y="7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5853600" y="1431720"/>
                <a:ext cx="1613160" cy="1940040"/>
              </a:xfrm>
              <a:custGeom>
                <a:avLst/>
                <a:gdLst/>
                <a:ahLst/>
                <a:rect l="l" t="t" r="r" b="b"/>
                <a:pathLst>
                  <a:path w="639" h="768">
                    <a:moveTo>
                      <a:pt x="638" y="768"/>
                    </a:moveTo>
                    <a:lnTo>
                      <a:pt x="63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639" y="768"/>
                    </a:lnTo>
                    <a:lnTo>
                      <a:pt x="639" y="768"/>
                    </a:lnTo>
                    <a:lnTo>
                      <a:pt x="638" y="7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5853600" y="1431720"/>
                <a:ext cx="1613160" cy="1940040"/>
              </a:xfrm>
              <a:custGeom>
                <a:avLst/>
                <a:gdLst/>
                <a:ahLst/>
                <a:rect l="l" t="t" r="r" b="b"/>
                <a:pathLst>
                  <a:path w="639" h="768">
                    <a:moveTo>
                      <a:pt x="638" y="768"/>
                    </a:moveTo>
                    <a:lnTo>
                      <a:pt x="63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639" y="768"/>
                    </a:lnTo>
                    <a:lnTo>
                      <a:pt x="639" y="7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1781280" y="4157280"/>
                <a:ext cx="1613160" cy="1861560"/>
              </a:xfrm>
              <a:custGeom>
                <a:avLst/>
                <a:gdLst/>
                <a:ahLst/>
                <a:rect l="l" t="t" r="r" b="b"/>
                <a:pathLst>
                  <a:path w="639" h="737">
                    <a:moveTo>
                      <a:pt x="637" y="737"/>
                    </a:moveTo>
                    <a:lnTo>
                      <a:pt x="639" y="0"/>
                    </a:lnTo>
                    <a:lnTo>
                      <a:pt x="0" y="0"/>
                    </a:lnTo>
                    <a:lnTo>
                      <a:pt x="0" y="737"/>
                    </a:lnTo>
                    <a:lnTo>
                      <a:pt x="639" y="737"/>
                    </a:lnTo>
                    <a:lnTo>
                      <a:pt x="639" y="7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3816360" y="4157280"/>
                <a:ext cx="1615320" cy="1861560"/>
              </a:xfrm>
              <a:custGeom>
                <a:avLst/>
                <a:gdLst/>
                <a:ahLst/>
                <a:rect l="l" t="t" r="r" b="b"/>
                <a:pathLst>
                  <a:path w="640" h="737">
                    <a:moveTo>
                      <a:pt x="638" y="737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737"/>
                    </a:lnTo>
                    <a:lnTo>
                      <a:pt x="640" y="737"/>
                    </a:lnTo>
                    <a:lnTo>
                      <a:pt x="640" y="737"/>
                    </a:lnTo>
                    <a:lnTo>
                      <a:pt x="638" y="7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3816360" y="4157280"/>
                <a:ext cx="1615320" cy="1861560"/>
              </a:xfrm>
              <a:custGeom>
                <a:avLst/>
                <a:gdLst/>
                <a:ahLst/>
                <a:rect l="l" t="t" r="r" b="b"/>
                <a:pathLst>
                  <a:path w="640" h="737">
                    <a:moveTo>
                      <a:pt x="638" y="737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737"/>
                    </a:lnTo>
                    <a:lnTo>
                      <a:pt x="640" y="737"/>
                    </a:lnTo>
                    <a:lnTo>
                      <a:pt x="640" y="7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5853600" y="4157280"/>
                <a:ext cx="1613160" cy="1861560"/>
              </a:xfrm>
              <a:custGeom>
                <a:avLst/>
                <a:gdLst/>
                <a:ahLst/>
                <a:rect l="l" t="t" r="r" b="b"/>
                <a:pathLst>
                  <a:path w="639" h="737">
                    <a:moveTo>
                      <a:pt x="638" y="737"/>
                    </a:moveTo>
                    <a:lnTo>
                      <a:pt x="639" y="0"/>
                    </a:lnTo>
                    <a:lnTo>
                      <a:pt x="0" y="0"/>
                    </a:lnTo>
                    <a:lnTo>
                      <a:pt x="0" y="737"/>
                    </a:lnTo>
                    <a:lnTo>
                      <a:pt x="639" y="737"/>
                    </a:lnTo>
                    <a:lnTo>
                      <a:pt x="639" y="737"/>
                    </a:lnTo>
                    <a:lnTo>
                      <a:pt x="638" y="7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5853600" y="4157280"/>
                <a:ext cx="1613160" cy="1861560"/>
              </a:xfrm>
              <a:custGeom>
                <a:avLst/>
                <a:gdLst/>
                <a:ahLst/>
                <a:rect l="l" t="t" r="r" b="b"/>
                <a:pathLst>
                  <a:path w="639" h="737">
                    <a:moveTo>
                      <a:pt x="638" y="737"/>
                    </a:moveTo>
                    <a:lnTo>
                      <a:pt x="639" y="0"/>
                    </a:lnTo>
                    <a:lnTo>
                      <a:pt x="0" y="0"/>
                    </a:lnTo>
                    <a:lnTo>
                      <a:pt x="0" y="737"/>
                    </a:lnTo>
                    <a:lnTo>
                      <a:pt x="639" y="737"/>
                    </a:lnTo>
                    <a:lnTo>
                      <a:pt x="639" y="7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2571840" y="3381840"/>
                <a:ext cx="5040" cy="717480"/>
              </a:xfrm>
              <a:custGeom>
                <a:avLst/>
                <a:gdLst/>
                <a:ahLst/>
                <a:rect l="l" t="t" r="r" b="b"/>
                <a:pathLst>
                  <a:path w="2" h="284">
                    <a:moveTo>
                      <a:pt x="0" y="0"/>
                    </a:moveTo>
                    <a:lnTo>
                      <a:pt x="2" y="2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2571840" y="3381840"/>
                <a:ext cx="5040" cy="717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2546640" y="408924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12" y="17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4606560" y="3381840"/>
                <a:ext cx="2160" cy="717480"/>
              </a:xfrm>
              <a:custGeom>
                <a:avLst/>
                <a:gdLst/>
                <a:ahLst/>
                <a:rect l="l" t="t" r="r" b="b"/>
                <a:pathLst>
                  <a:path w="0" h="284">
                    <a:moveTo>
                      <a:pt x="0" y="0"/>
                    </a:moveTo>
                    <a:lnTo>
                      <a:pt x="0" y="2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4606560" y="3381840"/>
                <a:ext cx="2160" cy="717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4583520" y="4089240"/>
                <a:ext cx="52920" cy="42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9" y="17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6648480" y="3381840"/>
                <a:ext cx="2520" cy="717480"/>
              </a:xfrm>
              <a:custGeom>
                <a:avLst/>
                <a:gdLst/>
                <a:ahLst/>
                <a:rect l="l" t="t" r="r" b="b"/>
                <a:pathLst>
                  <a:path w="0" h="284">
                    <a:moveTo>
                      <a:pt x="0" y="0"/>
                    </a:moveTo>
                    <a:lnTo>
                      <a:pt x="0" y="2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648480" y="3381840"/>
                <a:ext cx="2520" cy="717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623280" y="4089240"/>
                <a:ext cx="50040" cy="4284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0"/>
                    </a:moveTo>
                    <a:lnTo>
                      <a:pt x="10" y="17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165924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175068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179640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183924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1882800" y="11970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1985760" y="1197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203904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2125440" y="11970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226080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230400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239616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248292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252756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2619360" y="1197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267156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370908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379836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384660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388944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3935160" y="11970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4030920" y="1197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408744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4177800" y="11970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431064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435600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439920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4489920" y="1197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454464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463536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472464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5699160" y="1197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577980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582264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587376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5916960" y="11970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6012360" y="1197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606708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6158520" y="11970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628992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633816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637992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6469200" y="1197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6507000" y="1197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654228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6590520" y="1197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63228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721560" y="1197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77376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686484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695304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7043760" y="119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1892520" y="2368800"/>
                <a:ext cx="138600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2" y="90"/>
                    </a:lnTo>
                    <a:lnTo>
                      <a:pt x="549" y="90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1892520" y="2368800"/>
                <a:ext cx="138600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2" y="90"/>
                    </a:lnTo>
                    <a:lnTo>
                      <a:pt x="549" y="90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3924360" y="146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4005360" y="146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4097880" y="146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4184280" y="146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4228920" y="146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4321080" y="146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4362840" y="146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4457520" y="146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4500360" y="146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4544640" y="146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4636440" y="146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4678560" y="146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4767480" y="146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4815720" y="146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4857480" y="146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4946760" y="146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4994280" y="146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083560" y="146952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3924720" y="166428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3925080" y="18561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4046040" y="185616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3924720" y="2045880"/>
                <a:ext cx="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3924720" y="223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4014720" y="223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4104000" y="223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4194720" y="2239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4239360" y="223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4330800" y="223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4408200" y="223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4500360" y="2239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4545360" y="2239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4587840" y="223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4679280" y="223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4762800" y="223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4848480" y="2239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4894200" y="2239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4942080" y="223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029920" y="223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110200" y="223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199480" y="223992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3924720" y="2429640"/>
                <a:ext cx="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3924360" y="2623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3962160" y="2623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4005000" y="2623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4049640" y="262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4141440" y="2623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4220280" y="262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4310640" y="2623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4356000" y="2623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4452120" y="2623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493880" y="262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583160" y="2623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631400" y="2623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673520" y="262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762800" y="262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852800" y="262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947120" y="262368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3924720" y="281844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3924720" y="3008160"/>
                <a:ext cx="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96448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605808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614376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623736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627912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6370560" y="1575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644832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654228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658548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662760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721560" y="1575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679752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689112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693396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697860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7069680" y="1575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715248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7239600" y="157536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5964480" y="176508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5964120" y="19598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600480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604764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608976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6183720" y="195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625896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635292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6395760" y="1959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648972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653760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62292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666900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671688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680256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689616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6981840" y="1959840"/>
                <a:ext cx="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5964480" y="214884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5964120" y="234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6007320" y="2341440"/>
                <a:ext cx="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5964480" y="253044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5964480" y="2725200"/>
                <a:ext cx="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2672640" y="2058480"/>
                <a:ext cx="663840" cy="1032840"/>
              </a:xfrm>
              <a:custGeom>
                <a:avLst/>
                <a:gdLst/>
                <a:ahLst/>
                <a:rect l="l" t="t" r="r" b="b"/>
                <a:pathLst>
                  <a:path w="263" h="409">
                    <a:moveTo>
                      <a:pt x="133" y="0"/>
                    </a:moveTo>
                    <a:lnTo>
                      <a:pt x="263" y="2"/>
                    </a:lnTo>
                    <a:lnTo>
                      <a:pt x="263" y="409"/>
                    </a:lnTo>
                    <a:lnTo>
                      <a:pt x="0" y="40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2639880" y="3066120"/>
                <a:ext cx="42840" cy="47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5" y="0"/>
                    </a:moveTo>
                    <a:lnTo>
                      <a:pt x="0" y="10"/>
                    </a:lnTo>
                    <a:lnTo>
                      <a:pt x="17" y="19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1892520" y="5016240"/>
                <a:ext cx="138600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2" y="90"/>
                    </a:lnTo>
                    <a:lnTo>
                      <a:pt x="549" y="90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1892520" y="5016240"/>
                <a:ext cx="138600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2" y="90"/>
                    </a:lnTo>
                    <a:lnTo>
                      <a:pt x="549" y="90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2672640" y="4743360"/>
                <a:ext cx="663840" cy="995400"/>
              </a:xfrm>
              <a:custGeom>
                <a:avLst/>
                <a:gdLst/>
                <a:ahLst/>
                <a:rect l="l" t="t" r="r" b="b"/>
                <a:pathLst>
                  <a:path w="263" h="394">
                    <a:moveTo>
                      <a:pt x="133" y="0"/>
                    </a:moveTo>
                    <a:lnTo>
                      <a:pt x="263" y="2"/>
                    </a:lnTo>
                    <a:lnTo>
                      <a:pt x="263" y="394"/>
                    </a:lnTo>
                    <a:lnTo>
                      <a:pt x="0" y="39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2639880" y="570852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15" y="0"/>
                    </a:moveTo>
                    <a:lnTo>
                      <a:pt x="0" y="12"/>
                    </a:lnTo>
                    <a:lnTo>
                      <a:pt x="17" y="2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7103160" y="2058480"/>
                <a:ext cx="302760" cy="1032840"/>
              </a:xfrm>
              <a:custGeom>
                <a:avLst/>
                <a:gdLst/>
                <a:ahLst/>
                <a:rect l="l" t="t" r="r" b="b"/>
                <a:pathLst>
                  <a:path w="120" h="409">
                    <a:moveTo>
                      <a:pt x="0" y="0"/>
                    </a:moveTo>
                    <a:lnTo>
                      <a:pt x="120" y="2"/>
                    </a:lnTo>
                    <a:lnTo>
                      <a:pt x="120" y="409"/>
                    </a:lnTo>
                    <a:lnTo>
                      <a:pt x="72" y="40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7249680" y="3066120"/>
                <a:ext cx="42840" cy="47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5" y="0"/>
                    </a:moveTo>
                    <a:lnTo>
                      <a:pt x="0" y="10"/>
                    </a:lnTo>
                    <a:lnTo>
                      <a:pt x="17" y="19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5964480" y="5016240"/>
                <a:ext cx="138600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2" y="90"/>
                    </a:lnTo>
                    <a:lnTo>
                      <a:pt x="549" y="90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5964480" y="5016240"/>
                <a:ext cx="138600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2" y="90"/>
                    </a:lnTo>
                    <a:lnTo>
                      <a:pt x="549" y="90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5964480" y="426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6058080" y="426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6143760" y="426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6237360" y="426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6279120" y="426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6370560" y="4263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6448320" y="426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6542280" y="426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6585480" y="426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6627600" y="426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6721560" y="4263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6797520" y="426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6891120" y="426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6933960" y="426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6978600" y="426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7069680" y="4263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7152480" y="426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7239600" y="426348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5" name=""/>
            <p:cNvGrpSpPr/>
            <p:nvPr/>
          </p:nvGrpSpPr>
          <p:grpSpPr>
            <a:xfrm>
              <a:off x="1775520" y="1519920"/>
              <a:ext cx="5630040" cy="4359960"/>
              <a:chOff x="1775520" y="1519920"/>
              <a:chExt cx="5630040" cy="4359960"/>
            </a:xfrm>
          </p:grpSpPr>
          <p:sp>
            <p:nvSpPr>
              <p:cNvPr id="6776" name=""/>
              <p:cNvSpPr/>
              <p:nvPr/>
            </p:nvSpPr>
            <p:spPr>
              <a:xfrm>
                <a:off x="5964120" y="445284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5963760" y="46447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6004440" y="4644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6047280" y="4644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6089040" y="464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6183000" y="4644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6258240" y="464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6352560" y="4644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6395400" y="46447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6489360" y="4644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6537240" y="464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6622560" y="4644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6668280" y="4644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6716160" y="464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6802200" y="464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6895800" y="464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6981480" y="464472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5964120" y="483408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596376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600660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6057360" y="502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6131880" y="502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6225480" y="502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631224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6361920" y="502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644868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6490800" y="502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658476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662760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6673320" y="502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676404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6806160" y="502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690012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694332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6985440" y="502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7079400" y="502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7122600" y="502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7211520" y="502848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5964120" y="522324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6764400" y="4743000"/>
                <a:ext cx="641160" cy="995400"/>
              </a:xfrm>
              <a:custGeom>
                <a:avLst/>
                <a:gdLst/>
                <a:ahLst/>
                <a:rect l="l" t="t" r="r" b="b"/>
                <a:pathLst>
                  <a:path w="254" h="394">
                    <a:moveTo>
                      <a:pt x="127" y="0"/>
                    </a:moveTo>
                    <a:lnTo>
                      <a:pt x="254" y="2"/>
                    </a:lnTo>
                    <a:lnTo>
                      <a:pt x="254" y="394"/>
                    </a:lnTo>
                    <a:lnTo>
                      <a:pt x="0" y="39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6731640" y="570852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17" y="0"/>
                    </a:moveTo>
                    <a:lnTo>
                      <a:pt x="0" y="12"/>
                    </a:lnTo>
                    <a:lnTo>
                      <a:pt x="17" y="2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5063040" y="1567800"/>
                <a:ext cx="295200" cy="1176840"/>
              </a:xfrm>
              <a:custGeom>
                <a:avLst/>
                <a:gdLst/>
                <a:ahLst/>
                <a:rect l="l" t="t" r="r" b="b"/>
                <a:pathLst>
                  <a:path w="117" h="466">
                    <a:moveTo>
                      <a:pt x="0" y="464"/>
                    </a:moveTo>
                    <a:lnTo>
                      <a:pt x="117" y="466"/>
                    </a:lnTo>
                    <a:lnTo>
                      <a:pt x="117" y="0"/>
                    </a:lnTo>
                    <a:lnTo>
                      <a:pt x="73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5184360" y="1519920"/>
                <a:ext cx="90360" cy="9612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0" y="17"/>
                    </a:moveTo>
                    <a:lnTo>
                      <a:pt x="6" y="17"/>
                    </a:lnTo>
                    <a:lnTo>
                      <a:pt x="8" y="15"/>
                    </a:lnTo>
                    <a:lnTo>
                      <a:pt x="12" y="13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1" y="3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29" y="19"/>
                    </a:lnTo>
                    <a:lnTo>
                      <a:pt x="36" y="38"/>
                    </a:lnTo>
                    <a:lnTo>
                      <a:pt x="33" y="34"/>
                    </a:lnTo>
                    <a:lnTo>
                      <a:pt x="31" y="32"/>
                    </a:lnTo>
                    <a:lnTo>
                      <a:pt x="27" y="30"/>
                    </a:lnTo>
                    <a:lnTo>
                      <a:pt x="23" y="28"/>
                    </a:lnTo>
                    <a:lnTo>
                      <a:pt x="19" y="26"/>
                    </a:lnTo>
                    <a:lnTo>
                      <a:pt x="15" y="25"/>
                    </a:lnTo>
                    <a:lnTo>
                      <a:pt x="12" y="23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3929400" y="5649840"/>
                <a:ext cx="1385640" cy="230040"/>
              </a:xfrm>
              <a:custGeom>
                <a:avLst/>
                <a:gdLst/>
                <a:ahLst/>
                <a:rect l="l" t="t" r="r" b="b"/>
                <a:pathLst>
                  <a:path w="549" h="91">
                    <a:moveTo>
                      <a:pt x="0" y="0"/>
                    </a:moveTo>
                    <a:lnTo>
                      <a:pt x="2" y="91"/>
                    </a:lnTo>
                    <a:lnTo>
                      <a:pt x="549" y="91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3929400" y="5649840"/>
                <a:ext cx="1385640" cy="230040"/>
              </a:xfrm>
              <a:custGeom>
                <a:avLst/>
                <a:gdLst/>
                <a:ahLst/>
                <a:rect l="l" t="t" r="r" b="b"/>
                <a:pathLst>
                  <a:path w="549" h="91">
                    <a:moveTo>
                      <a:pt x="0" y="0"/>
                    </a:moveTo>
                    <a:lnTo>
                      <a:pt x="2" y="91"/>
                    </a:lnTo>
                    <a:lnTo>
                      <a:pt x="549" y="91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3876840" y="431136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3876840" y="450072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3876840" y="469512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3875400" y="4884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3967200" y="4884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4054680" y="4884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4146120" y="4884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4189320" y="4884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4277520" y="4884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359960" y="4884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451760" y="4884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494600" y="4884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540320" y="4884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4630680" y="4884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4708440" y="4884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4799880" y="4884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4845600" y="4884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4887360" y="4884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4979160" y="4884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5061960" y="4884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5151240" y="488448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3876840" y="507636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3876120" y="5271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3909240" y="527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3957120" y="527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3998880" y="527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4087800" y="5271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4170600" y="527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4262400" y="527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4305240" y="52711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4398480" y="527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4446000" y="527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4534920" y="527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4577760" y="527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4625280" y="527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4713480" y="527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4805280" y="527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4894200" y="5271120"/>
                <a:ext cx="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3876840" y="5460840"/>
                <a:ext cx="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387612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391896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396684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4009680" y="56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4087080" y="5652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4178160" y="5652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427248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4314600" y="5652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440388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4450680" y="5652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453996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458280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4630320" y="5652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471924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4762440" y="5652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485316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489816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4941720" y="5652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5032440" y="5652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5077080" y="5652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4699440" y="4657320"/>
                <a:ext cx="638640" cy="727200"/>
              </a:xfrm>
              <a:custGeom>
                <a:avLst/>
                <a:gdLst/>
                <a:ahLst/>
                <a:rect l="l" t="t" r="r" b="b"/>
                <a:pathLst>
                  <a:path w="253" h="288">
                    <a:moveTo>
                      <a:pt x="121" y="288"/>
                    </a:moveTo>
                    <a:lnTo>
                      <a:pt x="253" y="288"/>
                    </a:lnTo>
                    <a:lnTo>
                      <a:pt x="253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4666680" y="4626720"/>
                <a:ext cx="42840" cy="529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5" y="0"/>
                    </a:moveTo>
                    <a:lnTo>
                      <a:pt x="0" y="12"/>
                    </a:lnTo>
                    <a:lnTo>
                      <a:pt x="17" y="2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189108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198468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207036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216468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220680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2298240" y="1575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237708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246996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51280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255492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2649240" y="1575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272412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281844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2861640" y="157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290340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2997360" y="1575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3080160" y="157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3166920" y="157536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1892160" y="176508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1891800" y="19598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192996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197532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201708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2111040" y="195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218628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228096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2323440" y="1959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241452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246420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255060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2596320" y="1959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264348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272916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2822760" y="195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2909880" y="1959840"/>
                <a:ext cx="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1892160" y="2148840"/>
                <a:ext cx="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1891800" y="234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1934640" y="234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1985760" y="234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028600" y="234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5814360" y="3700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5921280" y="37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6011280" y="37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6089040" y="37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6183000" y="37000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6316560" y="37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6405120" y="37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3792240" y="3700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903120" y="37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992040" y="37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4071960" y="37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4161240" y="37000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4296600" y="37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4388400" y="37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1775520" y="3700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1881000" y="37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1969920" y="37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2050200" y="37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2144160" y="37000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2274840" y="370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366280" y="37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234880" y="23709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352960" y="237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444760" y="237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2476800" y="237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2570760" y="237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2649240" y="2370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2696760" y="237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2775240" y="237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2812680" y="237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2901600" y="2370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929400" y="3012480"/>
                <a:ext cx="138564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2" y="90"/>
                    </a:lnTo>
                    <a:lnTo>
                      <a:pt x="549" y="90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929400" y="3012480"/>
                <a:ext cx="138564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2" y="90"/>
                    </a:lnTo>
                    <a:lnTo>
                      <a:pt x="549" y="90"/>
                    </a:lnTo>
                    <a:lnTo>
                      <a:pt x="549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4271760" y="301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4387680" y="3010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4481640" y="30103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4514040" y="3010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4605480" y="301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4684320" y="3010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4731840" y="301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4809960" y="30103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4848120" y="3010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4936680" y="3010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5964120" y="2368800"/>
                <a:ext cx="138564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0" y="90"/>
                    </a:lnTo>
                    <a:lnTo>
                      <a:pt x="549" y="90"/>
                    </a:lnTo>
                    <a:lnTo>
                      <a:pt x="549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5964120" y="2368800"/>
                <a:ext cx="1385640" cy="22716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0" y="0"/>
                    </a:moveTo>
                    <a:lnTo>
                      <a:pt x="0" y="90"/>
                    </a:lnTo>
                    <a:lnTo>
                      <a:pt x="549" y="90"/>
                    </a:lnTo>
                    <a:lnTo>
                      <a:pt x="549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6310080" y="23709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6424920" y="237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6511680" y="237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6551280" y="237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637680" y="237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721200" y="2370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764040" y="237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847200" y="237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879600" y="237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6" name=""/>
            <p:cNvSpPr/>
            <p:nvPr/>
          </p:nvSpPr>
          <p:spPr>
            <a:xfrm>
              <a:off x="6974280" y="2371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5943960" y="29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6026760" y="298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6120360" y="298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620712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6248880" y="298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634356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6385320" y="298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64796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652248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6564600" y="298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665892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6701040" y="298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678996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683820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6880320" y="298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69692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7016400" y="298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1867320" y="4273920"/>
              <a:ext cx="3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1867320" y="4465800"/>
              <a:ext cx="3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1866960" y="46605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1902240" y="466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1945080" y="466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1992240" y="466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2081160" y="466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2163960" y="466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2251080" y="466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2293560" y="46605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2392560" y="466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2434320" y="466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2528640" y="466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2571480" y="466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2613600" y="466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2706840" y="466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2792520" y="466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2887560" y="4660560"/>
              <a:ext cx="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1867320" y="4849560"/>
              <a:ext cx="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1866960" y="5044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1911600" y="50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1997280" y="50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2090880" y="50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2177640" y="5044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2226960" y="50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2313720" y="504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2396160" y="50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2482920" y="5044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2533680" y="5044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2575800" y="50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2662200" y="504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2744640" y="50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2838960" y="5044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2881800" y="5044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2924280" y="50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3017880" y="504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093120" y="50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he hardware performs the “scheduling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rdware tries to find instructions to 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 of order execution i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peculative execution and dynamic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l modern processors are very com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 Alpha 21264:  9 stage pipeline, 6 instructio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werPC and Pentium:  branch history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iler technology important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his class has given you the background you need to learn more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available from University Video Commun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ção de desempenho (p 5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monociclo, multiciclo 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cc: lw (23%), sw (13%), beq (19%), j (2%), resto (43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ipelin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ns (memória e ALU) e 1ns para o registrador (RD ou W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/2 dos lw seguidas por instruções que usam o result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/4 dos beq são errados (1 clock perdi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umps perdem um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w: 1 clock sem hazard e 2 clock com hazard; média = 1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q: 1 clock se OK (3/4) e 2 clocks se não OK (1/4); média = 1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ump: 2 c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mais instruções: 1 c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I = 1.5*0.23+1*0.13+1*0.43+1.25*0.19+2*0.02 = 1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ock = 2ns; tempo médio de execução = 2*1.18=2.36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ulticiclo; 4.02*2=8.08ns; monociclo = 8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peline é 3.4 vezes mais rápido do que monociclo ou multi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1360" y="1176120"/>
            <a:ext cx="831564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9000"/>
          </a:bodyPr>
          <a:p>
            <a:pPr marL="65160" indent="-6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blem with starting next instruction before first is fin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pendencies that “go backward in time” are data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5520" indent="-54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 instrução receberá o valor errado de $2 (velho 10, novo -20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ata Depend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93080" y="2254320"/>
            <a:ext cx="6985440" cy="4298040"/>
            <a:chOff x="793080" y="2254320"/>
            <a:chExt cx="6985440" cy="4298040"/>
          </a:xfrm>
        </p:grpSpPr>
        <p:grpSp>
          <p:nvGrpSpPr>
            <p:cNvPr id="47" name=""/>
            <p:cNvGrpSpPr/>
            <p:nvPr/>
          </p:nvGrpSpPr>
          <p:grpSpPr>
            <a:xfrm>
              <a:off x="793080" y="2254320"/>
              <a:ext cx="6906960" cy="4153320"/>
              <a:chOff x="793080" y="2254320"/>
              <a:chExt cx="6906960" cy="4153320"/>
            </a:xfrm>
          </p:grpSpPr>
          <p:sp>
            <p:nvSpPr>
              <p:cNvPr id="48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708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929640" y="61189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0"/>
                    </a:moveTo>
                    <a:lnTo>
                      <a:pt x="73" y="0"/>
                    </a:lnTo>
                    <a:lnTo>
                      <a:pt x="73" y="144"/>
                    </a:lnTo>
                    <a:lnTo>
                      <a:pt x="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07080" y="6191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23080" y="5543280"/>
                <a:ext cx="142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023080" y="5685480"/>
                <a:ext cx="14220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4492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10236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73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32600" y="5039280"/>
                <a:ext cx="1465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32600" y="489276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47880" y="438912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47880" y="42447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7480" y="3666960"/>
                <a:ext cx="14652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7340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023080" y="3521880"/>
                <a:ext cx="180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875840" y="352656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4875840" y="3813480"/>
                <a:ext cx="146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2096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674440" y="3521880"/>
                <a:ext cx="3960" cy="29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74440" y="352656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74440" y="3813480"/>
                <a:ext cx="154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36600" y="3526560"/>
                <a:ext cx="14220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90080" y="3526560"/>
                <a:ext cx="146520" cy="28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6532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00960" y="3584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12960" y="3584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05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77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94800" y="3384000"/>
                <a:ext cx="21888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6" y="143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79160" y="3666960"/>
                <a:ext cx="3988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63160" y="35989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613680" y="3666960"/>
                <a:ext cx="4352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63160" y="3741120"/>
                <a:ext cx="4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02440" y="3598920"/>
                <a:ext cx="71640" cy="68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2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18000" y="417456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707080" y="4166280"/>
                <a:ext cx="21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5556600" y="417456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556600" y="4463280"/>
                <a:ext cx="1501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2096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78400" y="417456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514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86040" y="42325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05320" y="417456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358800" y="4166280"/>
                <a:ext cx="39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58800" y="417456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58800" y="446328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83480" y="4032000"/>
                <a:ext cx="218880" cy="57348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2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8"/>
                    </a:lnTo>
                    <a:lnTo>
                      <a:pt x="109" y="8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50760" y="4232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50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18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63160" y="4316760"/>
                <a:ext cx="399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98400" y="4316760"/>
                <a:ext cx="435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18760" y="431676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90760" y="42487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34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983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9088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816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168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827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75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66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016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674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45996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5032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8776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5324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461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3504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7428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3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283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1940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5864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052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18800" y="24728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9880" y="2472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43000" y="2472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19840" y="22543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9868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7480" y="22543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3692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038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3808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344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1368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8028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2168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825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142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822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481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11840" y="2254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48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0904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7492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39720" y="22543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7800" y="225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39800" y="2254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01360" y="22543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28160" y="3584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080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6316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3048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715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399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130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472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8212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448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2360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61760" y="3584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970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67240" y="3584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82360" y="3526560"/>
                <a:ext cx="3600" cy="284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60040" y="635760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4160" y="288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732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016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932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62000" y="288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04840" y="288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78280" y="288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85560" y="288864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380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148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284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00440" y="3042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6164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35800" y="3042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71440" y="3042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013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71520" y="3042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43880" y="304272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38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6112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0828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77400" y="3191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49760" y="3191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92960" y="3191040"/>
                <a:ext cx="3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308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628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618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3492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7056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008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69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358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7036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1320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8520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46400" y="3345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86000" y="33458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1408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86440" y="3345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54120" y="33458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20000" y="33458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91520" y="2342520"/>
                <a:ext cx="4770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50000" y="23184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028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969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710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3804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772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47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1984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889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2316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6240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3296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388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7720" y="4232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7552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47880" y="4232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25680" y="3384000"/>
                <a:ext cx="10584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1004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9440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79120" y="338400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1004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9440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79120" y="4028040"/>
                <a:ext cx="108000" cy="5778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65280" y="4028040"/>
                <a:ext cx="109800" cy="577800"/>
              </a:xfrm>
              <a:custGeom>
                <a:avLst/>
                <a:gdLst/>
                <a:ahLst/>
                <a:rect l="l" t="t" r="r" b="b"/>
                <a:pathLst>
                  <a:path w="55" h="288">
                    <a:moveTo>
                      <a:pt x="53" y="288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5" y="288"/>
                    </a:lnTo>
                    <a:lnTo>
                      <a:pt x="55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0236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141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391440" y="4816440"/>
                <a:ext cx="21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240960" y="482040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240960" y="5107680"/>
                <a:ext cx="150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028160" y="2473200"/>
              <a:ext cx="6750360" cy="4079160"/>
              <a:chOff x="1028160" y="2473200"/>
              <a:chExt cx="6750360" cy="4079160"/>
            </a:xfrm>
          </p:grpSpPr>
          <p:sp>
            <p:nvSpPr>
              <p:cNvPr id="249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05320" y="4824720"/>
                <a:ext cx="146520" cy="28692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62760" y="4820400"/>
                <a:ext cx="142200" cy="29088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35840" y="4878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7040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91480" y="4824720"/>
                <a:ext cx="144720" cy="28692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1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044960" y="4816440"/>
                <a:ext cx="3960" cy="29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44960" y="482040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44960" y="5107680"/>
                <a:ext cx="146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87800" y="491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7996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8000" y="491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67840" y="4678200"/>
                <a:ext cx="218160" cy="57168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7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18000" y="4824720"/>
                <a:ext cx="288720" cy="28692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1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6372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59840" y="4878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40160" y="4878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30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03240" y="4878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47880" y="4966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82760" y="4966920"/>
                <a:ext cx="43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03120" y="4966920"/>
                <a:ext cx="398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75120" y="489276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37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46000" y="4966920"/>
                <a:ext cx="50724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9440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78760" y="467820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65280" y="467820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53240" y="467820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7080" y="5469120"/>
                <a:ext cx="14652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707580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925320" y="546912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925320" y="5757840"/>
                <a:ext cx="150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91480" y="54691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49280" y="54691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205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5512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76200" y="54691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4733640" y="5464440"/>
                <a:ext cx="180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33640" y="546912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33640" y="5757840"/>
                <a:ext cx="142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51840" y="5328360"/>
                <a:ext cx="22104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5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10" y="199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5276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44200" y="55267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27400" y="552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192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9876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32240" y="5614920"/>
                <a:ext cx="401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68920" y="5614920"/>
                <a:ext cx="4330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91440" y="5614920"/>
                <a:ext cx="395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59480" y="5543280"/>
                <a:ext cx="74160" cy="716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36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0000" y="5614920"/>
                <a:ext cx="507600" cy="214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6" y="107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787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65280" y="5328360"/>
                <a:ext cx="109800" cy="57528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53240" y="5328360"/>
                <a:ext cx="106200" cy="57528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37960" y="5328360"/>
                <a:ext cx="108000" cy="57528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73240" y="6118920"/>
                <a:ext cx="1447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760520" y="6114600"/>
                <a:ext cx="180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7611120" y="611892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611120" y="6407640"/>
                <a:ext cx="148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76200" y="6118920"/>
                <a:ext cx="14652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33640" y="6118920"/>
                <a:ext cx="142200" cy="28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456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3912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60920" y="611892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5418000" y="6114600"/>
                <a:ext cx="216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18000" y="611892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18000" y="6407640"/>
                <a:ext cx="146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36560" y="5976360"/>
                <a:ext cx="220680" cy="571680"/>
              </a:xfrm>
              <a:custGeom>
                <a:avLst/>
                <a:gdLst/>
                <a:ahLst/>
                <a:rect l="l" t="t" r="r" b="b"/>
                <a:pathLst>
                  <a:path w="110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1"/>
                    </a:lnTo>
                    <a:lnTo>
                      <a:pt x="0" y="285"/>
                    </a:lnTo>
                    <a:lnTo>
                      <a:pt x="110" y="197"/>
                    </a:lnTo>
                    <a:lnTo>
                      <a:pt x="110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3748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28560" y="6176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5117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03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72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22720" y="6261120"/>
                <a:ext cx="3949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57240" y="6261120"/>
                <a:ext cx="4294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75800" y="6261120"/>
                <a:ext cx="3970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6720" y="6333480"/>
                <a:ext cx="4294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6000" y="6191280"/>
                <a:ext cx="71640" cy="6984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4720" y="6261120"/>
                <a:ext cx="507600" cy="21852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5280" y="5976360"/>
                <a:ext cx="109800" cy="5760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3" y="285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1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53240" y="5976360"/>
                <a:ext cx="106200" cy="5760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1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3796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22680" y="5976360"/>
                <a:ext cx="108000" cy="5760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102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031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9208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2916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9536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850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7824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124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7720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71880" y="24732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62960" y="24732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00040" y="2473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602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2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4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4286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97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133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83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55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296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97000" y="269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33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930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0148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451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483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185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3656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330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032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227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1920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908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0744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03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75920" y="269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85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95840" y="4883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3796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790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4740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215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85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2272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619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3216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03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39440" y="4883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7472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47080" y="4883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28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965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707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3804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7728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47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1984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889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316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240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329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035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37720" y="552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7516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847520" y="552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28160" y="6176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91160" y="6176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8188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214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895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6368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310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68800" y="6176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062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7464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6459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15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59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31320" y="6176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04760" y="6176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55320" y="25113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3956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10120" y="251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396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0804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8112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15320" y="251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858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23680" y="251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59320" y="251136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54240" y="2665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9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6800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0000" y="26654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65920" y="26654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1080" y="2665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66360" y="2665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639800" y="2665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8192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72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85600" y="2665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58680" y="2665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9280" y="3526560"/>
              <a:ext cx="286920" cy="28692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141" y="143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3" y="143"/>
                  </a:lnTo>
                  <a:lnTo>
                    <a:pt x="143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95720" y="3584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87160" y="3584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32600" y="3667320"/>
              <a:ext cx="146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520" y="3534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432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6680" y="353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03440" y="4275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9560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3640" y="427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02760" y="4245120"/>
              <a:ext cx="1803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87480" y="5039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52560" y="6207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86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18880" y="620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68560" y="556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0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32360" y="5563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56200" y="6191640"/>
              <a:ext cx="18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497040" y="3702960"/>
              <a:ext cx="1374840" cy="5295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172040" y="3702960"/>
              <a:ext cx="708480" cy="1163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76200" y="3695040"/>
              <a:ext cx="3960" cy="18320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84120" y="3691440"/>
              <a:ext cx="692640" cy="2495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75440" y="4202640"/>
              <a:ext cx="57960" cy="5580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7840" y="4843080"/>
              <a:ext cx="56160" cy="57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48120" y="549720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44720" y="6153120"/>
              <a:ext cx="57960" cy="57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56400" y="3664800"/>
              <a:ext cx="57960" cy="561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26"/>
                  </a:moveTo>
                  <a:lnTo>
                    <a:pt x="17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71840" y="5543280"/>
              <a:ext cx="180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71840" y="5685840"/>
              <a:ext cx="18000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59840" y="4317120"/>
              <a:ext cx="505440" cy="218880"/>
            </a:xfrm>
            <a:custGeom>
              <a:avLst/>
              <a:gdLst/>
              <a:ahLst/>
              <a:rect l="l" t="t" r="r" b="b"/>
              <a:pathLst>
                <a:path w="252" h="109">
                  <a:moveTo>
                    <a:pt x="0" y="0"/>
                  </a:moveTo>
                  <a:lnTo>
                    <a:pt x="0" y="109"/>
                  </a:lnTo>
                  <a:lnTo>
                    <a:pt x="217" y="109"/>
                  </a:lnTo>
                  <a:lnTo>
                    <a:pt x="217" y="36"/>
                  </a:lnTo>
                  <a:lnTo>
                    <a:pt x="252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5120" y="3667320"/>
              <a:ext cx="503640" cy="220680"/>
            </a:xfrm>
            <a:custGeom>
              <a:avLst/>
              <a:gdLst/>
              <a:ahLst/>
              <a:rect l="l" t="t" r="r" b="b"/>
              <a:pathLst>
                <a:path w="251" h="110">
                  <a:moveTo>
                    <a:pt x="0" y="0"/>
                  </a:moveTo>
                  <a:lnTo>
                    <a:pt x="0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1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440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5160" y="3384000"/>
              <a:ext cx="112320" cy="575640"/>
            </a:xfrm>
            <a:custGeom>
              <a:avLst/>
              <a:gdLst/>
              <a:ahLst/>
              <a:rect l="l" t="t" r="r" b="b"/>
              <a:pathLst>
                <a:path w="56" h="287">
                  <a:moveTo>
                    <a:pt x="54" y="285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6" y="287"/>
                  </a:lnTo>
                  <a:lnTo>
                    <a:pt x="56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75160" y="4028040"/>
              <a:ext cx="112320" cy="5778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54" y="288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6" y="288"/>
                  </a:lnTo>
                  <a:lnTo>
                    <a:pt x="5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34000" y="4174560"/>
              <a:ext cx="288720" cy="2887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80440" y="4232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71520" y="4232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63880" y="4678200"/>
              <a:ext cx="218880" cy="57168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7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5640" y="4678200"/>
              <a:ext cx="109800" cy="57600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7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52200" y="5328720"/>
              <a:ext cx="221040" cy="57168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0"/>
                  </a:moveTo>
                  <a:lnTo>
                    <a:pt x="0" y="116"/>
                  </a:lnTo>
                  <a:lnTo>
                    <a:pt x="35" y="143"/>
                  </a:lnTo>
                  <a:lnTo>
                    <a:pt x="0" y="170"/>
                  </a:lnTo>
                  <a:lnTo>
                    <a:pt x="0" y="285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ito compl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6" name=""/>
          <p:cNvGrpSpPr/>
          <p:nvPr/>
        </p:nvGrpSpPr>
        <p:grpSpPr>
          <a:xfrm>
            <a:off x="444600" y="809640"/>
            <a:ext cx="8241480" cy="5818680"/>
            <a:chOff x="444600" y="809640"/>
            <a:chExt cx="8241480" cy="5818680"/>
          </a:xfrm>
        </p:grpSpPr>
        <p:grpSp>
          <p:nvGrpSpPr>
            <p:cNvPr id="7037" name=""/>
            <p:cNvGrpSpPr/>
            <p:nvPr/>
          </p:nvGrpSpPr>
          <p:grpSpPr>
            <a:xfrm>
              <a:off x="444600" y="1542600"/>
              <a:ext cx="8241480" cy="4980960"/>
              <a:chOff x="444600" y="1542600"/>
              <a:chExt cx="8241480" cy="4980960"/>
            </a:xfrm>
          </p:grpSpPr>
          <p:sp>
            <p:nvSpPr>
              <p:cNvPr id="7038" name=""/>
              <p:cNvSpPr/>
              <p:nvPr/>
            </p:nvSpPr>
            <p:spPr>
              <a:xfrm>
                <a:off x="6509880" y="2894040"/>
                <a:ext cx="1147680" cy="1951560"/>
              </a:xfrm>
              <a:custGeom>
                <a:avLst/>
                <a:gdLst/>
                <a:ahLst/>
                <a:rect l="l" t="t" r="r" b="b"/>
                <a:pathLst>
                  <a:path w="570" h="969">
                    <a:moveTo>
                      <a:pt x="0" y="0"/>
                    </a:moveTo>
                    <a:lnTo>
                      <a:pt x="449" y="1"/>
                    </a:lnTo>
                    <a:lnTo>
                      <a:pt x="449" y="297"/>
                    </a:lnTo>
                    <a:lnTo>
                      <a:pt x="570" y="297"/>
                    </a:lnTo>
                    <a:lnTo>
                      <a:pt x="570" y="969"/>
                    </a:lnTo>
                    <a:lnTo>
                      <a:pt x="405" y="969"/>
                    </a:lnTo>
                    <a:lnTo>
                      <a:pt x="405" y="93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6053040" y="4483080"/>
                <a:ext cx="2160" cy="118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529160" y="3101400"/>
                <a:ext cx="734760" cy="2374560"/>
              </a:xfrm>
              <a:custGeom>
                <a:avLst/>
                <a:gdLst/>
                <a:ahLst/>
                <a:rect l="l" t="t" r="r" b="b"/>
                <a:pathLst>
                  <a:path w="365" h="1179">
                    <a:moveTo>
                      <a:pt x="0" y="0"/>
                    </a:moveTo>
                    <a:lnTo>
                      <a:pt x="41" y="2"/>
                    </a:lnTo>
                    <a:lnTo>
                      <a:pt x="41" y="1122"/>
                    </a:lnTo>
                    <a:lnTo>
                      <a:pt x="365" y="1122"/>
                    </a:lnTo>
                    <a:lnTo>
                      <a:pt x="365" y="117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529160" y="2878200"/>
                <a:ext cx="1129320" cy="1458000"/>
              </a:xfrm>
              <a:custGeom>
                <a:avLst/>
                <a:gdLst/>
                <a:ahLst/>
                <a:rect l="l" t="t" r="r" b="b"/>
                <a:pathLst>
                  <a:path w="561" h="724">
                    <a:moveTo>
                      <a:pt x="0" y="0"/>
                    </a:moveTo>
                    <a:lnTo>
                      <a:pt x="137" y="0"/>
                    </a:lnTo>
                    <a:lnTo>
                      <a:pt x="137" y="305"/>
                    </a:lnTo>
                    <a:lnTo>
                      <a:pt x="561" y="305"/>
                    </a:lnTo>
                    <a:lnTo>
                      <a:pt x="561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4529160" y="3012840"/>
                <a:ext cx="1372680" cy="1945800"/>
              </a:xfrm>
              <a:custGeom>
                <a:avLst/>
                <a:gdLst/>
                <a:ahLst/>
                <a:rect l="l" t="t" r="r" b="b"/>
                <a:pathLst>
                  <a:path w="682" h="966">
                    <a:moveTo>
                      <a:pt x="0" y="0"/>
                    </a:moveTo>
                    <a:lnTo>
                      <a:pt x="89" y="2"/>
                    </a:lnTo>
                    <a:lnTo>
                      <a:pt x="89" y="966"/>
                    </a:lnTo>
                    <a:lnTo>
                      <a:pt x="682" y="966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5255640" y="4866120"/>
                <a:ext cx="293760" cy="1118160"/>
              </a:xfrm>
              <a:custGeom>
                <a:avLst/>
                <a:gdLst/>
                <a:ahLst/>
                <a:rect l="l" t="t" r="r" b="b"/>
                <a:pathLst>
                  <a:path w="146" h="555">
                    <a:moveTo>
                      <a:pt x="0" y="0"/>
                    </a:moveTo>
                    <a:lnTo>
                      <a:pt x="0" y="178"/>
                    </a:lnTo>
                    <a:lnTo>
                      <a:pt x="114" y="178"/>
                    </a:lnTo>
                    <a:lnTo>
                      <a:pt x="112" y="555"/>
                    </a:lnTo>
                    <a:lnTo>
                      <a:pt x="146" y="55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5090400" y="4122720"/>
                <a:ext cx="463320" cy="1925640"/>
              </a:xfrm>
              <a:custGeom>
                <a:avLst/>
                <a:gdLst/>
                <a:ahLst/>
                <a:rect l="l" t="t" r="r" b="b"/>
                <a:pathLst>
                  <a:path w="230" h="956">
                    <a:moveTo>
                      <a:pt x="79" y="0"/>
                    </a:moveTo>
                    <a:lnTo>
                      <a:pt x="80" y="46"/>
                    </a:lnTo>
                    <a:lnTo>
                      <a:pt x="0" y="46"/>
                    </a:lnTo>
                    <a:lnTo>
                      <a:pt x="0" y="588"/>
                    </a:lnTo>
                    <a:lnTo>
                      <a:pt x="163" y="588"/>
                    </a:lnTo>
                    <a:lnTo>
                      <a:pt x="163" y="956"/>
                    </a:lnTo>
                    <a:lnTo>
                      <a:pt x="230" y="95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029400" y="2668320"/>
                <a:ext cx="83952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4086000" y="2668320"/>
                <a:ext cx="2152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5229720" y="4831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3"/>
                    </a:moveTo>
                    <a:lnTo>
                      <a:pt x="25" y="24"/>
                    </a:lnTo>
                    <a:lnTo>
                      <a:pt x="13" y="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5241600" y="5460120"/>
                <a:ext cx="46080" cy="48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0"/>
                    </a:lnTo>
                    <a:lnTo>
                      <a:pt x="11" y="24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5881680" y="49305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5225760" y="40802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5636160" y="432000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6028560" y="4458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3"/>
                    </a:moveTo>
                    <a:lnTo>
                      <a:pt x="23" y="25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6254280" y="6211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701880" y="1650960"/>
                <a:ext cx="4452840" cy="4586400"/>
              </a:xfrm>
              <a:custGeom>
                <a:avLst/>
                <a:gdLst/>
                <a:ahLst/>
                <a:rect l="l" t="t" r="r" b="b"/>
                <a:pathLst>
                  <a:path w="2212" h="2277">
                    <a:moveTo>
                      <a:pt x="0" y="914"/>
                    </a:moveTo>
                    <a:lnTo>
                      <a:pt x="2" y="0"/>
                    </a:lnTo>
                    <a:lnTo>
                      <a:pt x="2212" y="0"/>
                    </a:lnTo>
                    <a:lnTo>
                      <a:pt x="2212" y="2277"/>
                    </a:lnTo>
                    <a:lnTo>
                      <a:pt x="1287" y="22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7939440" y="2990880"/>
                <a:ext cx="215280" cy="1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6308640" y="2668320"/>
                <a:ext cx="420840" cy="3426120"/>
              </a:xfrm>
              <a:custGeom>
                <a:avLst/>
                <a:gdLst/>
                <a:ahLst/>
                <a:rect l="l" t="t" r="r" b="b"/>
                <a:pathLst>
                  <a:path w="209" h="1701">
                    <a:moveTo>
                      <a:pt x="209" y="0"/>
                    </a:moveTo>
                    <a:lnTo>
                      <a:pt x="209" y="1701"/>
                    </a:lnTo>
                    <a:lnTo>
                      <a:pt x="0" y="1701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1940040" y="309744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889080" y="188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4049640" y="188676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1962360" y="1830600"/>
                <a:ext cx="482760" cy="1274760"/>
              </a:xfrm>
              <a:custGeom>
                <a:avLst/>
                <a:gdLst/>
                <a:ahLst/>
                <a:rect l="l" t="t" r="r" b="b"/>
                <a:pathLst>
                  <a:path w="240" h="633">
                    <a:moveTo>
                      <a:pt x="0" y="633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776160" y="1639080"/>
                <a:ext cx="1751400" cy="2282040"/>
              </a:xfrm>
              <a:custGeom>
                <a:avLst/>
                <a:gdLst/>
                <a:ahLst/>
                <a:rect l="l" t="t" r="r" b="b"/>
                <a:pathLst>
                  <a:path w="870" h="1133">
                    <a:moveTo>
                      <a:pt x="0" y="1133"/>
                    </a:moveTo>
                    <a:lnTo>
                      <a:pt x="2" y="0"/>
                    </a:lnTo>
                    <a:lnTo>
                      <a:pt x="87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756360" y="391140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1"/>
                    </a:lnTo>
                    <a:lnTo>
                      <a:pt x="12" y="25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444600" y="1542600"/>
                <a:ext cx="2790000" cy="4320360"/>
              </a:xfrm>
              <a:custGeom>
                <a:avLst/>
                <a:gdLst/>
                <a:ahLst/>
                <a:rect l="l" t="t" r="r" b="b"/>
                <a:pathLst>
                  <a:path w="1386" h="2145">
                    <a:moveTo>
                      <a:pt x="687" y="2145"/>
                    </a:moveTo>
                    <a:lnTo>
                      <a:pt x="0" y="2145"/>
                    </a:lnTo>
                    <a:lnTo>
                      <a:pt x="0" y="0"/>
                    </a:lnTo>
                    <a:lnTo>
                      <a:pt x="1386" y="0"/>
                    </a:lnTo>
                    <a:lnTo>
                      <a:pt x="1386" y="419"/>
                    </a:lnTo>
                    <a:lnTo>
                      <a:pt x="1261" y="4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1812960" y="5840640"/>
                <a:ext cx="4824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lnTo>
                      <a:pt x="1" y="23"/>
                    </a:lnTo>
                    <a:lnTo>
                      <a:pt x="24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683520" y="348408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4339440" y="283140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176280" y="417708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  <a:lnTo>
                      <a:pt x="86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691920" y="3967560"/>
                <a:ext cx="177120" cy="503640"/>
              </a:xfrm>
              <a:custGeom>
                <a:avLst/>
                <a:gdLst/>
                <a:ahLst/>
                <a:rect l="l" t="t" r="r" b="b"/>
                <a:pathLst>
                  <a:path w="88" h="250">
                    <a:moveTo>
                      <a:pt x="86" y="248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50"/>
                    </a:lnTo>
                    <a:lnTo>
                      <a:pt x="88" y="250"/>
                    </a:lnTo>
                    <a:lnTo>
                      <a:pt x="88" y="2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17480" y="41630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779760" y="41630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  <a:lnTo>
                      <a:pt x="299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1120680" y="3659760"/>
                <a:ext cx="606240" cy="1121760"/>
              </a:xfrm>
              <a:custGeom>
                <a:avLst/>
                <a:gdLst/>
                <a:ahLst/>
                <a:rect l="l" t="t" r="r" b="b"/>
                <a:pathLst>
                  <a:path w="301" h="557">
                    <a:moveTo>
                      <a:pt x="299" y="555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7"/>
                    </a:lnTo>
                    <a:lnTo>
                      <a:pt x="301" y="557"/>
                    </a:lnTo>
                    <a:lnTo>
                      <a:pt x="301" y="5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118836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12164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126648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131688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1344240" y="3814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137592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1424520" y="381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1474200" y="381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1502280" y="38145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152064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1576080" y="381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1630080" y="381456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125100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133164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1382040" y="3921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1464480" y="392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1518480" y="3921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1548720" y="3921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6981120" y="3621240"/>
                <a:ext cx="605520" cy="1119960"/>
              </a:xfrm>
              <a:custGeom>
                <a:avLst/>
                <a:gdLst/>
                <a:ahLst/>
                <a:rect l="l" t="t" r="r" b="b"/>
                <a:pathLst>
                  <a:path w="301" h="556">
                    <a:moveTo>
                      <a:pt x="301" y="556"/>
                    </a:moveTo>
                    <a:lnTo>
                      <a:pt x="301" y="0"/>
                    </a:lnTo>
                    <a:lnTo>
                      <a:pt x="0" y="0"/>
                    </a:lnTo>
                    <a:lnTo>
                      <a:pt x="0" y="556"/>
                    </a:lnTo>
                    <a:lnTo>
                      <a:pt x="301" y="556"/>
                    </a:lnTo>
                    <a:lnTo>
                      <a:pt x="301" y="5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3176280" y="44629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973440" y="3016800"/>
                <a:ext cx="306000" cy="1202400"/>
              </a:xfrm>
              <a:custGeom>
                <a:avLst/>
                <a:gdLst/>
                <a:ahLst/>
                <a:rect l="l" t="t" r="r" b="b"/>
                <a:pathLst>
                  <a:path w="152" h="597">
                    <a:moveTo>
                      <a:pt x="152" y="0"/>
                    </a:moveTo>
                    <a:lnTo>
                      <a:pt x="0" y="2"/>
                    </a:lnTo>
                    <a:lnTo>
                      <a:pt x="0" y="59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 flipH="1">
                <a:off x="1174680" y="344592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1314000" y="2873880"/>
                <a:ext cx="235440" cy="718920"/>
              </a:xfrm>
              <a:custGeom>
                <a:avLst/>
                <a:gdLst/>
                <a:ahLst/>
                <a:rect l="l" t="t" r="r" b="b"/>
                <a:pathLst>
                  <a:path w="117" h="357">
                    <a:moveTo>
                      <a:pt x="0" y="0"/>
                    </a:moveTo>
                    <a:lnTo>
                      <a:pt x="2" y="144"/>
                    </a:lnTo>
                    <a:lnTo>
                      <a:pt x="38" y="179"/>
                    </a:lnTo>
                    <a:lnTo>
                      <a:pt x="2" y="213"/>
                    </a:lnTo>
                    <a:lnTo>
                      <a:pt x="2" y="357"/>
                    </a:lnTo>
                    <a:lnTo>
                      <a:pt x="117" y="248"/>
                    </a:lnTo>
                    <a:lnTo>
                      <a:pt x="117" y="109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5112720" y="435420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5779080" y="453384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H="1">
                <a:off x="5751000" y="455580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834588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8345880" y="45133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94968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1259640" y="2992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1259640" y="34239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1077840" y="3391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864720" y="4215600"/>
                <a:ext cx="217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1062000" y="419328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633600" y="419328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8396280" y="416880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2"/>
                    </a:moveTo>
                    <a:lnTo>
                      <a:pt x="1" y="37"/>
                    </a:lnTo>
                    <a:lnTo>
                      <a:pt x="1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4"/>
                    </a:lnTo>
                    <a:lnTo>
                      <a:pt x="84" y="242"/>
                    </a:lnTo>
                    <a:lnTo>
                      <a:pt x="80" y="248"/>
                    </a:lnTo>
                    <a:lnTo>
                      <a:pt x="76" y="252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4" y="265"/>
                    </a:lnTo>
                    <a:lnTo>
                      <a:pt x="36" y="265"/>
                    </a:lnTo>
                    <a:lnTo>
                      <a:pt x="30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3" y="252"/>
                    </a:lnTo>
                    <a:lnTo>
                      <a:pt x="9" y="248"/>
                    </a:lnTo>
                    <a:lnTo>
                      <a:pt x="5" y="242"/>
                    </a:lnTo>
                    <a:lnTo>
                      <a:pt x="1" y="234"/>
                    </a:lnTo>
                    <a:lnTo>
                      <a:pt x="1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5171400" y="4290120"/>
                <a:ext cx="177120" cy="53748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6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7" y="9"/>
                    </a:lnTo>
                    <a:lnTo>
                      <a:pt x="23" y="5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8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7"/>
                    </a:lnTo>
                    <a:lnTo>
                      <a:pt x="75" y="253"/>
                    </a:lnTo>
                    <a:lnTo>
                      <a:pt x="71" y="257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7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7"/>
                    </a:lnTo>
                    <a:lnTo>
                      <a:pt x="14" y="253"/>
                    </a:lnTo>
                    <a:lnTo>
                      <a:pt x="8" y="247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26125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3230640" y="3538440"/>
                <a:ext cx="714240" cy="1095480"/>
              </a:xfrm>
              <a:custGeom>
                <a:avLst/>
                <a:gdLst/>
                <a:ahLst/>
                <a:rect l="l" t="t" r="r" b="b"/>
                <a:pathLst>
                  <a:path w="355" h="544">
                    <a:moveTo>
                      <a:pt x="355" y="544"/>
                    </a:moveTo>
                    <a:lnTo>
                      <a:pt x="355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55" y="544"/>
                    </a:lnTo>
                    <a:lnTo>
                      <a:pt x="355" y="5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3393000" y="4042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346140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35125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3565800" y="4042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358992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3636360" y="404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3663720" y="404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3716640" y="404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748680" y="404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2692800" y="4358520"/>
                <a:ext cx="5993280" cy="2165040"/>
              </a:xfrm>
              <a:custGeom>
                <a:avLst/>
                <a:gdLst/>
                <a:ahLst/>
                <a:rect l="l" t="t" r="r" b="b"/>
                <a:pathLst>
                  <a:path w="2977" h="1075">
                    <a:moveTo>
                      <a:pt x="250" y="64"/>
                    </a:moveTo>
                    <a:lnTo>
                      <a:pt x="0" y="64"/>
                    </a:lnTo>
                    <a:lnTo>
                      <a:pt x="0" y="1075"/>
                    </a:lnTo>
                    <a:lnTo>
                      <a:pt x="2977" y="1075"/>
                    </a:lnTo>
                    <a:lnTo>
                      <a:pt x="2977" y="0"/>
                    </a:lnTo>
                    <a:lnTo>
                      <a:pt x="29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2272320" y="5051520"/>
                <a:ext cx="1747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2960640" y="4737240"/>
                <a:ext cx="331560" cy="624240"/>
              </a:xfrm>
              <a:custGeom>
                <a:avLst/>
                <a:gdLst/>
                <a:ahLst/>
                <a:rect l="l" t="t" r="r" b="b"/>
                <a:pathLst>
                  <a:path w="165" h="310">
                    <a:moveTo>
                      <a:pt x="82" y="310"/>
                    </a:moveTo>
                    <a:lnTo>
                      <a:pt x="96" y="308"/>
                    </a:lnTo>
                    <a:lnTo>
                      <a:pt x="107" y="302"/>
                    </a:lnTo>
                    <a:lnTo>
                      <a:pt x="119" y="292"/>
                    </a:lnTo>
                    <a:lnTo>
                      <a:pt x="128" y="281"/>
                    </a:lnTo>
                    <a:lnTo>
                      <a:pt x="140" y="265"/>
                    </a:lnTo>
                    <a:lnTo>
                      <a:pt x="148" y="246"/>
                    </a:lnTo>
                    <a:lnTo>
                      <a:pt x="155" y="227"/>
                    </a:lnTo>
                    <a:lnTo>
                      <a:pt x="161" y="204"/>
                    </a:lnTo>
                    <a:lnTo>
                      <a:pt x="165" y="181"/>
                    </a:lnTo>
                    <a:lnTo>
                      <a:pt x="165" y="156"/>
                    </a:lnTo>
                    <a:lnTo>
                      <a:pt x="165" y="131"/>
                    </a:lnTo>
                    <a:lnTo>
                      <a:pt x="161" y="106"/>
                    </a:lnTo>
                    <a:lnTo>
                      <a:pt x="155" y="85"/>
                    </a:lnTo>
                    <a:lnTo>
                      <a:pt x="148" y="64"/>
                    </a:lnTo>
                    <a:lnTo>
                      <a:pt x="140" y="47"/>
                    </a:lnTo>
                    <a:lnTo>
                      <a:pt x="128" y="31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6" y="2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59" y="8"/>
                    </a:lnTo>
                    <a:lnTo>
                      <a:pt x="48" y="18"/>
                    </a:lnTo>
                    <a:lnTo>
                      <a:pt x="36" y="31"/>
                    </a:lnTo>
                    <a:lnTo>
                      <a:pt x="27" y="47"/>
                    </a:lnTo>
                    <a:lnTo>
                      <a:pt x="17" y="64"/>
                    </a:lnTo>
                    <a:lnTo>
                      <a:pt x="9" y="85"/>
                    </a:lnTo>
                    <a:lnTo>
                      <a:pt x="6" y="106"/>
                    </a:lnTo>
                    <a:lnTo>
                      <a:pt x="2" y="131"/>
                    </a:lnTo>
                    <a:lnTo>
                      <a:pt x="0" y="156"/>
                    </a:lnTo>
                    <a:lnTo>
                      <a:pt x="2" y="181"/>
                    </a:lnTo>
                    <a:lnTo>
                      <a:pt x="6" y="204"/>
                    </a:lnTo>
                    <a:lnTo>
                      <a:pt x="9" y="227"/>
                    </a:lnTo>
                    <a:lnTo>
                      <a:pt x="17" y="246"/>
                    </a:lnTo>
                    <a:lnTo>
                      <a:pt x="27" y="265"/>
                    </a:lnTo>
                    <a:lnTo>
                      <a:pt x="36" y="281"/>
                    </a:lnTo>
                    <a:lnTo>
                      <a:pt x="48" y="292"/>
                    </a:lnTo>
                    <a:lnTo>
                      <a:pt x="59" y="302"/>
                    </a:lnTo>
                    <a:lnTo>
                      <a:pt x="71" y="308"/>
                    </a:lnTo>
                    <a:lnTo>
                      <a:pt x="82" y="310"/>
                    </a:lnTo>
                    <a:lnTo>
                      <a:pt x="82" y="3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3032640" y="4904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3094920" y="4904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311940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3167280" y="4904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3222360" y="49042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297936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3032280" y="5017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3078720" y="501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31082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315828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3212640" y="501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4023720" y="5051520"/>
                <a:ext cx="2779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5216760" y="4404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529596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5232960" y="4499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5287680" y="4499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232240" y="4596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5175360" y="551448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3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8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8"/>
                    </a:lnTo>
                    <a:lnTo>
                      <a:pt x="85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5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5" y="242"/>
                    </a:lnTo>
                    <a:lnTo>
                      <a:pt x="81" y="248"/>
                    </a:lnTo>
                    <a:lnTo>
                      <a:pt x="75" y="252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3" y="252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5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5219640" y="5627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5298120" y="56275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5238000" y="572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5292000" y="57243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5237640" y="5820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8448120" y="42901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8531280" y="42901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8463960" y="438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8519040" y="4382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8463600" y="4479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4285080" y="43542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 flipH="1">
                <a:off x="4532760" y="4378680"/>
                <a:ext cx="603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 flipH="1">
                <a:off x="3944880" y="4378680"/>
                <a:ext cx="348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814080" y="415692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  <a:lnTo>
                      <a:pt x="88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2666880" y="2255400"/>
                <a:ext cx="358200" cy="833760"/>
              </a:xfrm>
              <a:custGeom>
                <a:avLst/>
                <a:gdLst/>
                <a:ahLst/>
                <a:rect l="l" t="t" r="r" b="b"/>
                <a:pathLst>
                  <a:path w="178" h="414">
                    <a:moveTo>
                      <a:pt x="88" y="413"/>
                    </a:moveTo>
                    <a:lnTo>
                      <a:pt x="104" y="411"/>
                    </a:lnTo>
                    <a:lnTo>
                      <a:pt x="119" y="403"/>
                    </a:lnTo>
                    <a:lnTo>
                      <a:pt x="132" y="391"/>
                    </a:lnTo>
                    <a:lnTo>
                      <a:pt x="144" y="374"/>
                    </a:lnTo>
                    <a:lnTo>
                      <a:pt x="153" y="353"/>
                    </a:lnTo>
                    <a:lnTo>
                      <a:pt x="163" y="330"/>
                    </a:lnTo>
                    <a:lnTo>
                      <a:pt x="169" y="301"/>
                    </a:lnTo>
                    <a:lnTo>
                      <a:pt x="175" y="272"/>
                    </a:lnTo>
                    <a:lnTo>
                      <a:pt x="178" y="240"/>
                    </a:lnTo>
                    <a:lnTo>
                      <a:pt x="178" y="207"/>
                    </a:lnTo>
                    <a:lnTo>
                      <a:pt x="178" y="173"/>
                    </a:lnTo>
                    <a:lnTo>
                      <a:pt x="175" y="142"/>
                    </a:lnTo>
                    <a:lnTo>
                      <a:pt x="169" y="111"/>
                    </a:lnTo>
                    <a:lnTo>
                      <a:pt x="163" y="84"/>
                    </a:lnTo>
                    <a:lnTo>
                      <a:pt x="153" y="59"/>
                    </a:lnTo>
                    <a:lnTo>
                      <a:pt x="144" y="40"/>
                    </a:lnTo>
                    <a:lnTo>
                      <a:pt x="132" y="23"/>
                    </a:lnTo>
                    <a:lnTo>
                      <a:pt x="119" y="9"/>
                    </a:lnTo>
                    <a:lnTo>
                      <a:pt x="104" y="2"/>
                    </a:lnTo>
                    <a:lnTo>
                      <a:pt x="88" y="0"/>
                    </a:lnTo>
                    <a:lnTo>
                      <a:pt x="73" y="2"/>
                    </a:lnTo>
                    <a:lnTo>
                      <a:pt x="59" y="9"/>
                    </a:lnTo>
                    <a:lnTo>
                      <a:pt x="46" y="23"/>
                    </a:lnTo>
                    <a:lnTo>
                      <a:pt x="34" y="40"/>
                    </a:lnTo>
                    <a:lnTo>
                      <a:pt x="23" y="59"/>
                    </a:lnTo>
                    <a:lnTo>
                      <a:pt x="15" y="84"/>
                    </a:lnTo>
                    <a:lnTo>
                      <a:pt x="8" y="111"/>
                    </a:lnTo>
                    <a:lnTo>
                      <a:pt x="4" y="142"/>
                    </a:lnTo>
                    <a:lnTo>
                      <a:pt x="0" y="173"/>
                    </a:lnTo>
                    <a:lnTo>
                      <a:pt x="0" y="207"/>
                    </a:lnTo>
                    <a:lnTo>
                      <a:pt x="0" y="240"/>
                    </a:lnTo>
                    <a:lnTo>
                      <a:pt x="4" y="272"/>
                    </a:lnTo>
                    <a:lnTo>
                      <a:pt x="8" y="301"/>
                    </a:lnTo>
                    <a:lnTo>
                      <a:pt x="15" y="330"/>
                    </a:lnTo>
                    <a:lnTo>
                      <a:pt x="23" y="353"/>
                    </a:lnTo>
                    <a:lnTo>
                      <a:pt x="34" y="374"/>
                    </a:lnTo>
                    <a:lnTo>
                      <a:pt x="46" y="391"/>
                    </a:lnTo>
                    <a:lnTo>
                      <a:pt x="59" y="403"/>
                    </a:lnTo>
                    <a:lnTo>
                      <a:pt x="73" y="411"/>
                    </a:lnTo>
                    <a:lnTo>
                      <a:pt x="88" y="414"/>
                    </a:lnTo>
                    <a:lnTo>
                      <a:pt x="88" y="41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2688480" y="2613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275868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280944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2863440" y="2613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2890080" y="2613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2922120" y="2613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2973960" y="2613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5947920" y="4122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6011280" y="412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6064560" y="4122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4339440" y="3151800"/>
                <a:ext cx="19332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1812960" y="4408560"/>
                <a:ext cx="48240" cy="5004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1722600" y="4433040"/>
                <a:ext cx="10440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4285080" y="36010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4289400" y="3429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4281480" y="540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4289400" y="5027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2381040" y="3798360"/>
                <a:ext cx="1920600" cy="1627200"/>
              </a:xfrm>
              <a:custGeom>
                <a:avLst/>
                <a:gdLst/>
                <a:ahLst/>
                <a:rect l="l" t="t" r="r" b="b"/>
                <a:pathLst>
                  <a:path w="954" h="808">
                    <a:moveTo>
                      <a:pt x="954" y="806"/>
                    </a:moveTo>
                    <a:lnTo>
                      <a:pt x="0" y="80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2276640" y="2668320"/>
                <a:ext cx="3477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438156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44442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4339440" y="2509560"/>
                <a:ext cx="19332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4393440" y="2613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4339440" y="2189160"/>
                <a:ext cx="19332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4367880" y="2289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4456080" y="22896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4285080" y="296676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4285080" y="2323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4196520" y="2348280"/>
                <a:ext cx="104760" cy="644400"/>
              </a:xfrm>
              <a:custGeom>
                <a:avLst/>
                <a:gdLst/>
                <a:ahLst/>
                <a:rect l="l" t="t" r="r" b="b"/>
                <a:pathLst>
                  <a:path w="52" h="320">
                    <a:moveTo>
                      <a:pt x="50" y="0"/>
                    </a:moveTo>
                    <a:lnTo>
                      <a:pt x="0" y="0"/>
                    </a:lnTo>
                    <a:lnTo>
                      <a:pt x="0" y="320"/>
                    </a:lnTo>
                    <a:lnTo>
                      <a:pt x="52" y="32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6322680" y="2831400"/>
                <a:ext cx="192960" cy="320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4" y="159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6" y="159"/>
                    </a:lnTo>
                    <a:lnTo>
                      <a:pt x="96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6322680" y="3151800"/>
                <a:ext cx="192960" cy="2800080"/>
              </a:xfrm>
              <a:custGeom>
                <a:avLst/>
                <a:gdLst/>
                <a:ahLst/>
                <a:rect l="l" t="t" r="r" b="b"/>
                <a:pathLst>
                  <a:path w="96" h="1390">
                    <a:moveTo>
                      <a:pt x="94" y="1388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6" y="1390"/>
                    </a:lnTo>
                    <a:lnTo>
                      <a:pt x="96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6375240" y="29365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  <a:lnTo>
                      <a:pt x="94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6322680" y="2509560"/>
                <a:ext cx="192960" cy="321840"/>
              </a:xfrm>
              <a:custGeom>
                <a:avLst/>
                <a:gdLst/>
                <a:ahLst/>
                <a:rect l="l" t="t" r="r" b="b"/>
                <a:pathLst>
                  <a:path w="96" h="160">
                    <a:moveTo>
                      <a:pt x="94" y="160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96" y="160"/>
                    </a:lnTo>
                    <a:lnTo>
                      <a:pt x="96" y="16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6350040" y="26139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6439320" y="2613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6268320" y="294444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994360" y="2668320"/>
                <a:ext cx="285480" cy="302040"/>
              </a:xfrm>
              <a:custGeom>
                <a:avLst/>
                <a:gdLst/>
                <a:ahLst/>
                <a:rect l="l" t="t" r="r" b="b"/>
                <a:pathLst>
                  <a:path w="142" h="150">
                    <a:moveTo>
                      <a:pt x="142" y="150"/>
                    </a:moveTo>
                    <a:lnTo>
                      <a:pt x="58" y="150"/>
                    </a:lnTo>
                    <a:lnTo>
                      <a:pt x="58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H="1">
                <a:off x="4533120" y="2668320"/>
                <a:ext cx="124200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6268320" y="26463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4529160" y="2239560"/>
                <a:ext cx="928080" cy="108360"/>
              </a:xfrm>
              <a:custGeom>
                <a:avLst/>
                <a:gdLst/>
                <a:ahLst/>
                <a:rect l="l" t="t" r="r" b="b"/>
                <a:pathLst>
                  <a:path w="461" h="54">
                    <a:moveTo>
                      <a:pt x="0" y="54"/>
                    </a:moveTo>
                    <a:lnTo>
                      <a:pt x="304" y="54"/>
                    </a:lnTo>
                    <a:lnTo>
                      <a:pt x="304" y="0"/>
                    </a:lnTo>
                    <a:lnTo>
                      <a:pt x="461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674320" y="2239560"/>
                <a:ext cx="609840" cy="428760"/>
              </a:xfrm>
              <a:custGeom>
                <a:avLst/>
                <a:gdLst/>
                <a:ahLst/>
                <a:rect l="l" t="t" r="r" b="b"/>
                <a:pathLst>
                  <a:path w="303" h="213">
                    <a:moveTo>
                      <a:pt x="0" y="0"/>
                    </a:moveTo>
                    <a:lnTo>
                      <a:pt x="251" y="0"/>
                    </a:lnTo>
                    <a:lnTo>
                      <a:pt x="251" y="213"/>
                    </a:lnTo>
                    <a:lnTo>
                      <a:pt x="303" y="213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7750440" y="2831400"/>
                <a:ext cx="189000" cy="320040"/>
              </a:xfrm>
              <a:custGeom>
                <a:avLst/>
                <a:gdLst/>
                <a:ahLst/>
                <a:rect l="l" t="t" r="r" b="b"/>
                <a:pathLst>
                  <a:path w="94" h="159">
                    <a:moveTo>
                      <a:pt x="94" y="159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94" y="159"/>
                    </a:lnTo>
                    <a:lnTo>
                      <a:pt x="94" y="15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7750440" y="3151800"/>
                <a:ext cx="189000" cy="280008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7770960" y="29365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7862400" y="29365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3268800" y="321012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3264840" y="2847960"/>
                <a:ext cx="50040" cy="478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626832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H="1">
                <a:off x="6145560" y="4181400"/>
                <a:ext cx="1346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7691760" y="2966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6515640" y="2668320"/>
                <a:ext cx="1191960" cy="324000"/>
              </a:xfrm>
              <a:custGeom>
                <a:avLst/>
                <a:gdLst/>
                <a:ahLst/>
                <a:rect l="l" t="t" r="r" b="b"/>
                <a:pathLst>
                  <a:path w="592" h="161">
                    <a:moveTo>
                      <a:pt x="592" y="160"/>
                    </a:moveTo>
                    <a:lnTo>
                      <a:pt x="542" y="161"/>
                    </a:lnTo>
                    <a:lnTo>
                      <a:pt x="542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7691760" y="43444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H="1">
                <a:off x="7939440" y="4370400"/>
                <a:ext cx="42840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H="1">
                <a:off x="7586640" y="4370400"/>
                <a:ext cx="1126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7691760" y="498060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7939440" y="4537440"/>
                <a:ext cx="428400" cy="451080"/>
              </a:xfrm>
              <a:custGeom>
                <a:avLst/>
                <a:gdLst/>
                <a:ahLst/>
                <a:rect l="l" t="t" r="r" b="b"/>
                <a:pathLst>
                  <a:path w="213" h="224">
                    <a:moveTo>
                      <a:pt x="213" y="0"/>
                    </a:moveTo>
                    <a:lnTo>
                      <a:pt x="159" y="0"/>
                    </a:lnTo>
                    <a:lnTo>
                      <a:pt x="159" y="224"/>
                    </a:lnTo>
                    <a:lnTo>
                      <a:pt x="0" y="2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 flipH="1">
                <a:off x="6838200" y="5004720"/>
                <a:ext cx="86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431280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4338720" y="2027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4409640" y="202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443592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4498560" y="2027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623376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6300000" y="23482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8" name=""/>
            <p:cNvGrpSpPr/>
            <p:nvPr/>
          </p:nvGrpSpPr>
          <p:grpSpPr>
            <a:xfrm>
              <a:off x="594360" y="1002600"/>
              <a:ext cx="7916400" cy="5625720"/>
              <a:chOff x="594360" y="1002600"/>
              <a:chExt cx="7916400" cy="5625720"/>
            </a:xfrm>
          </p:grpSpPr>
          <p:sp>
            <p:nvSpPr>
              <p:cNvPr id="7239" name=""/>
              <p:cNvSpPr/>
              <p:nvPr/>
            </p:nvSpPr>
            <p:spPr>
              <a:xfrm>
                <a:off x="636300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638856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6469200" y="23479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6531480" y="23479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764676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772164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7787520" y="2668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7864920" y="2668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7894800" y="26683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7981200" y="26683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1812960" y="321012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 flipH="1">
                <a:off x="1561320" y="3234240"/>
                <a:ext cx="172728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 flipH="1">
                <a:off x="1549080" y="3234240"/>
                <a:ext cx="27324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1382400" y="23137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1386000" y="20296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1503000" y="186480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1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1569600" y="189072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1587240" y="100260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1428480" y="100260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2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1436760" y="1919160"/>
                <a:ext cx="178920" cy="53316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7" y="13"/>
                    </a:lnTo>
                    <a:lnTo>
                      <a:pt x="81" y="19"/>
                    </a:lnTo>
                    <a:lnTo>
                      <a:pt x="85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1"/>
                    </a:lnTo>
                    <a:lnTo>
                      <a:pt x="89" y="228"/>
                    </a:lnTo>
                    <a:lnTo>
                      <a:pt x="87" y="236"/>
                    </a:lnTo>
                    <a:lnTo>
                      <a:pt x="85" y="242"/>
                    </a:lnTo>
                    <a:lnTo>
                      <a:pt x="81" y="247"/>
                    </a:lnTo>
                    <a:lnTo>
                      <a:pt x="77" y="253"/>
                    </a:lnTo>
                    <a:lnTo>
                      <a:pt x="71" y="257"/>
                    </a:lnTo>
                    <a:lnTo>
                      <a:pt x="66" y="261"/>
                    </a:lnTo>
                    <a:lnTo>
                      <a:pt x="60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9" y="265"/>
                    </a:lnTo>
                    <a:lnTo>
                      <a:pt x="31" y="263"/>
                    </a:lnTo>
                    <a:lnTo>
                      <a:pt x="25" y="261"/>
                    </a:lnTo>
                    <a:lnTo>
                      <a:pt x="19" y="257"/>
                    </a:lnTo>
                    <a:lnTo>
                      <a:pt x="14" y="253"/>
                    </a:lnTo>
                    <a:lnTo>
                      <a:pt x="10" y="247"/>
                    </a:lnTo>
                    <a:lnTo>
                      <a:pt x="6" y="242"/>
                    </a:lnTo>
                    <a:lnTo>
                      <a:pt x="4" y="236"/>
                    </a:lnTo>
                    <a:lnTo>
                      <a:pt x="2" y="228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1481040" y="20336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1565640" y="20336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1498320" y="2128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1553040" y="21283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1497600" y="2225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1120320" y="2340000"/>
                <a:ext cx="547560" cy="894240"/>
              </a:xfrm>
              <a:custGeom>
                <a:avLst/>
                <a:gdLst/>
                <a:ahLst/>
                <a:rect l="l" t="t" r="r" b="b"/>
                <a:pathLst>
                  <a:path w="272" h="444">
                    <a:moveTo>
                      <a:pt x="272" y="444"/>
                    </a:moveTo>
                    <a:lnTo>
                      <a:pt x="272" y="148"/>
                    </a:lnTo>
                    <a:lnTo>
                      <a:pt x="0" y="148"/>
                    </a:ln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1645920" y="321012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7182360" y="3755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72511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7304400" y="375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7333920" y="375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7381800" y="3755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71150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719208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7248240" y="3868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7331400" y="386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7379640" y="38685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7413840" y="3868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1440360" y="3202200"/>
                <a:ext cx="62280" cy="619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7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17" y="17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4" y="17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5829480" y="3701520"/>
                <a:ext cx="311760" cy="958680"/>
              </a:xfrm>
              <a:custGeom>
                <a:avLst/>
                <a:gdLst/>
                <a:ahLst/>
                <a:rect l="l" t="t" r="r" b="b"/>
                <a:pathLst>
                  <a:path w="155" h="476">
                    <a:moveTo>
                      <a:pt x="0" y="0"/>
                    </a:moveTo>
                    <a:lnTo>
                      <a:pt x="1" y="192"/>
                    </a:lnTo>
                    <a:lnTo>
                      <a:pt x="49" y="238"/>
                    </a:lnTo>
                    <a:lnTo>
                      <a:pt x="1" y="284"/>
                    </a:lnTo>
                    <a:lnTo>
                      <a:pt x="1" y="476"/>
                    </a:lnTo>
                    <a:lnTo>
                      <a:pt x="155" y="330"/>
                    </a:lnTo>
                    <a:lnTo>
                      <a:pt x="155" y="14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3323160" y="2706480"/>
                <a:ext cx="231120" cy="721080"/>
              </a:xfrm>
              <a:custGeom>
                <a:avLst/>
                <a:gdLst/>
                <a:ahLst/>
                <a:rect l="l" t="t" r="r" b="b"/>
                <a:pathLst>
                  <a:path w="115" h="358">
                    <a:moveTo>
                      <a:pt x="0" y="0"/>
                    </a:moveTo>
                    <a:lnTo>
                      <a:pt x="0" y="144"/>
                    </a:lnTo>
                    <a:lnTo>
                      <a:pt x="37" y="179"/>
                    </a:lnTo>
                    <a:lnTo>
                      <a:pt x="0" y="214"/>
                    </a:lnTo>
                    <a:lnTo>
                      <a:pt x="0" y="358"/>
                    </a:lnTo>
                    <a:lnTo>
                      <a:pt x="115" y="248"/>
                    </a:lnTo>
                    <a:lnTo>
                      <a:pt x="115" y="1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3447720" y="303696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7" y="0"/>
                    </a:moveTo>
                    <a:lnTo>
                      <a:pt x="17" y="13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17" y="17"/>
                    </a:lnTo>
                    <a:lnTo>
                      <a:pt x="17" y="30"/>
                    </a:lnTo>
                    <a:lnTo>
                      <a:pt x="13" y="30"/>
                    </a:lnTo>
                    <a:lnTo>
                      <a:pt x="13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5171400" y="3538440"/>
                <a:ext cx="177120" cy="533880"/>
              </a:xfrm>
              <a:custGeom>
                <a:avLst/>
                <a:gdLst/>
                <a:ahLst/>
                <a:rect l="l" t="t" r="r" b="b"/>
                <a:pathLst>
                  <a:path w="88" h="265">
                    <a:moveTo>
                      <a:pt x="0" y="44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7" y="8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5" y="6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1" y="17"/>
                    </a:lnTo>
                    <a:lnTo>
                      <a:pt x="83" y="23"/>
                    </a:lnTo>
                    <a:lnTo>
                      <a:pt x="87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21"/>
                    </a:lnTo>
                    <a:lnTo>
                      <a:pt x="88" y="229"/>
                    </a:lnTo>
                    <a:lnTo>
                      <a:pt x="87" y="236"/>
                    </a:lnTo>
                    <a:lnTo>
                      <a:pt x="83" y="242"/>
                    </a:lnTo>
                    <a:lnTo>
                      <a:pt x="81" y="248"/>
                    </a:lnTo>
                    <a:lnTo>
                      <a:pt x="75" y="254"/>
                    </a:lnTo>
                    <a:lnTo>
                      <a:pt x="71" y="258"/>
                    </a:lnTo>
                    <a:lnTo>
                      <a:pt x="65" y="261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3" y="261"/>
                    </a:lnTo>
                    <a:lnTo>
                      <a:pt x="17" y="258"/>
                    </a:lnTo>
                    <a:lnTo>
                      <a:pt x="14" y="254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2" y="236"/>
                    </a:lnTo>
                    <a:lnTo>
                      <a:pt x="0" y="229"/>
                    </a:lnTo>
                    <a:lnTo>
                      <a:pt x="0" y="221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5216760" y="3655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5298120" y="3655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5232960" y="3747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5287680" y="3747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5232240" y="3844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83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2445120" y="1625040"/>
                <a:ext cx="716760" cy="428760"/>
              </a:xfrm>
              <a:custGeom>
                <a:avLst/>
                <a:gdLst/>
                <a:ahLst/>
                <a:rect l="l" t="t" r="r" b="b"/>
                <a:pathLst>
                  <a:path w="356" h="213">
                    <a:moveTo>
                      <a:pt x="283" y="211"/>
                    </a:moveTo>
                    <a:lnTo>
                      <a:pt x="296" y="211"/>
                    </a:lnTo>
                    <a:lnTo>
                      <a:pt x="306" y="209"/>
                    </a:lnTo>
                    <a:lnTo>
                      <a:pt x="317" y="203"/>
                    </a:lnTo>
                    <a:lnTo>
                      <a:pt x="325" y="198"/>
                    </a:lnTo>
                    <a:lnTo>
                      <a:pt x="335" y="192"/>
                    </a:lnTo>
                    <a:lnTo>
                      <a:pt x="340" y="182"/>
                    </a:lnTo>
                    <a:lnTo>
                      <a:pt x="346" y="175"/>
                    </a:lnTo>
                    <a:lnTo>
                      <a:pt x="352" y="163"/>
                    </a:lnTo>
                    <a:lnTo>
                      <a:pt x="354" y="153"/>
                    </a:lnTo>
                    <a:lnTo>
                      <a:pt x="356" y="142"/>
                    </a:lnTo>
                    <a:lnTo>
                      <a:pt x="356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5" y="19"/>
                    </a:lnTo>
                    <a:lnTo>
                      <a:pt x="325" y="13"/>
                    </a:lnTo>
                    <a:lnTo>
                      <a:pt x="317" y="7"/>
                    </a:lnTo>
                    <a:lnTo>
                      <a:pt x="306" y="4"/>
                    </a:lnTo>
                    <a:lnTo>
                      <a:pt x="296" y="0"/>
                    </a:lnTo>
                    <a:lnTo>
                      <a:pt x="285" y="0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8" y="4"/>
                    </a:lnTo>
                    <a:lnTo>
                      <a:pt x="39" y="7"/>
                    </a:lnTo>
                    <a:lnTo>
                      <a:pt x="29" y="13"/>
                    </a:lnTo>
                    <a:lnTo>
                      <a:pt x="20" y="19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4" y="163"/>
                    </a:lnTo>
                    <a:lnTo>
                      <a:pt x="8" y="175"/>
                    </a:lnTo>
                    <a:lnTo>
                      <a:pt x="14" y="182"/>
                    </a:lnTo>
                    <a:lnTo>
                      <a:pt x="20" y="192"/>
                    </a:lnTo>
                    <a:lnTo>
                      <a:pt x="29" y="198"/>
                    </a:lnTo>
                    <a:lnTo>
                      <a:pt x="39" y="203"/>
                    </a:lnTo>
                    <a:lnTo>
                      <a:pt x="48" y="209"/>
                    </a:lnTo>
                    <a:lnTo>
                      <a:pt x="60" y="211"/>
                    </a:lnTo>
                    <a:lnTo>
                      <a:pt x="71" y="213"/>
                    </a:lnTo>
                    <a:lnTo>
                      <a:pt x="285" y="213"/>
                    </a:lnTo>
                    <a:lnTo>
                      <a:pt x="285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  <a:lnTo>
                      <a:pt x="282" y="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5553720" y="5878800"/>
                <a:ext cx="714240" cy="42876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282" y="213"/>
                    </a:moveTo>
                    <a:lnTo>
                      <a:pt x="296" y="213"/>
                    </a:lnTo>
                    <a:lnTo>
                      <a:pt x="306" y="209"/>
                    </a:lnTo>
                    <a:lnTo>
                      <a:pt x="317" y="205"/>
                    </a:lnTo>
                    <a:lnTo>
                      <a:pt x="325" y="200"/>
                    </a:lnTo>
                    <a:lnTo>
                      <a:pt x="334" y="192"/>
                    </a:lnTo>
                    <a:lnTo>
                      <a:pt x="340" y="184"/>
                    </a:lnTo>
                    <a:lnTo>
                      <a:pt x="346" y="175"/>
                    </a:lnTo>
                    <a:lnTo>
                      <a:pt x="352" y="165"/>
                    </a:lnTo>
                    <a:lnTo>
                      <a:pt x="354" y="153"/>
                    </a:lnTo>
                    <a:lnTo>
                      <a:pt x="355" y="142"/>
                    </a:lnTo>
                    <a:lnTo>
                      <a:pt x="355" y="71"/>
                    </a:lnTo>
                    <a:lnTo>
                      <a:pt x="354" y="59"/>
                    </a:lnTo>
                    <a:lnTo>
                      <a:pt x="352" y="48"/>
                    </a:lnTo>
                    <a:lnTo>
                      <a:pt x="346" y="38"/>
                    </a:lnTo>
                    <a:lnTo>
                      <a:pt x="340" y="29"/>
                    </a:lnTo>
                    <a:lnTo>
                      <a:pt x="334" y="21"/>
                    </a:lnTo>
                    <a:lnTo>
                      <a:pt x="325" y="13"/>
                    </a:lnTo>
                    <a:lnTo>
                      <a:pt x="317" y="8"/>
                    </a:lnTo>
                    <a:lnTo>
                      <a:pt x="306" y="4"/>
                    </a:lnTo>
                    <a:lnTo>
                      <a:pt x="296" y="2"/>
                    </a:lnTo>
                    <a:lnTo>
                      <a:pt x="284" y="0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4"/>
                    </a:lnTo>
                    <a:lnTo>
                      <a:pt x="39" y="8"/>
                    </a:lnTo>
                    <a:lnTo>
                      <a:pt x="29" y="13"/>
                    </a:lnTo>
                    <a:lnTo>
                      <a:pt x="19" y="21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2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142"/>
                    </a:lnTo>
                    <a:lnTo>
                      <a:pt x="0" y="153"/>
                    </a:lnTo>
                    <a:lnTo>
                      <a:pt x="2" y="165"/>
                    </a:lnTo>
                    <a:lnTo>
                      <a:pt x="8" y="175"/>
                    </a:lnTo>
                    <a:lnTo>
                      <a:pt x="14" y="184"/>
                    </a:lnTo>
                    <a:lnTo>
                      <a:pt x="19" y="192"/>
                    </a:lnTo>
                    <a:lnTo>
                      <a:pt x="29" y="200"/>
                    </a:lnTo>
                    <a:lnTo>
                      <a:pt x="39" y="205"/>
                    </a:lnTo>
                    <a:lnTo>
                      <a:pt x="48" y="209"/>
                    </a:lnTo>
                    <a:lnTo>
                      <a:pt x="60" y="213"/>
                    </a:lnTo>
                    <a:lnTo>
                      <a:pt x="71" y="213"/>
                    </a:lnTo>
                    <a:lnTo>
                      <a:pt x="284" y="213"/>
                    </a:lnTo>
                    <a:lnTo>
                      <a:pt x="284" y="21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653920" y="16592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27244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778480" y="1659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282528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877480" y="1659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2910960" y="165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2964960" y="16592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25966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264996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70432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72844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780280" y="1771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831400" y="1771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55160" y="1771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87748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932920" y="1771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2982600" y="1771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27205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2770920" y="1884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2824920" y="1884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2842920" y="188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5673960" y="59799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57330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578520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5816520" y="597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588528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5936040" y="5979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597276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6022080" y="59799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604440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6095520" y="597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6149520" y="59799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582480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5879160" y="609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5931360" y="60926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5951520" y="6092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5779080" y="37821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 flipH="1">
                <a:off x="5346000" y="3806640"/>
                <a:ext cx="4327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5112720" y="36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 flipH="1">
                <a:off x="4532760" y="3627000"/>
                <a:ext cx="6037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 flipH="1">
                <a:off x="4532760" y="3282480"/>
                <a:ext cx="352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058480" y="4432680"/>
                <a:ext cx="213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3200400" y="1759680"/>
                <a:ext cx="1437120" cy="916560"/>
              </a:xfrm>
              <a:custGeom>
                <a:avLst/>
                <a:gdLst/>
                <a:ahLst/>
                <a:rect l="l" t="t" r="r" b="b"/>
                <a:pathLst>
                  <a:path w="714" h="455">
                    <a:moveTo>
                      <a:pt x="714" y="455"/>
                    </a:moveTo>
                    <a:lnTo>
                      <a:pt x="71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4615560" y="26463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3166200" y="1735560"/>
                <a:ext cx="50040" cy="482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22"/>
                    </a:moveTo>
                    <a:lnTo>
                      <a:pt x="23" y="0"/>
                    </a:lnTo>
                    <a:lnTo>
                      <a:pt x="0" y="12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2388600" y="187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4285080" y="55468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2489400" y="3912840"/>
                <a:ext cx="1811880" cy="1659600"/>
              </a:xfrm>
              <a:custGeom>
                <a:avLst/>
                <a:gdLst/>
                <a:ahLst/>
                <a:rect l="l" t="t" r="r" b="b"/>
                <a:pathLst>
                  <a:path w="900" h="824">
                    <a:moveTo>
                      <a:pt x="900" y="824"/>
                    </a:moveTo>
                    <a:lnTo>
                      <a:pt x="0" y="82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4285080" y="568980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2272320" y="5711760"/>
                <a:ext cx="202896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4285080" y="58366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2252160" y="56898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3200400" y="321408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9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2248200" y="50270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4096080" y="36086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4096080" y="4354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5406840" y="450540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5452920" y="48272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2519640" y="204984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3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59436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61704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675000" y="140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700200" y="14076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759240" y="1407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78372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833400" y="1407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885240" y="140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7691760" y="57441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H="1">
                <a:off x="6515640" y="5766120"/>
                <a:ext cx="11836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6308640" y="5766120"/>
                <a:ext cx="312120" cy="255600"/>
              </a:xfrm>
              <a:custGeom>
                <a:avLst/>
                <a:gdLst/>
                <a:ahLst/>
                <a:rect l="l" t="t" r="r" b="b"/>
                <a:pathLst>
                  <a:path w="155" h="127">
                    <a:moveTo>
                      <a:pt x="155" y="0"/>
                    </a:moveTo>
                    <a:lnTo>
                      <a:pt x="155" y="127"/>
                    </a:lnTo>
                    <a:lnTo>
                      <a:pt x="0" y="12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6598440" y="574812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6308640" y="5770080"/>
                <a:ext cx="1739160" cy="394560"/>
              </a:xfrm>
              <a:custGeom>
                <a:avLst/>
                <a:gdLst/>
                <a:ahLst/>
                <a:rect l="l" t="t" r="r" b="b"/>
                <a:pathLst>
                  <a:path w="864" h="196">
                    <a:moveTo>
                      <a:pt x="0" y="196"/>
                    </a:moveTo>
                    <a:lnTo>
                      <a:pt x="864" y="196"/>
                    </a:lnTo>
                    <a:lnTo>
                      <a:pt x="864" y="0"/>
                    </a:lnTo>
                    <a:lnTo>
                      <a:pt x="81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6272280" y="61369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6272280" y="5994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6272280" y="606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8128800" y="29707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670536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6922440" y="415692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6922440" y="45010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7301160" y="4748760"/>
                <a:ext cx="5004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3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7212600" y="3562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2"/>
                    </a:lnTo>
                    <a:lnTo>
                      <a:pt x="13" y="25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8464680" y="411444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0"/>
                    </a:moveTo>
                    <a:lnTo>
                      <a:pt x="0" y="0"/>
                    </a:lnTo>
                    <a:lnTo>
                      <a:pt x="12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 flipH="1">
                <a:off x="6515640" y="4181040"/>
                <a:ext cx="419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6813720" y="49845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1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588040" y="4201200"/>
                <a:ext cx="4694400" cy="2427120"/>
              </a:xfrm>
              <a:custGeom>
                <a:avLst/>
                <a:gdLst/>
                <a:ahLst/>
                <a:rect l="l" t="t" r="r" b="b"/>
                <a:pathLst>
                  <a:path w="2332" h="1205">
                    <a:moveTo>
                      <a:pt x="2332" y="975"/>
                    </a:moveTo>
                    <a:lnTo>
                      <a:pt x="2332" y="1205"/>
                    </a:lnTo>
                    <a:lnTo>
                      <a:pt x="0" y="1205"/>
                    </a:lnTo>
                    <a:lnTo>
                      <a:pt x="0" y="0"/>
                    </a:lnTo>
                    <a:lnTo>
                      <a:pt x="30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7259040" y="614052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428508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18586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1885320" y="295416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194328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1969200" y="2954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1997640" y="2954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  <a:lnTo>
                      <a:pt x="94" y="1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1869480" y="3151440"/>
                <a:ext cx="189000" cy="2799720"/>
              </a:xfrm>
              <a:custGeom>
                <a:avLst/>
                <a:gdLst/>
                <a:ahLst/>
                <a:rect l="l" t="t" r="r" b="b"/>
                <a:pathLst>
                  <a:path w="94" h="1390">
                    <a:moveTo>
                      <a:pt x="94" y="138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390"/>
                    </a:lnTo>
                    <a:lnTo>
                      <a:pt x="94" y="1390"/>
                    </a:lnTo>
                    <a:lnTo>
                      <a:pt x="94" y="1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4096080" y="381024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4120200" y="3639240"/>
                <a:ext cx="1800" cy="197280"/>
              </a:xfrm>
              <a:custGeom>
                <a:avLst/>
                <a:gdLst/>
                <a:ahLst/>
                <a:rect l="l" t="t" r="r" b="b"/>
                <a:pathLst>
                  <a:path w="0" h="98">
                    <a:moveTo>
                      <a:pt x="0" y="0"/>
                    </a:move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4120200" y="3639240"/>
                <a:ext cx="1800" cy="197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4096080" y="41468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3"/>
                    </a:moveTo>
                    <a:lnTo>
                      <a:pt x="0" y="25"/>
                    </a:lnTo>
                    <a:lnTo>
                      <a:pt x="12" y="0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4120200" y="4177080"/>
                <a:ext cx="1800" cy="201240"/>
              </a:xfrm>
              <a:custGeom>
                <a:avLst/>
                <a:gdLst/>
                <a:ahLst/>
                <a:rect l="l" t="t" r="r" b="b"/>
                <a:pathLst>
                  <a:path w="0" h="100">
                    <a:moveTo>
                      <a:pt x="0" y="100"/>
                    </a:move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 flipV="1">
                <a:off x="4120200" y="4176720"/>
                <a:ext cx="1800" cy="201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5112720" y="3961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5112720" y="472284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4935600" y="472284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 flipH="1">
                <a:off x="4959720" y="4745160"/>
                <a:ext cx="177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4959720" y="3983760"/>
                <a:ext cx="1873800" cy="2432880"/>
              </a:xfrm>
              <a:custGeom>
                <a:avLst/>
                <a:gdLst/>
                <a:ahLst/>
                <a:rect l="l" t="t" r="r" b="b"/>
                <a:pathLst>
                  <a:path w="931" h="1208">
                    <a:moveTo>
                      <a:pt x="88" y="0"/>
                    </a:moveTo>
                    <a:lnTo>
                      <a:pt x="0" y="0"/>
                    </a:lnTo>
                    <a:lnTo>
                      <a:pt x="0" y="1208"/>
                    </a:lnTo>
                    <a:lnTo>
                      <a:pt x="931" y="1208"/>
                    </a:lnTo>
                    <a:lnTo>
                      <a:pt x="931" y="9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5112720" y="45374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5008320" y="4537440"/>
                <a:ext cx="47880" cy="464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5112720" y="3782160"/>
                <a:ext cx="5004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5006160" y="64972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5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 flipH="1">
                <a:off x="5031720" y="4559760"/>
                <a:ext cx="104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5839560" y="481968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H="1">
                <a:off x="5461200" y="4845600"/>
                <a:ext cx="3859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5028480" y="3806640"/>
                <a:ext cx="108360" cy="2716560"/>
              </a:xfrm>
              <a:custGeom>
                <a:avLst/>
                <a:gdLst/>
                <a:ahLst/>
                <a:rect l="l" t="t" r="r" b="b"/>
                <a:pathLst>
                  <a:path w="54" h="1349">
                    <a:moveTo>
                      <a:pt x="54" y="0"/>
                    </a:moveTo>
                    <a:lnTo>
                      <a:pt x="0" y="0"/>
                    </a:lnTo>
                    <a:lnTo>
                      <a:pt x="0" y="134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6272280" y="57481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6268320" y="5105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5120640" y="568548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5120640" y="583668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2" y="23"/>
                    </a:lnTo>
                    <a:lnTo>
                      <a:pt x="25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5565600" y="4378320"/>
                <a:ext cx="181080" cy="445320"/>
              </a:xfrm>
              <a:custGeom>
                <a:avLst/>
                <a:gdLst/>
                <a:ahLst/>
                <a:rect l="l" t="t" r="r" b="b"/>
                <a:pathLst>
                  <a:path w="90" h="221">
                    <a:moveTo>
                      <a:pt x="0" y="44"/>
                    </a:moveTo>
                    <a:lnTo>
                      <a:pt x="0" y="36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3" y="11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0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1"/>
                    </a:lnTo>
                    <a:lnTo>
                      <a:pt x="83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0" y="44"/>
                    </a:lnTo>
                    <a:lnTo>
                      <a:pt x="90" y="175"/>
                    </a:lnTo>
                    <a:lnTo>
                      <a:pt x="90" y="182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3" y="201"/>
                    </a:lnTo>
                    <a:lnTo>
                      <a:pt x="79" y="207"/>
                    </a:lnTo>
                    <a:lnTo>
                      <a:pt x="73" y="211"/>
                    </a:lnTo>
                    <a:lnTo>
                      <a:pt x="67" y="215"/>
                    </a:lnTo>
                    <a:lnTo>
                      <a:pt x="60" y="219"/>
                    </a:lnTo>
                    <a:lnTo>
                      <a:pt x="54" y="221"/>
                    </a:lnTo>
                    <a:lnTo>
                      <a:pt x="46" y="221"/>
                    </a:lnTo>
                    <a:lnTo>
                      <a:pt x="38" y="221"/>
                    </a:lnTo>
                    <a:lnTo>
                      <a:pt x="31" y="219"/>
                    </a:lnTo>
                    <a:lnTo>
                      <a:pt x="25" y="215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6" y="196"/>
                    </a:lnTo>
                    <a:lnTo>
                      <a:pt x="2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5619240" y="4452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5700240" y="4452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5637600" y="454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5692680" y="45496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5637240" y="4646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5511240" y="45054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5519520" y="46767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0" y="23"/>
                    </a:lnTo>
                    <a:lnTo>
                      <a:pt x="23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4540680" y="4698720"/>
                <a:ext cx="998640" cy="35640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177"/>
                    </a:moveTo>
                    <a:lnTo>
                      <a:pt x="465" y="177"/>
                    </a:lnTo>
                    <a:lnTo>
                      <a:pt x="465" y="2"/>
                    </a:lnTo>
                    <a:lnTo>
                      <a:pt x="486" y="0"/>
                    </a:lnTo>
                    <a:lnTo>
                      <a:pt x="49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5507280" y="619524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4615560" y="56898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5" y="25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5495400" y="61185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4533120" y="5568840"/>
                <a:ext cx="986400" cy="654480"/>
              </a:xfrm>
              <a:custGeom>
                <a:avLst/>
                <a:gdLst/>
                <a:ahLst/>
                <a:rect l="l" t="t" r="r" b="b"/>
                <a:pathLst>
                  <a:path w="490" h="325">
                    <a:moveTo>
                      <a:pt x="490" y="323"/>
                    </a:moveTo>
                    <a:lnTo>
                      <a:pt x="100" y="325"/>
                    </a:lnTo>
                    <a:lnTo>
                      <a:pt x="10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4528800" y="5854680"/>
                <a:ext cx="595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4537080" y="5707440"/>
                <a:ext cx="5914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4528800" y="5421600"/>
                <a:ext cx="986400" cy="722880"/>
              </a:xfrm>
              <a:custGeom>
                <a:avLst/>
                <a:gdLst/>
                <a:ahLst/>
                <a:rect l="l" t="t" r="r" b="b"/>
                <a:pathLst>
                  <a:path w="490" h="359">
                    <a:moveTo>
                      <a:pt x="0" y="0"/>
                    </a:moveTo>
                    <a:lnTo>
                      <a:pt x="141" y="2"/>
                    </a:lnTo>
                    <a:lnTo>
                      <a:pt x="141" y="359"/>
                    </a:lnTo>
                    <a:lnTo>
                      <a:pt x="490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5348520" y="5770080"/>
                <a:ext cx="943920" cy="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  <a:lnTo>
                      <a:pt x="21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4927320" y="3139560"/>
                <a:ext cx="432720" cy="288000"/>
              </a:xfrm>
              <a:custGeom>
                <a:avLst/>
                <a:gdLst/>
                <a:ahLst/>
                <a:rect l="l" t="t" r="r" b="b"/>
                <a:pathLst>
                  <a:path w="215" h="143">
                    <a:moveTo>
                      <a:pt x="215" y="141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215" y="143"/>
                    </a:lnTo>
                    <a:lnTo>
                      <a:pt x="215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  <a:lnTo>
                      <a:pt x="215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4927320" y="2789280"/>
                <a:ext cx="432720" cy="285840"/>
              </a:xfrm>
              <a:custGeom>
                <a:avLst/>
                <a:gdLst/>
                <a:ahLst/>
                <a:rect l="l" t="t" r="r" b="b"/>
                <a:pathLst>
                  <a:path w="215" h="142">
                    <a:moveTo>
                      <a:pt x="215" y="140"/>
                    </a:moveTo>
                    <a:lnTo>
                      <a:pt x="215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15" y="142"/>
                    </a:lnTo>
                    <a:lnTo>
                      <a:pt x="215" y="1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4872960" y="32565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4985640" y="31719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504792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5097600" y="3171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514440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5199480" y="3171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5249160" y="3171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9" name=""/>
            <p:cNvGrpSpPr/>
            <p:nvPr/>
          </p:nvGrpSpPr>
          <p:grpSpPr>
            <a:xfrm>
              <a:off x="803160" y="1335240"/>
              <a:ext cx="6767640" cy="3742200"/>
              <a:chOff x="803160" y="1335240"/>
              <a:chExt cx="6767640" cy="3742200"/>
            </a:xfrm>
          </p:grpSpPr>
          <p:sp>
            <p:nvSpPr>
              <p:cNvPr id="7440" name=""/>
              <p:cNvSpPr/>
              <p:nvPr/>
            </p:nvSpPr>
            <p:spPr>
              <a:xfrm>
                <a:off x="5275440" y="317232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5073840" y="3285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5136120" y="3285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H="1">
                <a:off x="1297080" y="2197080"/>
                <a:ext cx="10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1386000" y="2172960"/>
                <a:ext cx="46440" cy="50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8031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85608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9075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96084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1015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10656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111996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1177200" y="214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3868560" y="1919160"/>
                <a:ext cx="247320" cy="3484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60" y="15"/>
                    </a:moveTo>
                    <a:lnTo>
                      <a:pt x="52" y="17"/>
                    </a:lnTo>
                    <a:lnTo>
                      <a:pt x="46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29" y="13"/>
                    </a:lnTo>
                    <a:lnTo>
                      <a:pt x="23" y="11"/>
                    </a:lnTo>
                    <a:lnTo>
                      <a:pt x="19" y="9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73"/>
                    </a:lnTo>
                    <a:lnTo>
                      <a:pt x="2" y="86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5"/>
                    </a:lnTo>
                    <a:lnTo>
                      <a:pt x="12" y="126"/>
                    </a:lnTo>
                    <a:lnTo>
                      <a:pt x="19" y="136"/>
                    </a:lnTo>
                    <a:lnTo>
                      <a:pt x="25" y="144"/>
                    </a:lnTo>
                    <a:lnTo>
                      <a:pt x="31" y="151"/>
                    </a:lnTo>
                    <a:lnTo>
                      <a:pt x="38" y="157"/>
                    </a:lnTo>
                    <a:lnTo>
                      <a:pt x="44" y="163"/>
                    </a:lnTo>
                    <a:lnTo>
                      <a:pt x="52" y="167"/>
                    </a:lnTo>
                    <a:lnTo>
                      <a:pt x="58" y="171"/>
                    </a:lnTo>
                    <a:lnTo>
                      <a:pt x="61" y="173"/>
                    </a:lnTo>
                    <a:lnTo>
                      <a:pt x="67" y="171"/>
                    </a:lnTo>
                    <a:lnTo>
                      <a:pt x="73" y="167"/>
                    </a:lnTo>
                    <a:lnTo>
                      <a:pt x="79" y="163"/>
                    </a:lnTo>
                    <a:lnTo>
                      <a:pt x="86" y="157"/>
                    </a:lnTo>
                    <a:lnTo>
                      <a:pt x="92" y="151"/>
                    </a:lnTo>
                    <a:lnTo>
                      <a:pt x="100" y="144"/>
                    </a:lnTo>
                    <a:lnTo>
                      <a:pt x="106" y="136"/>
                    </a:lnTo>
                    <a:lnTo>
                      <a:pt x="111" y="126"/>
                    </a:lnTo>
                    <a:lnTo>
                      <a:pt x="117" y="115"/>
                    </a:lnTo>
                    <a:lnTo>
                      <a:pt x="121" y="103"/>
                    </a:lnTo>
                    <a:lnTo>
                      <a:pt x="121" y="96"/>
                    </a:lnTo>
                    <a:lnTo>
                      <a:pt x="123" y="86"/>
                    </a:lnTo>
                    <a:lnTo>
                      <a:pt x="123" y="73"/>
                    </a:lnTo>
                    <a:lnTo>
                      <a:pt x="123" y="59"/>
                    </a:lnTo>
                    <a:lnTo>
                      <a:pt x="123" y="44"/>
                    </a:lnTo>
                    <a:lnTo>
                      <a:pt x="123" y="30"/>
                    </a:lnTo>
                    <a:lnTo>
                      <a:pt x="123" y="19"/>
                    </a:lnTo>
                    <a:lnTo>
                      <a:pt x="123" y="9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17" y="4"/>
                    </a:lnTo>
                    <a:lnTo>
                      <a:pt x="109" y="7"/>
                    </a:lnTo>
                    <a:lnTo>
                      <a:pt x="104" y="9"/>
                    </a:lnTo>
                    <a:lnTo>
                      <a:pt x="98" y="11"/>
                    </a:lnTo>
                    <a:lnTo>
                      <a:pt x="94" y="13"/>
                    </a:lnTo>
                    <a:lnTo>
                      <a:pt x="88" y="15"/>
                    </a:lnTo>
                    <a:lnTo>
                      <a:pt x="83" y="15"/>
                    </a:lnTo>
                    <a:lnTo>
                      <a:pt x="75" y="15"/>
                    </a:lnTo>
                    <a:lnTo>
                      <a:pt x="69" y="17"/>
                    </a:lnTo>
                    <a:lnTo>
                      <a:pt x="60" y="17"/>
                    </a:lnTo>
                    <a:lnTo>
                      <a:pt x="60" y="1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5758560" y="2827440"/>
                <a:ext cx="50400" cy="504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5758560" y="2646360"/>
                <a:ext cx="50400" cy="46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5812920" y="2410920"/>
                <a:ext cx="181080" cy="53352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2"/>
                    </a:moveTo>
                    <a:lnTo>
                      <a:pt x="2" y="36"/>
                    </a:lnTo>
                    <a:lnTo>
                      <a:pt x="4" y="28"/>
                    </a:lnTo>
                    <a:lnTo>
                      <a:pt x="6" y="23"/>
                    </a:lnTo>
                    <a:lnTo>
                      <a:pt x="9" y="17"/>
                    </a:lnTo>
                    <a:lnTo>
                      <a:pt x="13" y="11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3"/>
                    </a:lnTo>
                    <a:lnTo>
                      <a:pt x="71" y="7"/>
                    </a:lnTo>
                    <a:lnTo>
                      <a:pt x="77" y="11"/>
                    </a:lnTo>
                    <a:lnTo>
                      <a:pt x="81" y="17"/>
                    </a:lnTo>
                    <a:lnTo>
                      <a:pt x="84" y="23"/>
                    </a:lnTo>
                    <a:lnTo>
                      <a:pt x="88" y="28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220"/>
                    </a:lnTo>
                    <a:lnTo>
                      <a:pt x="88" y="228"/>
                    </a:lnTo>
                    <a:lnTo>
                      <a:pt x="88" y="234"/>
                    </a:lnTo>
                    <a:lnTo>
                      <a:pt x="84" y="240"/>
                    </a:lnTo>
                    <a:lnTo>
                      <a:pt x="81" y="245"/>
                    </a:lnTo>
                    <a:lnTo>
                      <a:pt x="77" y="251"/>
                    </a:lnTo>
                    <a:lnTo>
                      <a:pt x="71" y="255"/>
                    </a:lnTo>
                    <a:lnTo>
                      <a:pt x="65" y="259"/>
                    </a:lnTo>
                    <a:lnTo>
                      <a:pt x="59" y="263"/>
                    </a:lnTo>
                    <a:lnTo>
                      <a:pt x="52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19" y="255"/>
                    </a:lnTo>
                    <a:lnTo>
                      <a:pt x="13" y="251"/>
                    </a:lnTo>
                    <a:lnTo>
                      <a:pt x="9" y="245"/>
                    </a:lnTo>
                    <a:lnTo>
                      <a:pt x="6" y="240"/>
                    </a:lnTo>
                    <a:lnTo>
                      <a:pt x="4" y="234"/>
                    </a:lnTo>
                    <a:lnTo>
                      <a:pt x="2" y="228"/>
                    </a:lnTo>
                    <a:lnTo>
                      <a:pt x="2" y="22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H="1">
                <a:off x="5673960" y="284976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5577120" y="2797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585756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594000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587880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592812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587844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5438520" y="23983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5438520" y="2217240"/>
                <a:ext cx="5004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0"/>
                    </a:moveTo>
                    <a:lnTo>
                      <a:pt x="0" y="23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5492880" y="1979640"/>
                <a:ext cx="181080" cy="533880"/>
              </a:xfrm>
              <a:custGeom>
                <a:avLst/>
                <a:gdLst/>
                <a:ahLst/>
                <a:rect l="l" t="t" r="r" b="b"/>
                <a:pathLst>
                  <a:path w="90" h="265">
                    <a:moveTo>
                      <a:pt x="0" y="43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6" y="29"/>
                    </a:lnTo>
                    <a:lnTo>
                      <a:pt x="88" y="37"/>
                    </a:lnTo>
                    <a:lnTo>
                      <a:pt x="90" y="45"/>
                    </a:lnTo>
                    <a:lnTo>
                      <a:pt x="90" y="221"/>
                    </a:lnTo>
                    <a:lnTo>
                      <a:pt x="88" y="229"/>
                    </a:lnTo>
                    <a:lnTo>
                      <a:pt x="86" y="235"/>
                    </a:lnTo>
                    <a:lnTo>
                      <a:pt x="84" y="240"/>
                    </a:lnTo>
                    <a:lnTo>
                      <a:pt x="80" y="246"/>
                    </a:lnTo>
                    <a:lnTo>
                      <a:pt x="76" y="252"/>
                    </a:lnTo>
                    <a:lnTo>
                      <a:pt x="71" y="256"/>
                    </a:lnTo>
                    <a:lnTo>
                      <a:pt x="65" y="260"/>
                    </a:lnTo>
                    <a:lnTo>
                      <a:pt x="59" y="263"/>
                    </a:lnTo>
                    <a:lnTo>
                      <a:pt x="51" y="265"/>
                    </a:lnTo>
                    <a:lnTo>
                      <a:pt x="46" y="265"/>
                    </a:lnTo>
                    <a:lnTo>
                      <a:pt x="38" y="265"/>
                    </a:lnTo>
                    <a:lnTo>
                      <a:pt x="30" y="263"/>
                    </a:lnTo>
                    <a:lnTo>
                      <a:pt x="24" y="260"/>
                    </a:lnTo>
                    <a:lnTo>
                      <a:pt x="19" y="256"/>
                    </a:lnTo>
                    <a:lnTo>
                      <a:pt x="13" y="252"/>
                    </a:lnTo>
                    <a:lnTo>
                      <a:pt x="9" y="246"/>
                    </a:lnTo>
                    <a:lnTo>
                      <a:pt x="5" y="240"/>
                    </a:lnTo>
                    <a:lnTo>
                      <a:pt x="3" y="235"/>
                    </a:lnTo>
                    <a:lnTo>
                      <a:pt x="1" y="229"/>
                    </a:lnTo>
                    <a:lnTo>
                      <a:pt x="1" y="221"/>
                    </a:lnTo>
                    <a:lnTo>
                      <a:pt x="1" y="45"/>
                    </a:lnTo>
                    <a:lnTo>
                      <a:pt x="1" y="45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 flipH="1">
                <a:off x="5351760" y="2421000"/>
                <a:ext cx="108360" cy="39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5254920" y="236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5538600" y="2092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5619960" y="20923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5558760" y="2189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5608080" y="218916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5558400" y="2281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3846240" y="2827440"/>
                <a:ext cx="48240" cy="504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" y="25"/>
                    </a:lnTo>
                    <a:lnTo>
                      <a:pt x="24" y="1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3902760" y="2410920"/>
                <a:ext cx="178920" cy="533520"/>
              </a:xfrm>
              <a:custGeom>
                <a:avLst/>
                <a:gdLst/>
                <a:ahLst/>
                <a:rect l="l" t="t" r="r" b="b"/>
                <a:pathLst>
                  <a:path w="89" h="265">
                    <a:moveTo>
                      <a:pt x="0" y="42"/>
                    </a:moveTo>
                    <a:lnTo>
                      <a:pt x="0" y="36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0" y="17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1" y="7"/>
                    </a:lnTo>
                    <a:lnTo>
                      <a:pt x="75" y="11"/>
                    </a:lnTo>
                    <a:lnTo>
                      <a:pt x="81" y="17"/>
                    </a:lnTo>
                    <a:lnTo>
                      <a:pt x="85" y="23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220"/>
                    </a:lnTo>
                    <a:lnTo>
                      <a:pt x="89" y="228"/>
                    </a:lnTo>
                    <a:lnTo>
                      <a:pt x="87" y="234"/>
                    </a:lnTo>
                    <a:lnTo>
                      <a:pt x="85" y="240"/>
                    </a:lnTo>
                    <a:lnTo>
                      <a:pt x="81" y="245"/>
                    </a:lnTo>
                    <a:lnTo>
                      <a:pt x="75" y="251"/>
                    </a:lnTo>
                    <a:lnTo>
                      <a:pt x="71" y="255"/>
                    </a:lnTo>
                    <a:lnTo>
                      <a:pt x="66" y="259"/>
                    </a:lnTo>
                    <a:lnTo>
                      <a:pt x="58" y="263"/>
                    </a:lnTo>
                    <a:lnTo>
                      <a:pt x="52" y="265"/>
                    </a:lnTo>
                    <a:lnTo>
                      <a:pt x="44" y="265"/>
                    </a:lnTo>
                    <a:lnTo>
                      <a:pt x="37" y="265"/>
                    </a:lnTo>
                    <a:lnTo>
                      <a:pt x="31" y="263"/>
                    </a:lnTo>
                    <a:lnTo>
                      <a:pt x="25" y="259"/>
                    </a:lnTo>
                    <a:lnTo>
                      <a:pt x="20" y="255"/>
                    </a:lnTo>
                    <a:lnTo>
                      <a:pt x="14" y="251"/>
                    </a:lnTo>
                    <a:lnTo>
                      <a:pt x="10" y="245"/>
                    </a:lnTo>
                    <a:lnTo>
                      <a:pt x="6" y="240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H="1">
                <a:off x="3759120" y="2849760"/>
                <a:ext cx="109080" cy="396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3736080" y="273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3948120" y="25214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4027320" y="25214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3964680" y="261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4021560" y="2618280"/>
                <a:ext cx="360" cy="1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3963960" y="2710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396900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"/>
                    </a:lnTo>
                    <a:lnTo>
                      <a:pt x="11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3991320" y="2263680"/>
                <a:ext cx="1800" cy="10044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3153600" y="1832400"/>
                <a:ext cx="760680" cy="78480"/>
              </a:xfrm>
              <a:custGeom>
                <a:avLst/>
                <a:gdLst/>
                <a:ahLst/>
                <a:rect l="l" t="t" r="r" b="b"/>
                <a:pathLst>
                  <a:path w="378" h="39">
                    <a:moveTo>
                      <a:pt x="376" y="39"/>
                    </a:moveTo>
                    <a:lnTo>
                      <a:pt x="378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3018960" y="1550520"/>
                <a:ext cx="1054440" cy="958680"/>
              </a:xfrm>
              <a:custGeom>
                <a:avLst/>
                <a:gdLst/>
                <a:ahLst/>
                <a:rect l="l" t="t" r="r" b="b"/>
                <a:pathLst>
                  <a:path w="524" h="476">
                    <a:moveTo>
                      <a:pt x="522" y="171"/>
                    </a:moveTo>
                    <a:lnTo>
                      <a:pt x="524" y="0"/>
                    </a:lnTo>
                    <a:lnTo>
                      <a:pt x="182" y="0"/>
                    </a:lnTo>
                    <a:lnTo>
                      <a:pt x="182" y="476"/>
                    </a:lnTo>
                    <a:lnTo>
                      <a:pt x="0" y="476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365436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3683160" y="1431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3748680" y="143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3775320" y="143172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3833280" y="143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385668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3909600" y="1431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3956400" y="143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3006720" y="1335240"/>
                <a:ext cx="2578680" cy="1113480"/>
              </a:xfrm>
              <a:custGeom>
                <a:avLst/>
                <a:gdLst/>
                <a:ahLst/>
                <a:rect l="l" t="t" r="r" b="b"/>
                <a:pathLst>
                  <a:path w="1281" h="553">
                    <a:moveTo>
                      <a:pt x="1279" y="299"/>
                    </a:moveTo>
                    <a:lnTo>
                      <a:pt x="1281" y="0"/>
                    </a:lnTo>
                    <a:lnTo>
                      <a:pt x="153" y="0"/>
                    </a:lnTo>
                    <a:lnTo>
                      <a:pt x="153" y="553"/>
                    </a:lnTo>
                    <a:lnTo>
                      <a:pt x="0" y="55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5557320" y="1923480"/>
                <a:ext cx="50400" cy="50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4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5585400" y="1550520"/>
                <a:ext cx="319680" cy="815760"/>
              </a:xfrm>
              <a:custGeom>
                <a:avLst/>
                <a:gdLst/>
                <a:ahLst/>
                <a:rect l="l" t="t" r="r" b="b"/>
                <a:pathLst>
                  <a:path w="159" h="405">
                    <a:moveTo>
                      <a:pt x="157" y="405"/>
                    </a:moveTo>
                    <a:lnTo>
                      <a:pt x="15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5881320" y="2352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2" y="0"/>
                    </a:moveTo>
                    <a:lnTo>
                      <a:pt x="0" y="2"/>
                    </a:lnTo>
                    <a:lnTo>
                      <a:pt x="12" y="25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5557320" y="1528200"/>
                <a:ext cx="50400" cy="46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21"/>
                    </a:moveTo>
                    <a:lnTo>
                      <a:pt x="16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563148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5691960" y="1411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5754240" y="1411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5783760" y="1411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5838480" y="1411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58629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5918760" y="1411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5963760" y="141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3848400" y="264636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5001120" y="2904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50727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512496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5177160" y="29041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5224680" y="290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3183840" y="3774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3183840" y="3891240"/>
                <a:ext cx="4644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0"/>
                    </a:moveTo>
                    <a:lnTo>
                      <a:pt x="0" y="25"/>
                    </a:lnTo>
                    <a:lnTo>
                      <a:pt x="23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H="1">
                <a:off x="2279880" y="3798360"/>
                <a:ext cx="920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2279880" y="3913200"/>
                <a:ext cx="923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2356560" y="3774240"/>
                <a:ext cx="46080" cy="500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23"/>
                    </a:moveTo>
                    <a:lnTo>
                      <a:pt x="14" y="25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2469240" y="389520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0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3359160" y="50313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3040920" y="2873880"/>
                <a:ext cx="339840" cy="2173320"/>
              </a:xfrm>
              <a:custGeom>
                <a:avLst/>
                <a:gdLst/>
                <a:ahLst/>
                <a:rect l="l" t="t" r="r" b="b"/>
                <a:pathLst>
                  <a:path w="169" h="1079">
                    <a:moveTo>
                      <a:pt x="169" y="1079"/>
                    </a:moveTo>
                    <a:lnTo>
                      <a:pt x="169" y="897"/>
                    </a:lnTo>
                    <a:lnTo>
                      <a:pt x="0" y="897"/>
                    </a:lnTo>
                    <a:lnTo>
                      <a:pt x="0" y="0"/>
                    </a:lnTo>
                    <a:lnTo>
                      <a:pt x="12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2894040" y="3286800"/>
                <a:ext cx="285480" cy="469080"/>
              </a:xfrm>
              <a:custGeom>
                <a:avLst/>
                <a:gdLst/>
                <a:ahLst/>
                <a:rect l="l" t="t" r="r" b="b"/>
                <a:pathLst>
                  <a:path w="142" h="233">
                    <a:moveTo>
                      <a:pt x="71" y="233"/>
                    </a:moveTo>
                    <a:lnTo>
                      <a:pt x="83" y="233"/>
                    </a:lnTo>
                    <a:lnTo>
                      <a:pt x="94" y="227"/>
                    </a:lnTo>
                    <a:lnTo>
                      <a:pt x="104" y="221"/>
                    </a:lnTo>
                    <a:lnTo>
                      <a:pt x="113" y="212"/>
                    </a:lnTo>
                    <a:lnTo>
                      <a:pt x="123" y="200"/>
                    </a:lnTo>
                    <a:lnTo>
                      <a:pt x="129" y="187"/>
                    </a:lnTo>
                    <a:lnTo>
                      <a:pt x="135" y="171"/>
                    </a:lnTo>
                    <a:lnTo>
                      <a:pt x="138" y="154"/>
                    </a:lnTo>
                    <a:lnTo>
                      <a:pt x="142" y="137"/>
                    </a:lnTo>
                    <a:lnTo>
                      <a:pt x="142" y="118"/>
                    </a:lnTo>
                    <a:lnTo>
                      <a:pt x="142" y="98"/>
                    </a:lnTo>
                    <a:lnTo>
                      <a:pt x="138" y="79"/>
                    </a:lnTo>
                    <a:lnTo>
                      <a:pt x="135" y="64"/>
                    </a:lnTo>
                    <a:lnTo>
                      <a:pt x="129" y="48"/>
                    </a:lnTo>
                    <a:lnTo>
                      <a:pt x="123" y="35"/>
                    </a:lnTo>
                    <a:lnTo>
                      <a:pt x="113" y="23"/>
                    </a:lnTo>
                    <a:lnTo>
                      <a:pt x="104" y="14"/>
                    </a:lnTo>
                    <a:lnTo>
                      <a:pt x="94" y="6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60" y="2"/>
                    </a:lnTo>
                    <a:lnTo>
                      <a:pt x="48" y="6"/>
                    </a:lnTo>
                    <a:lnTo>
                      <a:pt x="39" y="14"/>
                    </a:lnTo>
                    <a:lnTo>
                      <a:pt x="29" y="23"/>
                    </a:lnTo>
                    <a:lnTo>
                      <a:pt x="21" y="35"/>
                    </a:lnTo>
                    <a:lnTo>
                      <a:pt x="14" y="48"/>
                    </a:lnTo>
                    <a:lnTo>
                      <a:pt x="8" y="64"/>
                    </a:lnTo>
                    <a:lnTo>
                      <a:pt x="4" y="7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37"/>
                    </a:lnTo>
                    <a:lnTo>
                      <a:pt x="4" y="154"/>
                    </a:lnTo>
                    <a:lnTo>
                      <a:pt x="8" y="171"/>
                    </a:lnTo>
                    <a:lnTo>
                      <a:pt x="14" y="187"/>
                    </a:lnTo>
                    <a:lnTo>
                      <a:pt x="21" y="200"/>
                    </a:lnTo>
                    <a:lnTo>
                      <a:pt x="29" y="212"/>
                    </a:lnTo>
                    <a:lnTo>
                      <a:pt x="39" y="221"/>
                    </a:lnTo>
                    <a:lnTo>
                      <a:pt x="48" y="227"/>
                    </a:lnTo>
                    <a:lnTo>
                      <a:pt x="60" y="233"/>
                    </a:lnTo>
                    <a:lnTo>
                      <a:pt x="71" y="233"/>
                    </a:lnTo>
                    <a:lnTo>
                      <a:pt x="71" y="2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2936160" y="341172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3000960" y="341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3052080" y="3411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30751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3098520" y="341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3127680" y="341172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2921400" y="35244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294372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299412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30232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3048480" y="352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3075480" y="352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7007760" y="44488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7094520" y="4448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7126560" y="4448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7151040" y="444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7173360" y="444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7228080" y="444888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70081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705672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7112880" y="454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7138080" y="454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733824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74091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746028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75135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756864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7368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74210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747540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74984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7002360" y="4118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706464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712116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7173000" y="4118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7203600" y="411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725760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7303680" y="4118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1482840" y="4298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155340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160704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1658520" y="429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1712520" y="42984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15156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156600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1618920" y="4394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1645560" y="4394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1138320" y="41428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120564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125460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1311480" y="4142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1342080" y="4142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1394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1439280" y="4142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3254400" y="41389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3342240" y="4138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3374280" y="4138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3397320" y="4138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3423240" y="4138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3473640" y="413892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325476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32850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333936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3392280" y="4235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3413520" y="4235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3457800" y="4235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3488400" y="4235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3540240" y="4235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3248280" y="440460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3334320" y="4404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3364200" y="44046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3388680" y="4404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3414960" y="4404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3466080" y="440460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324864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330120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3353040" y="4501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3377880" y="4501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3705480" y="3538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>
                <a:off x="377532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382968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3880800" y="3538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3934800" y="3538440"/>
                <a:ext cx="360" cy="1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3648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370080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375516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378324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3833640" y="3635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3859560" y="3635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>
                <a:off x="3713400" y="4269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378324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383760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3891960" y="4269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3943080" y="426996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366120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370908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37659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379152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3841560" y="4366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3867840" y="436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3248640" y="3588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331524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336456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3418920" y="3588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3473640" y="3588840"/>
                <a:ext cx="36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3248280" y="3685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327924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333108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3382200" y="3685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3405240" y="3685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3450960" y="3685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3477600" y="3685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0" name=""/>
            <p:cNvSpPr/>
            <p:nvPr/>
          </p:nvSpPr>
          <p:spPr>
            <a:xfrm>
              <a:off x="3531960" y="368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3561840" y="3686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3590640" y="368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3246120" y="38188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33145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336492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3419280" y="3818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3474000" y="381888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324612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32763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33314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3380760" y="3915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3405600" y="391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345132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347796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>
              <a:off x="3531960" y="3915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3561840" y="3915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3590640" y="391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  <a:lnTo>
                    <a:pt x="81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5898240" y="4598640"/>
              <a:ext cx="324000" cy="437040"/>
            </a:xfrm>
            <a:custGeom>
              <a:avLst/>
              <a:gdLst/>
              <a:ahLst/>
              <a:rect l="l" t="t" r="r" b="b"/>
              <a:pathLst>
                <a:path w="161" h="217">
                  <a:moveTo>
                    <a:pt x="81" y="215"/>
                  </a:moveTo>
                  <a:lnTo>
                    <a:pt x="69" y="215"/>
                  </a:lnTo>
                  <a:lnTo>
                    <a:pt x="56" y="212"/>
                  </a:lnTo>
                  <a:lnTo>
                    <a:pt x="44" y="204"/>
                  </a:lnTo>
                  <a:lnTo>
                    <a:pt x="35" y="194"/>
                  </a:lnTo>
                  <a:lnTo>
                    <a:pt x="25" y="185"/>
                  </a:lnTo>
                  <a:lnTo>
                    <a:pt x="15" y="171"/>
                  </a:lnTo>
                  <a:lnTo>
                    <a:pt x="10" y="158"/>
                  </a:lnTo>
                  <a:lnTo>
                    <a:pt x="4" y="142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5"/>
                  </a:lnTo>
                  <a:lnTo>
                    <a:pt x="10" y="62"/>
                  </a:lnTo>
                  <a:lnTo>
                    <a:pt x="15" y="46"/>
                  </a:lnTo>
                  <a:lnTo>
                    <a:pt x="25" y="33"/>
                  </a:lnTo>
                  <a:lnTo>
                    <a:pt x="35" y="23"/>
                  </a:lnTo>
                  <a:lnTo>
                    <a:pt x="44" y="14"/>
                  </a:lnTo>
                  <a:lnTo>
                    <a:pt x="56" y="6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7" y="14"/>
                  </a:lnTo>
                  <a:lnTo>
                    <a:pt x="127" y="23"/>
                  </a:lnTo>
                  <a:lnTo>
                    <a:pt x="136" y="33"/>
                  </a:lnTo>
                  <a:lnTo>
                    <a:pt x="146" y="46"/>
                  </a:lnTo>
                  <a:lnTo>
                    <a:pt x="152" y="62"/>
                  </a:lnTo>
                  <a:lnTo>
                    <a:pt x="158" y="75"/>
                  </a:lnTo>
                  <a:lnTo>
                    <a:pt x="161" y="92"/>
                  </a:lnTo>
                  <a:lnTo>
                    <a:pt x="161" y="110"/>
                  </a:lnTo>
                  <a:lnTo>
                    <a:pt x="161" y="125"/>
                  </a:lnTo>
                  <a:lnTo>
                    <a:pt x="158" y="142"/>
                  </a:lnTo>
                  <a:lnTo>
                    <a:pt x="152" y="158"/>
                  </a:lnTo>
                  <a:lnTo>
                    <a:pt x="146" y="171"/>
                  </a:lnTo>
                  <a:lnTo>
                    <a:pt x="136" y="185"/>
                  </a:lnTo>
                  <a:lnTo>
                    <a:pt x="127" y="194"/>
                  </a:lnTo>
                  <a:lnTo>
                    <a:pt x="117" y="204"/>
                  </a:lnTo>
                  <a:lnTo>
                    <a:pt x="106" y="212"/>
                  </a:lnTo>
                  <a:lnTo>
                    <a:pt x="92" y="215"/>
                  </a:lnTo>
                  <a:lnTo>
                    <a:pt x="81" y="217"/>
                  </a:lnTo>
                  <a:lnTo>
                    <a:pt x="81" y="21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5972400" y="4673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6033240" y="4673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6086520" y="4673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6157800" y="4673160"/>
              <a:ext cx="3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5906160" y="4781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59558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600624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6060600" y="4781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6087240" y="47818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6118920" y="478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6171120" y="4781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 flipH="1" flipV="1">
              <a:off x="3705480" y="4988880"/>
              <a:ext cx="7056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3683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373824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 flipH="1" flipV="1">
              <a:off x="2851920" y="4988880"/>
              <a:ext cx="7020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283032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2882880" y="4866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5346360" y="4530240"/>
              <a:ext cx="18108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5431320" y="4530240"/>
              <a:ext cx="869400" cy="601920"/>
            </a:xfrm>
            <a:custGeom>
              <a:avLst/>
              <a:gdLst/>
              <a:ahLst/>
              <a:rect l="l" t="t" r="r" b="b"/>
              <a:pathLst>
                <a:path w="432" h="299">
                  <a:moveTo>
                    <a:pt x="0" y="0"/>
                  </a:moveTo>
                  <a:lnTo>
                    <a:pt x="0" y="299"/>
                  </a:lnTo>
                  <a:lnTo>
                    <a:pt x="432" y="29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6520320" y="4534200"/>
              <a:ext cx="410760" cy="587880"/>
            </a:xfrm>
            <a:custGeom>
              <a:avLst/>
              <a:gdLst/>
              <a:ahLst/>
              <a:rect l="l" t="t" r="r" b="b"/>
              <a:pathLst>
                <a:path w="204" h="292">
                  <a:moveTo>
                    <a:pt x="0" y="292"/>
                  </a:moveTo>
                  <a:lnTo>
                    <a:pt x="48" y="292"/>
                  </a:lnTo>
                  <a:lnTo>
                    <a:pt x="48" y="0"/>
                  </a:lnTo>
                  <a:lnTo>
                    <a:pt x="204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 rot="16200000">
              <a:off x="2177280" y="4253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 rot="16200000">
              <a:off x="2163600" y="421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 rot="16200000">
              <a:off x="2165760" y="4164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 rot="16200000">
              <a:off x="2177280" y="4124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 rot="16200000">
              <a:off x="2175120" y="4098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 rot="16200000">
              <a:off x="2163600" y="405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 rot="16200000">
              <a:off x="2165760" y="4007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 rot="16200000">
              <a:off x="2177280" y="3967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 rot="16200000">
              <a:off x="2180160" y="3942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 rot="16200000">
              <a:off x="216360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 rot="16200000">
              <a:off x="2163600" y="385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3246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32731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3323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37284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402000" y="5736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4315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485160" y="573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53196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557880" y="5736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35794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6338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68712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70908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738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7918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384624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91428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969720" y="573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4023000" y="5736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246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2731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3323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37284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402000" y="558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4315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485160" y="558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353196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557880" y="5589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5794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6338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368712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370908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738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7918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84624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91428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969720" y="558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4023000" y="5589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246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2731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323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37284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402000" y="5446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4315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485160" y="544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53196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557880" y="54464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5794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6338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68712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70908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738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7918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84624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91428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969720" y="544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4023000" y="5446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246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2731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323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37284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402000" y="5295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4315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485160" y="5295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53196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557880" y="5295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5794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6338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68712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70908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738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7918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84624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91428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969720" y="529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4023000" y="5295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 rot="16200000">
              <a:off x="3727800" y="3273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 rot="16200000">
              <a:off x="3736080" y="322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 rot="16200000">
              <a:off x="3736080" y="3172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 rot="16200000">
              <a:off x="3716280" y="309276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 rot="16200000">
              <a:off x="3747600" y="303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 rot="16200000">
              <a:off x="3752640" y="3003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 rot="16200000">
              <a:off x="3749760" y="2977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 rot="16200000">
              <a:off x="3736080" y="293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5700240" y="4983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576360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5816880" y="4983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5885280" y="498312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5960160" y="49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54730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5535000" y="3365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5590080" y="3365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5658480" y="3365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5721120" y="3365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5750280" y="336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462996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469548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4750920" y="5249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4804200" y="524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4872240" y="5249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4918680" y="5249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6520320" y="3041280"/>
              <a:ext cx="714600" cy="535680"/>
            </a:xfrm>
            <a:custGeom>
              <a:avLst/>
              <a:gdLst/>
              <a:ahLst/>
              <a:rect l="l" t="t" r="r" b="b"/>
              <a:pathLst>
                <a:path w="355" h="266">
                  <a:moveTo>
                    <a:pt x="0" y="0"/>
                  </a:moveTo>
                  <a:lnTo>
                    <a:pt x="355" y="0"/>
                  </a:lnTo>
                  <a:lnTo>
                    <a:pt x="355" y="266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 rot="16200000">
              <a:off x="7124040" y="3444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 rot="16200000">
              <a:off x="7138440" y="3382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 rot="16200000">
              <a:off x="7122240" y="3316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 rot="16200000">
              <a:off x="7118640" y="322884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 rot="16200000">
              <a:off x="7149960" y="31694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 rot="16200000">
              <a:off x="7153200" y="3138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 rot="16200000">
              <a:off x="7152120" y="3119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 rot="16200000">
              <a:off x="7136640" y="307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72381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73177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7371360" y="48546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7447680" y="4854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751824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757332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7625880" y="48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7947720" y="3083760"/>
              <a:ext cx="545400" cy="1055160"/>
            </a:xfrm>
            <a:custGeom>
              <a:avLst/>
              <a:gdLst/>
              <a:ahLst/>
              <a:rect l="l" t="t" r="r" b="b"/>
              <a:pathLst>
                <a:path w="271" h="524">
                  <a:moveTo>
                    <a:pt x="269" y="524"/>
                  </a:moveTo>
                  <a:lnTo>
                    <a:pt x="27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 rot="16200000">
              <a:off x="8358480" y="3985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 rot="16200000">
              <a:off x="8370720" y="392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 rot="16200000">
              <a:off x="8356320" y="38491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 rot="16200000">
              <a:off x="8386560" y="3800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 rot="16200000">
              <a:off x="8370720" y="3759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 rot="16200000">
              <a:off x="8364600" y="3699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 rot="16200000">
              <a:off x="8370720" y="3644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rot="16200000">
              <a:off x="8372880" y="3586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1611720" y="960840"/>
              <a:ext cx="1081080" cy="1468080"/>
            </a:xfrm>
            <a:custGeom>
              <a:avLst/>
              <a:gdLst/>
              <a:ahLst/>
              <a:rect l="l" t="t" r="r" b="b"/>
              <a:pathLst>
                <a:path w="537" h="729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729"/>
                  </a:lnTo>
                  <a:lnTo>
                    <a:pt x="537" y="72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1406880" y="1059480"/>
              <a:ext cx="251280" cy="29772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89"/>
                  </a:moveTo>
                  <a:lnTo>
                    <a:pt x="0" y="98"/>
                  </a:lnTo>
                  <a:lnTo>
                    <a:pt x="4" y="108"/>
                  </a:lnTo>
                  <a:lnTo>
                    <a:pt x="8" y="116"/>
                  </a:lnTo>
                  <a:lnTo>
                    <a:pt x="11" y="125"/>
                  </a:lnTo>
                  <a:lnTo>
                    <a:pt x="17" y="131"/>
                  </a:lnTo>
                  <a:lnTo>
                    <a:pt x="25" y="137"/>
                  </a:lnTo>
                  <a:lnTo>
                    <a:pt x="33" y="143"/>
                  </a:lnTo>
                  <a:lnTo>
                    <a:pt x="42" y="146"/>
                  </a:lnTo>
                  <a:lnTo>
                    <a:pt x="52" y="148"/>
                  </a:lnTo>
                  <a:lnTo>
                    <a:pt x="61" y="148"/>
                  </a:lnTo>
                  <a:lnTo>
                    <a:pt x="73" y="148"/>
                  </a:lnTo>
                  <a:lnTo>
                    <a:pt x="81" y="146"/>
                  </a:lnTo>
                  <a:lnTo>
                    <a:pt x="90" y="143"/>
                  </a:lnTo>
                  <a:lnTo>
                    <a:pt x="98" y="137"/>
                  </a:lnTo>
                  <a:lnTo>
                    <a:pt x="105" y="131"/>
                  </a:lnTo>
                  <a:lnTo>
                    <a:pt x="111" y="125"/>
                  </a:lnTo>
                  <a:lnTo>
                    <a:pt x="117" y="116"/>
                  </a:lnTo>
                  <a:lnTo>
                    <a:pt x="121" y="108"/>
                  </a:lnTo>
                  <a:lnTo>
                    <a:pt x="123" y="98"/>
                  </a:lnTo>
                  <a:lnTo>
                    <a:pt x="125" y="89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1603800" y="839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1668600" y="839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16999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175500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1804320" y="83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1854720" y="83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 flipV="1">
              <a:off x="1525680" y="1361160"/>
              <a:ext cx="1800" cy="525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1452960" y="809640"/>
              <a:ext cx="2814480" cy="3194640"/>
            </a:xfrm>
            <a:custGeom>
              <a:avLst/>
              <a:gdLst/>
              <a:ahLst/>
              <a:rect l="l" t="t" r="r" b="b"/>
              <a:pathLst>
                <a:path w="1398" h="1586">
                  <a:moveTo>
                    <a:pt x="1379" y="1586"/>
                  </a:moveTo>
                  <a:lnTo>
                    <a:pt x="1398" y="1586"/>
                  </a:lnTo>
                  <a:lnTo>
                    <a:pt x="1398" y="0"/>
                  </a:lnTo>
                  <a:lnTo>
                    <a:pt x="0" y="0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1591560" y="1729800"/>
              <a:ext cx="1090800" cy="745200"/>
            </a:xfrm>
            <a:custGeom>
              <a:avLst/>
              <a:gdLst/>
              <a:ahLst/>
              <a:rect l="l" t="t" r="r" b="b"/>
              <a:pathLst>
                <a:path w="542" h="370">
                  <a:moveTo>
                    <a:pt x="0" y="94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88" y="370"/>
                  </a:lnTo>
                  <a:lnTo>
                    <a:pt x="542" y="37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1255680" y="1440000"/>
              <a:ext cx="2369160" cy="1657440"/>
            </a:xfrm>
            <a:custGeom>
              <a:avLst/>
              <a:gdLst/>
              <a:ahLst/>
              <a:rect l="l" t="t" r="r" b="b"/>
              <a:pathLst>
                <a:path w="1177" h="823">
                  <a:moveTo>
                    <a:pt x="1141" y="821"/>
                  </a:moveTo>
                  <a:lnTo>
                    <a:pt x="1177" y="823"/>
                  </a:lnTo>
                  <a:lnTo>
                    <a:pt x="1177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5" y="307"/>
                  </a:lnTo>
                  <a:lnTo>
                    <a:pt x="7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549000" y="1832760"/>
              <a:ext cx="1173600" cy="2387160"/>
            </a:xfrm>
            <a:custGeom>
              <a:avLst/>
              <a:gdLst/>
              <a:ahLst/>
              <a:rect l="l" t="t" r="r" b="b"/>
              <a:pathLst>
                <a:path w="583" h="1185">
                  <a:moveTo>
                    <a:pt x="530" y="175"/>
                  </a:moveTo>
                  <a:lnTo>
                    <a:pt x="583" y="175"/>
                  </a:lnTo>
                  <a:lnTo>
                    <a:pt x="583" y="0"/>
                  </a:lnTo>
                  <a:lnTo>
                    <a:pt x="0" y="0"/>
                  </a:lnTo>
                  <a:lnTo>
                    <a:pt x="0" y="1185"/>
                  </a:lnTo>
                  <a:lnTo>
                    <a:pt x="51" y="11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2272320" y="1899360"/>
              <a:ext cx="2025000" cy="3963960"/>
            </a:xfrm>
            <a:custGeom>
              <a:avLst/>
              <a:gdLst/>
              <a:ahLst/>
              <a:rect l="l" t="t" r="r" b="b"/>
              <a:pathLst>
                <a:path w="1006" h="1968">
                  <a:moveTo>
                    <a:pt x="65" y="0"/>
                  </a:moveTo>
                  <a:lnTo>
                    <a:pt x="0" y="2"/>
                  </a:lnTo>
                  <a:lnTo>
                    <a:pt x="0" y="1968"/>
                  </a:lnTo>
                  <a:lnTo>
                    <a:pt x="1006" y="196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2545920" y="2074320"/>
              <a:ext cx="2091600" cy="4020480"/>
            </a:xfrm>
            <a:custGeom>
              <a:avLst/>
              <a:gdLst/>
              <a:ahLst/>
              <a:rect l="l" t="t" r="r" b="b"/>
              <a:pathLst>
                <a:path w="1039" h="1996">
                  <a:moveTo>
                    <a:pt x="1039" y="1804"/>
                  </a:moveTo>
                  <a:lnTo>
                    <a:pt x="1039" y="1996"/>
                  </a:lnTo>
                  <a:lnTo>
                    <a:pt x="127" y="1996"/>
                  </a:lnTo>
                  <a:lnTo>
                    <a:pt x="127" y="712"/>
                  </a:lnTo>
                  <a:lnTo>
                    <a:pt x="0" y="712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 flipH="1">
              <a:off x="3949200" y="3627360"/>
              <a:ext cx="3441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3218400" y="3240720"/>
              <a:ext cx="1090800" cy="217800"/>
            </a:xfrm>
            <a:custGeom>
              <a:avLst/>
              <a:gdLst/>
              <a:ahLst/>
              <a:rect l="l" t="t" r="r" b="b"/>
              <a:pathLst>
                <a:path w="542" h="108">
                  <a:moveTo>
                    <a:pt x="0" y="0"/>
                  </a:moveTo>
                  <a:lnTo>
                    <a:pt x="2" y="108"/>
                  </a:lnTo>
                  <a:lnTo>
                    <a:pt x="542" y="1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2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4016160" y="3857400"/>
              <a:ext cx="217080" cy="298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52" y="146"/>
                  </a:moveTo>
                  <a:lnTo>
                    <a:pt x="61" y="146"/>
                  </a:lnTo>
                  <a:lnTo>
                    <a:pt x="71" y="144"/>
                  </a:lnTo>
                  <a:lnTo>
                    <a:pt x="79" y="138"/>
                  </a:lnTo>
                  <a:lnTo>
                    <a:pt x="84" y="132"/>
                  </a:lnTo>
                  <a:lnTo>
                    <a:pt x="90" y="124"/>
                  </a:lnTo>
                  <a:lnTo>
                    <a:pt x="96" y="117"/>
                  </a:lnTo>
                  <a:lnTo>
                    <a:pt x="102" y="107"/>
                  </a:lnTo>
                  <a:lnTo>
                    <a:pt x="104" y="96"/>
                  </a:lnTo>
                  <a:lnTo>
                    <a:pt x="106" y="86"/>
                  </a:lnTo>
                  <a:lnTo>
                    <a:pt x="108" y="73"/>
                  </a:lnTo>
                  <a:lnTo>
                    <a:pt x="106" y="61"/>
                  </a:lnTo>
                  <a:lnTo>
                    <a:pt x="104" y="50"/>
                  </a:lnTo>
                  <a:lnTo>
                    <a:pt x="102" y="40"/>
                  </a:lnTo>
                  <a:lnTo>
                    <a:pt x="96" y="30"/>
                  </a:lnTo>
                  <a:lnTo>
                    <a:pt x="90" y="21"/>
                  </a:lnTo>
                  <a:lnTo>
                    <a:pt x="84" y="13"/>
                  </a:lnTo>
                  <a:lnTo>
                    <a:pt x="79" y="7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1" y="13"/>
                  </a:lnTo>
                  <a:lnTo>
                    <a:pt x="15" y="21"/>
                  </a:lnTo>
                  <a:lnTo>
                    <a:pt x="10" y="30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7"/>
                  </a:lnTo>
                  <a:lnTo>
                    <a:pt x="10" y="117"/>
                  </a:lnTo>
                  <a:lnTo>
                    <a:pt x="15" y="124"/>
                  </a:lnTo>
                  <a:lnTo>
                    <a:pt x="21" y="132"/>
                  </a:lnTo>
                  <a:lnTo>
                    <a:pt x="29" y="138"/>
                  </a:lnTo>
                  <a:lnTo>
                    <a:pt x="36" y="144"/>
                  </a:lnTo>
                  <a:lnTo>
                    <a:pt x="44" y="146"/>
                  </a:lnTo>
                  <a:lnTo>
                    <a:pt x="54" y="148"/>
                  </a:lnTo>
                  <a:lnTo>
                    <a:pt x="54" y="1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4069440" y="38955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rro devido à dependência de d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f9900"/>
                </a:solidFill>
                <a:latin typeface="Courier New"/>
              </a:rPr>
              <a:t>$2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, $1, $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12,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, $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13, $6,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$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14, </a:t>
            </a:r>
            <a:r>
              <a:rPr b="1" lang="pt-BR" sz="1800" spc="-1" strike="noStrike">
                <a:solidFill>
                  <a:srgbClr val="009900"/>
                </a:solidFill>
                <a:latin typeface="Courier New"/>
              </a:rPr>
              <a:t>$2, $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15, 100</a:t>
            </a:r>
            <a:r>
              <a:rPr b="1" lang="pt-BR" sz="1800" spc="-1" strike="noStrike">
                <a:solidFill>
                  <a:srgbClr val="009900"/>
                </a:solidFill>
                <a:latin typeface="Courier New"/>
              </a:rPr>
              <a:t>($2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d e or lêem resultado errado (velho 10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ore está claramente à direita (depois no tempo) e lê resultado certo (-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672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zard no add pode ser evitado se a escrita no banco de registradores for feita (em CC5) na metade do ciclo (borda de desci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523880" y="4952880"/>
            <a:ext cx="6061680" cy="1221480"/>
            <a:chOff x="1523880" y="4952880"/>
            <a:chExt cx="6061680" cy="1221480"/>
          </a:xfrm>
        </p:grpSpPr>
        <p:sp>
          <p:nvSpPr>
            <p:cNvPr id="498" name=""/>
            <p:cNvSpPr/>
            <p:nvPr/>
          </p:nvSpPr>
          <p:spPr>
            <a:xfrm>
              <a:off x="1523880" y="5246280"/>
              <a:ext cx="5867640" cy="381240"/>
            </a:xfrm>
            <a:custGeom>
              <a:avLst/>
              <a:gdLst/>
              <a:ahLst/>
              <a:rect l="l" t="t" r="r" b="b"/>
              <a:pathLst>
                <a:path w="3696" h="240">
                  <a:moveTo>
                    <a:pt x="0" y="240"/>
                  </a:moveTo>
                  <a:lnTo>
                    <a:pt x="528" y="240"/>
                  </a:lnTo>
                  <a:lnTo>
                    <a:pt x="528" y="0"/>
                  </a:lnTo>
                  <a:lnTo>
                    <a:pt x="1200" y="0"/>
                  </a:lnTo>
                  <a:lnTo>
                    <a:pt x="1200" y="240"/>
                  </a:lnTo>
                  <a:lnTo>
                    <a:pt x="1872" y="240"/>
                  </a:lnTo>
                  <a:lnTo>
                    <a:pt x="1872" y="0"/>
                  </a:lnTo>
                  <a:lnTo>
                    <a:pt x="2496" y="0"/>
                  </a:lnTo>
                  <a:lnTo>
                    <a:pt x="2496" y="240"/>
                  </a:lnTo>
                  <a:lnTo>
                    <a:pt x="3168" y="240"/>
                  </a:lnTo>
                  <a:lnTo>
                    <a:pt x="3168" y="0"/>
                  </a:lnTo>
                  <a:lnTo>
                    <a:pt x="369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6232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956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3080" y="5017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20840" y="5867280"/>
              <a:ext cx="446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C4                                    CC5                            C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86400" y="524628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06960" y="49528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66ff"/>
                  </a:solidFill>
                  <a:latin typeface="Arial"/>
                </a:rPr>
                <a:t>Reg W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553080" y="5245920"/>
              <a:ext cx="0" cy="3812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7320" y="495288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00"/>
                  </a:solidFill>
                  <a:latin typeface="Arial"/>
                </a:rPr>
                <a:t>Reg 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ve compiler guarantee no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ere do we insert the “nops”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2, $1, $3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12, $2, $5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13, $6, $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14, $2, $2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$15, 100($2)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blem:  this really slows us dow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ftwar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temporary results, don’t wait for them to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er file forwarding to handle read/write to sam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279440" y="6008400"/>
            <a:ext cx="1472400" cy="551160"/>
            <a:chOff x="1279440" y="6008400"/>
            <a:chExt cx="1472400" cy="551160"/>
          </a:xfrm>
        </p:grpSpPr>
        <p:sp>
          <p:nvSpPr>
            <p:cNvPr id="514" name=""/>
            <p:cNvSpPr/>
            <p:nvPr/>
          </p:nvSpPr>
          <p:spPr>
            <a:xfrm>
              <a:off x="1279440" y="6318360"/>
              <a:ext cx="1472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300400" y="6008400"/>
              <a:ext cx="1252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826640" y="2473200"/>
            <a:ext cx="5544720" cy="3660840"/>
            <a:chOff x="1826640" y="2473200"/>
            <a:chExt cx="5544720" cy="3660840"/>
          </a:xfrm>
        </p:grpSpPr>
        <p:grpSp>
          <p:nvGrpSpPr>
            <p:cNvPr id="517" name=""/>
            <p:cNvGrpSpPr/>
            <p:nvPr/>
          </p:nvGrpSpPr>
          <p:grpSpPr>
            <a:xfrm>
              <a:off x="1884240" y="2473200"/>
              <a:ext cx="5461200" cy="3548160"/>
              <a:chOff x="1884240" y="2473200"/>
              <a:chExt cx="5461200" cy="3548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373720" y="5334120"/>
                <a:ext cx="14292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73720" y="545004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9040" y="493560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87960" y="4309920"/>
                <a:ext cx="142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7216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8484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584820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73560" y="5334120"/>
                <a:ext cx="114480" cy="288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173560" y="5450040"/>
                <a:ext cx="11448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4376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31080" y="52768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30680" y="493560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630680" y="481968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89240" y="442116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89240" y="43099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829040" y="3852720"/>
                <a:ext cx="11592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4496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3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173560" y="373500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060520" y="373860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060520" y="396540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3224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3319560" y="373500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19560" y="3738600"/>
                <a:ext cx="11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19560" y="3965400"/>
                <a:ext cx="1188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90800" y="374004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78120" y="373860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58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85040" y="37846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70680" y="3784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408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9956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89440" y="362592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03480" y="385272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48160" y="379584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59360" y="385272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548160" y="39085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62320" y="37958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4840" y="3852720"/>
                <a:ext cx="401760" cy="171720"/>
              </a:xfrm>
              <a:custGeom>
                <a:avLst/>
                <a:gdLst/>
                <a:ahLst/>
                <a:rect l="l" t="t" r="r" b="b"/>
                <a:pathLst>
                  <a:path w="253" h="108">
                    <a:moveTo>
                      <a:pt x="0" y="0"/>
                    </a:moveTo>
                    <a:lnTo>
                      <a:pt x="0" y="108"/>
                    </a:lnTo>
                    <a:lnTo>
                      <a:pt x="217" y="108"/>
                    </a:lnTo>
                    <a:lnTo>
                      <a:pt x="217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8640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715000" y="4247640"/>
                <a:ext cx="144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595480" y="42512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595480" y="4479840"/>
                <a:ext cx="119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432240" y="4251240"/>
                <a:ext cx="115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319560" y="425124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998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26480" y="4297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73680" y="4251240"/>
                <a:ext cx="11556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4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860640" y="4247640"/>
                <a:ext cx="18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60640" y="42512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60640" y="4479840"/>
                <a:ext cx="115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30880" y="4138560"/>
                <a:ext cx="172800" cy="453960"/>
              </a:xfrm>
              <a:custGeom>
                <a:avLst/>
                <a:gdLst/>
                <a:ahLst/>
                <a:rect l="l" t="t" r="r" b="b"/>
                <a:pathLst>
                  <a:path w="109" h="286">
                    <a:moveTo>
                      <a:pt x="0" y="0"/>
                    </a:moveTo>
                    <a:lnTo>
                      <a:pt x="0" y="115"/>
                    </a:lnTo>
                    <a:lnTo>
                      <a:pt x="34" y="144"/>
                    </a:lnTo>
                    <a:lnTo>
                      <a:pt x="0" y="171"/>
                    </a:lnTo>
                    <a:lnTo>
                      <a:pt x="0" y="286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539320" y="42973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60952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666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48160" y="4363920"/>
                <a:ext cx="3124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03680" y="436392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73560" y="436392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03760" y="430992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4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6280" y="436392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7" y="109"/>
                    </a:lnTo>
                    <a:lnTo>
                      <a:pt x="217" y="38"/>
                    </a:lnTo>
                    <a:lnTo>
                      <a:pt x="253" y="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040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767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9491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9786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45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18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934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2008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8898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9628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348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629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31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039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759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0440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9741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47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1920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1458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1520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82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66028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869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55280" y="24732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1360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39160" y="2473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18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920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0692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3896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6272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1888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462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9772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171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07800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1273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77720" y="2473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079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5512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804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359880" y="2473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378960" y="247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36560" y="2473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88040" y="2473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036520" y="3784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088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420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0140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2804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849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341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808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976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340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10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37640" y="3784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6608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23320" y="378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901880" y="3776760"/>
                <a:ext cx="1440" cy="2214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84240" y="5981760"/>
                <a:ext cx="36720" cy="39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93240" y="33638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6092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9947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5164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09960" y="3363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40560" y="336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97800" y="33638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60440" y="336384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914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94868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99800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057040" y="3486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08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6468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91320" y="34862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21364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2708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328120" y="3486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3533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41488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4692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99480" y="3486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61040" y="3486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571840" y="348624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89432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2636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950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0592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03580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0563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11284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16468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19276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22480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8240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334600" y="360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61240" y="36082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38212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40440" y="360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95160" y="3608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548080" y="36082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17920" y="2540160"/>
                <a:ext cx="380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05840" y="25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0343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0930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1484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20608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341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29140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468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4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3144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5808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51676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7112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99560" y="429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29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83440" y="429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19400" y="362592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660840" y="3625920"/>
                <a:ext cx="88920" cy="455400"/>
              </a:xfrm>
              <a:custGeom>
                <a:avLst/>
                <a:gdLst/>
                <a:ahLst/>
                <a:rect l="l" t="t" r="r" b="b"/>
                <a:pathLst>
                  <a:path w="56" h="287">
                    <a:moveTo>
                      <a:pt x="54" y="287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6" y="287"/>
                    </a:lnTo>
                    <a:lnTo>
                      <a:pt x="56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0516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746600" y="362592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660840" y="4138560"/>
                <a:ext cx="88920" cy="457200"/>
              </a:xfrm>
              <a:custGeom>
                <a:avLst/>
                <a:gdLst/>
                <a:ahLst/>
                <a:rect l="l" t="t" r="r" b="b"/>
                <a:pathLst>
                  <a:path w="56" h="288">
                    <a:moveTo>
                      <a:pt x="54" y="286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6" y="288"/>
                    </a:lnTo>
                    <a:lnTo>
                      <a:pt x="56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20516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7498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2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2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lnTo>
                      <a:pt x="54" y="2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826640" y="2643120"/>
              <a:ext cx="5544720" cy="3490920"/>
              <a:chOff x="1826640" y="2643120"/>
              <a:chExt cx="5544720" cy="3490920"/>
            </a:xfrm>
          </p:grpSpPr>
          <p:sp>
            <p:nvSpPr>
              <p:cNvPr id="719" name=""/>
              <p:cNvSpPr/>
              <p:nvPr/>
            </p:nvSpPr>
            <p:spPr>
              <a:xfrm>
                <a:off x="5288040" y="413856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6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31080" y="476568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256440" y="4762440"/>
                <a:ext cx="32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140520" y="47656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6140520" y="499284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73680" y="4765680"/>
                <a:ext cx="11556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860640" y="47656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9412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9679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16560" y="47656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403880" y="4762440"/>
                <a:ext cx="144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403880" y="476568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403880" y="49928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5644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26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82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971960" y="4653000"/>
                <a:ext cx="17316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2" y="115"/>
                    </a:lnTo>
                    <a:lnTo>
                      <a:pt x="35" y="142"/>
                    </a:lnTo>
                    <a:lnTo>
                      <a:pt x="2" y="170"/>
                    </a:lnTo>
                    <a:lnTo>
                      <a:pt x="2" y="285"/>
                    </a:lnTo>
                    <a:lnTo>
                      <a:pt x="109" y="197"/>
                    </a:lnTo>
                    <a:lnTo>
                      <a:pt x="109" y="8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86400" y="4765680"/>
                <a:ext cx="228600" cy="22716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143"/>
                    </a:moveTo>
                    <a:lnTo>
                      <a:pt x="144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144" y="143"/>
                    </a:lnTo>
                    <a:lnTo>
                      <a:pt x="144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4868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20320" y="48117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080400" y="4811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5060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1108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89240" y="4878360"/>
                <a:ext cx="314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45120" y="4878360"/>
                <a:ext cx="341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15000" y="4878360"/>
                <a:ext cx="31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344840" y="482292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29160" y="487836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1" y="109"/>
                    </a:lnTo>
                    <a:lnTo>
                      <a:pt x="216" y="109"/>
                    </a:lnTo>
                    <a:lnTo>
                      <a:pt x="216" y="36"/>
                    </a:lnTo>
                    <a:lnTo>
                      <a:pt x="253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20516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74660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4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288040" y="46530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30920" y="46530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72160" y="527832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6797520" y="527328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681600" y="5276880"/>
                <a:ext cx="115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681600" y="5504040"/>
                <a:ext cx="1155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16560" y="5278320"/>
                <a:ext cx="114120" cy="228600"/>
              </a:xfrm>
              <a:custGeom>
                <a:avLst/>
                <a:gdLst/>
                <a:ahLst/>
                <a:rect l="l" t="t" r="r" b="b"/>
                <a:pathLst>
                  <a:path w="72" h="144">
                    <a:moveTo>
                      <a:pt x="0" y="142"/>
                    </a:moveTo>
                    <a:lnTo>
                      <a:pt x="72" y="144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403880" y="5276880"/>
                <a:ext cx="114120" cy="230040"/>
              </a:xfrm>
              <a:custGeom>
                <a:avLst/>
                <a:gdLst/>
                <a:ahLst/>
                <a:rect l="l" t="t" r="r" b="b"/>
                <a:pathLst>
                  <a:path w="72" h="145">
                    <a:moveTo>
                      <a:pt x="71" y="0"/>
                    </a:moveTo>
                    <a:lnTo>
                      <a:pt x="0" y="1"/>
                    </a:lnTo>
                    <a:lnTo>
                      <a:pt x="0" y="145"/>
                    </a:lnTo>
                    <a:lnTo>
                      <a:pt x="72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4823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51224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57640" y="527832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944960" y="527328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44960" y="52768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944960" y="5504040"/>
                <a:ext cx="1159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13400" y="5164200"/>
                <a:ext cx="173160" cy="4554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3"/>
                    </a:lnTo>
                    <a:lnTo>
                      <a:pt x="2" y="172"/>
                    </a:lnTo>
                    <a:lnTo>
                      <a:pt x="2" y="287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9012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61760" y="53262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21840" y="5326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692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752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0680" y="5391000"/>
                <a:ext cx="314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86560" y="539100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256440" y="5391000"/>
                <a:ext cx="312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86280" y="5337000"/>
                <a:ext cx="5868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70600" y="5391000"/>
                <a:ext cx="401760" cy="173160"/>
              </a:xfrm>
              <a:custGeom>
                <a:avLst/>
                <a:gdLst/>
                <a:ahLst/>
                <a:rect l="l" t="t" r="r" b="b"/>
                <a:pathLst>
                  <a:path w="253" h="109">
                    <a:moveTo>
                      <a:pt x="0" y="0"/>
                    </a:moveTo>
                    <a:lnTo>
                      <a:pt x="2" y="109"/>
                    </a:lnTo>
                    <a:lnTo>
                      <a:pt x="216" y="109"/>
                    </a:lnTo>
                    <a:lnTo>
                      <a:pt x="216" y="37"/>
                    </a:lnTo>
                    <a:lnTo>
                      <a:pt x="253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74660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88040" y="516420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4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30920" y="5164200"/>
                <a:ext cx="8424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372360" y="5164200"/>
                <a:ext cx="83880" cy="45540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11360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7338960" y="5786280"/>
                <a:ext cx="32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2304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2304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057640" y="579276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44960" y="57895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3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02380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5368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602320" y="57927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0" y="142"/>
                    </a:moveTo>
                    <a:lnTo>
                      <a:pt x="71" y="144"/>
                    </a:lnTo>
                    <a:lnTo>
                      <a:pt x="71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486400" y="5786280"/>
                <a:ext cx="14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86400" y="57895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86400" y="6018120"/>
                <a:ext cx="115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054840" y="5676840"/>
                <a:ext cx="174600" cy="453960"/>
              </a:xfrm>
              <a:custGeom>
                <a:avLst/>
                <a:gdLst/>
                <a:ahLst/>
                <a:rect l="l" t="t" r="r" b="b"/>
                <a:pathLst>
                  <a:path w="110" h="286">
                    <a:moveTo>
                      <a:pt x="0" y="0"/>
                    </a:moveTo>
                    <a:lnTo>
                      <a:pt x="2" y="117"/>
                    </a:lnTo>
                    <a:lnTo>
                      <a:pt x="37" y="144"/>
                    </a:lnTo>
                    <a:lnTo>
                      <a:pt x="2" y="171"/>
                    </a:lnTo>
                    <a:lnTo>
                      <a:pt x="2" y="286"/>
                    </a:lnTo>
                    <a:lnTo>
                      <a:pt x="110" y="200"/>
                    </a:lnTo>
                    <a:lnTo>
                      <a:pt x="110" y="8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3120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703200" y="58356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16472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2349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29360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73560" y="5905440"/>
                <a:ext cx="312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29440" y="5905440"/>
                <a:ext cx="342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7520" y="590544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715000" y="5959440"/>
                <a:ext cx="3430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429160" y="58482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1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15280" y="5905440"/>
                <a:ext cx="398160" cy="169920"/>
              </a:xfrm>
              <a:custGeom>
                <a:avLst/>
                <a:gdLst/>
                <a:ahLst/>
                <a:rect l="l" t="t" r="r" b="b"/>
                <a:pathLst>
                  <a:path w="251" h="107">
                    <a:moveTo>
                      <a:pt x="0" y="0"/>
                    </a:moveTo>
                    <a:lnTo>
                      <a:pt x="0" y="107"/>
                    </a:lnTo>
                    <a:lnTo>
                      <a:pt x="214" y="107"/>
                    </a:lnTo>
                    <a:lnTo>
                      <a:pt x="214" y="36"/>
                    </a:lnTo>
                    <a:lnTo>
                      <a:pt x="251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2880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30920" y="5676840"/>
                <a:ext cx="8424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72360" y="5676840"/>
                <a:ext cx="83880" cy="457200"/>
              </a:xfrm>
              <a:custGeom>
                <a:avLst/>
                <a:gdLst/>
                <a:ahLst/>
                <a:rect l="l" t="t" r="r" b="b"/>
                <a:pathLst>
                  <a:path w="53" h="288">
                    <a:moveTo>
                      <a:pt x="53" y="288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3" y="288"/>
                    </a:lnTo>
                    <a:lnTo>
                      <a:pt x="53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13440" y="5676840"/>
                <a:ext cx="85680" cy="457200"/>
              </a:xfrm>
              <a:custGeom>
                <a:avLst/>
                <a:gdLst/>
                <a:ahLst/>
                <a:rect l="l" t="t" r="r" b="b"/>
                <a:pathLst>
                  <a:path w="54" h="288">
                    <a:moveTo>
                      <a:pt x="54" y="28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54" y="288"/>
                    </a:lnTo>
                    <a:lnTo>
                      <a:pt x="54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566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297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0172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2836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9808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7116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4316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7304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13952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12240" y="2643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84240" y="2643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314120" y="2643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8519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905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93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4502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34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91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758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345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904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962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1732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0490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12352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7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3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10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9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76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1520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110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189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934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5216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632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239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9360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0343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094120" y="4811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12832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1549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2118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676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32524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5188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8032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43756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493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520360" y="4811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50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604240" y="4811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0343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0930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1484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20608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2341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29140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3468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04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43144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5808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1676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7112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599560" y="532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29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83440" y="532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036520" y="58356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87640" y="5835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16144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1880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4532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30076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358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385360" y="58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4134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4706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5264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848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61684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72280" y="58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30600" y="58356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26640" y="28144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891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46880" y="2814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724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2464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08548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110680" y="281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71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198160" y="281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222588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56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516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70960" y="2814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5440" y="2814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4404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724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530800" y="2814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6320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8984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47080" y="281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0288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33120" y="2814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03880" y="3740040"/>
              <a:ext cx="22680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143" y="14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3" y="144"/>
                  </a:lnTo>
                  <a:lnTo>
                    <a:pt x="143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6616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37800" y="3784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30680" y="3852720"/>
              <a:ext cx="11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997880" y="3784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6808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23520" y="378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91500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98520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40640" y="4297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39320" y="58356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0952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66400" y="58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97880" y="53262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6808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23520" y="532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15160" y="5848200"/>
              <a:ext cx="142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36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425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66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521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28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820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49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95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3656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7800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190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2348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988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48400" y="2941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6928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2652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8232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10400" y="2941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69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950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252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9004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5844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8652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29415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39160" y="2941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23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50400" y="2941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836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2504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664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079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9932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695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267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9512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3656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78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90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900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54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15280" y="3070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358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160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48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7404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363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615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8816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7420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40440" y="3070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2684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58160" y="307008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50680" y="3070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728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45720" y="307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26040" y="38322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68920" y="383220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1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38560" y="390852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38720" y="42879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45120" y="3852720"/>
              <a:ext cx="115920" cy="4572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81600" y="49230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25"/>
                  </a:moveTo>
                  <a:lnTo>
                    <a:pt x="15" y="27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786200" y="3852720"/>
              <a:ext cx="115920" cy="10828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38560" y="5300640"/>
              <a:ext cx="4320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2" y="27"/>
                  </a:move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057640" y="3922560"/>
              <a:ext cx="3240" cy="13986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44960" y="425124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46600" y="4138560"/>
              <a:ext cx="85680" cy="457200"/>
            </a:xfrm>
            <a:custGeom>
              <a:avLst/>
              <a:gdLst/>
              <a:ahLst/>
              <a:rect l="l" t="t" r="r" b="b"/>
              <a:pathLst>
                <a:path w="54" h="288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54" y="288"/>
                  </a:lnTo>
                  <a:lnTo>
                    <a:pt x="54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4660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71960" y="4653000"/>
              <a:ext cx="17316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6" y="142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7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07240" y="4297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78880" y="4297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05160" y="362592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89080" y="1244520"/>
            <a:ext cx="8548920" cy="4349520"/>
            <a:chOff x="289080" y="1244520"/>
            <a:chExt cx="8548920" cy="4349520"/>
          </a:xfrm>
        </p:grpSpPr>
        <p:grpSp>
          <p:nvGrpSpPr>
            <p:cNvPr id="1023" name=""/>
            <p:cNvGrpSpPr/>
            <p:nvPr/>
          </p:nvGrpSpPr>
          <p:grpSpPr>
            <a:xfrm>
              <a:off x="289080" y="1244520"/>
              <a:ext cx="8548920" cy="4240800"/>
              <a:chOff x="289080" y="1244520"/>
              <a:chExt cx="8548920" cy="4240800"/>
            </a:xfrm>
          </p:grpSpPr>
          <p:sp>
            <p:nvSpPr>
              <p:cNvPr id="1024" name=""/>
              <p:cNvSpPr/>
              <p:nvPr/>
            </p:nvSpPr>
            <p:spPr>
              <a:xfrm>
                <a:off x="3242520" y="1940400"/>
                <a:ext cx="84420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142240" y="4064040"/>
                <a:ext cx="53280" cy="48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23"/>
                    </a:moveTo>
                    <a:lnTo>
                      <a:pt x="25" y="23"/>
                    </a:lnTo>
                    <a:lnTo>
                      <a:pt x="14" y="0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142240" y="324900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5"/>
                    </a:moveTo>
                    <a:lnTo>
                      <a:pt x="25" y="25"/>
                    </a:lnTo>
                    <a:lnTo>
                      <a:pt x="14" y="0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04240" y="5146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25" y="25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52840" y="2287080"/>
                <a:ext cx="2014920" cy="2887560"/>
              </a:xfrm>
              <a:custGeom>
                <a:avLst/>
                <a:gdLst/>
                <a:ahLst/>
                <a:rect l="l" t="t" r="r" b="b"/>
                <a:pathLst>
                  <a:path w="947" h="1357">
                    <a:moveTo>
                      <a:pt x="947" y="0"/>
                    </a:moveTo>
                    <a:lnTo>
                      <a:pt x="947" y="1357"/>
                    </a:lnTo>
                    <a:lnTo>
                      <a:pt x="0" y="135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31960" y="2287080"/>
                <a:ext cx="231480" cy="36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266160" y="1940400"/>
                <a:ext cx="454680" cy="3079080"/>
              </a:xfrm>
              <a:custGeom>
                <a:avLst/>
                <a:gdLst/>
                <a:ahLst/>
                <a:rect l="l" t="t" r="r" b="b"/>
                <a:pathLst>
                  <a:path w="214" h="1447">
                    <a:moveTo>
                      <a:pt x="212" y="0"/>
                    </a:moveTo>
                    <a:lnTo>
                      <a:pt x="214" y="1447"/>
                    </a:lnTo>
                    <a:lnTo>
                      <a:pt x="0" y="144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7800" y="4100400"/>
                <a:ext cx="280800" cy="801720"/>
              </a:xfrm>
              <a:custGeom>
                <a:avLst/>
                <a:gdLst/>
                <a:ahLst/>
                <a:rect l="l" t="t" r="r" b="b"/>
                <a:pathLst>
                  <a:path w="132" h="377">
                    <a:moveTo>
                      <a:pt x="0" y="0"/>
                    </a:moveTo>
                    <a:lnTo>
                      <a:pt x="2" y="52"/>
                    </a:lnTo>
                    <a:lnTo>
                      <a:pt x="71" y="52"/>
                    </a:lnTo>
                    <a:lnTo>
                      <a:pt x="71" y="377"/>
                    </a:lnTo>
                    <a:lnTo>
                      <a:pt x="132" y="377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7800" y="3285360"/>
                <a:ext cx="329760" cy="1540440"/>
              </a:xfrm>
              <a:custGeom>
                <a:avLst/>
                <a:gdLst/>
                <a:ahLst/>
                <a:rect l="l" t="t" r="r" b="b"/>
                <a:pathLst>
                  <a:path w="155" h="724">
                    <a:moveTo>
                      <a:pt x="0" y="0"/>
                    </a:moveTo>
                    <a:lnTo>
                      <a:pt x="2" y="52"/>
                    </a:lnTo>
                    <a:lnTo>
                      <a:pt x="101" y="52"/>
                    </a:lnTo>
                    <a:lnTo>
                      <a:pt x="101" y="724"/>
                    </a:lnTo>
                    <a:lnTo>
                      <a:pt x="155" y="724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1317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69920" y="33508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  <a:lnTo>
                      <a:pt x="90" y="2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9080" y="3125520"/>
                <a:ext cx="195840" cy="542160"/>
              </a:xfrm>
              <a:custGeom>
                <a:avLst/>
                <a:gdLst/>
                <a:ahLst/>
                <a:rect l="l" t="t" r="r" b="b"/>
                <a:pathLst>
                  <a:path w="92" h="255">
                    <a:moveTo>
                      <a:pt x="90" y="255"/>
                    </a:moveTo>
                    <a:lnTo>
                      <a:pt x="92" y="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92" y="255"/>
                    </a:lnTo>
                    <a:lnTo>
                      <a:pt x="92" y="2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5720" y="3338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7720" y="3338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39720" y="2791440"/>
                <a:ext cx="655560" cy="1210680"/>
              </a:xfrm>
              <a:custGeom>
                <a:avLst/>
                <a:gdLst/>
                <a:ahLst/>
                <a:rect l="l" t="t" r="r" b="b"/>
                <a:pathLst>
                  <a:path w="308" h="569">
                    <a:moveTo>
                      <a:pt x="308" y="56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569"/>
                    </a:lnTo>
                    <a:lnTo>
                      <a:pt x="308" y="569"/>
                    </a:lnTo>
                    <a:lnTo>
                      <a:pt x="308" y="56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568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0100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499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79840" y="3276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9151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973440" y="3276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026360" y="3276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55520" y="32767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07568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132920" y="3276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188720" y="327672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8264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6724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925200" y="3395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014120" y="3395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071360" y="33958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103040" y="3395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  <a:lnTo>
                      <a:pt x="309" y="5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991200" y="2751120"/>
                <a:ext cx="657360" cy="1215000"/>
              </a:xfrm>
              <a:custGeom>
                <a:avLst/>
                <a:gdLst/>
                <a:ahLst/>
                <a:rect l="l" t="t" r="r" b="b"/>
                <a:pathLst>
                  <a:path w="309" h="571">
                    <a:moveTo>
                      <a:pt x="309" y="56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571"/>
                    </a:lnTo>
                    <a:lnTo>
                      <a:pt x="309" y="571"/>
                    </a:lnTo>
                    <a:lnTo>
                      <a:pt x="309" y="5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6992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869920" y="36597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12280" y="354492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1228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555160" y="373644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5269680" y="3762000"/>
                <a:ext cx="30636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47260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472600" y="371700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0600" y="3395880"/>
                <a:ext cx="11664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52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530200" y="3259800"/>
                <a:ext cx="19512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4" y="31"/>
                    </a:lnTo>
                    <a:lnTo>
                      <a:pt x="5" y="25"/>
                    </a:lnTo>
                    <a:lnTo>
                      <a:pt x="9" y="20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1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2" y="39"/>
                    </a:lnTo>
                    <a:lnTo>
                      <a:pt x="92" y="46"/>
                    </a:lnTo>
                    <a:lnTo>
                      <a:pt x="92" y="228"/>
                    </a:lnTo>
                    <a:lnTo>
                      <a:pt x="92" y="234"/>
                    </a:lnTo>
                    <a:lnTo>
                      <a:pt x="90" y="242"/>
                    </a:lnTo>
                    <a:lnTo>
                      <a:pt x="86" y="247"/>
                    </a:lnTo>
                    <a:lnTo>
                      <a:pt x="82" y="255"/>
                    </a:lnTo>
                    <a:lnTo>
                      <a:pt x="78" y="259"/>
                    </a:lnTo>
                    <a:lnTo>
                      <a:pt x="73" y="265"/>
                    </a:lnTo>
                    <a:lnTo>
                      <a:pt x="67" y="268"/>
                    </a:lnTo>
                    <a:lnTo>
                      <a:pt x="61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40" y="272"/>
                    </a:lnTo>
                    <a:lnTo>
                      <a:pt x="32" y="270"/>
                    </a:lnTo>
                    <a:lnTo>
                      <a:pt x="25" y="268"/>
                    </a:lnTo>
                    <a:lnTo>
                      <a:pt x="19" y="265"/>
                    </a:lnTo>
                    <a:lnTo>
                      <a:pt x="15" y="259"/>
                    </a:lnTo>
                    <a:lnTo>
                      <a:pt x="9" y="255"/>
                    </a:lnTo>
                    <a:lnTo>
                      <a:pt x="5" y="247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2" y="228"/>
                    </a:lnTo>
                    <a:lnTo>
                      <a:pt x="2" y="46"/>
                    </a:lnTo>
                    <a:lnTo>
                      <a:pt x="2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4200" y="347688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6"/>
                    </a:lnTo>
                    <a:lnTo>
                      <a:pt x="2" y="31"/>
                    </a:lnTo>
                    <a:lnTo>
                      <a:pt x="5" y="23"/>
                    </a:lnTo>
                    <a:lnTo>
                      <a:pt x="9" y="17"/>
                    </a:lnTo>
                    <a:lnTo>
                      <a:pt x="13" y="13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3"/>
                    </a:lnTo>
                    <a:lnTo>
                      <a:pt x="88" y="31"/>
                    </a:lnTo>
                    <a:lnTo>
                      <a:pt x="90" y="36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3"/>
                    </a:lnTo>
                    <a:lnTo>
                      <a:pt x="88" y="239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2"/>
                    </a:lnTo>
                    <a:lnTo>
                      <a:pt x="67" y="266"/>
                    </a:lnTo>
                    <a:lnTo>
                      <a:pt x="59" y="268"/>
                    </a:lnTo>
                    <a:lnTo>
                      <a:pt x="53" y="270"/>
                    </a:lnTo>
                    <a:lnTo>
                      <a:pt x="46" y="272"/>
                    </a:lnTo>
                    <a:lnTo>
                      <a:pt x="38" y="270"/>
                    </a:lnTo>
                    <a:lnTo>
                      <a:pt x="30" y="268"/>
                    </a:lnTo>
                    <a:lnTo>
                      <a:pt x="25" y="266"/>
                    </a:lnTo>
                    <a:lnTo>
                      <a:pt x="19" y="262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39"/>
                    </a:lnTo>
                    <a:lnTo>
                      <a:pt x="2" y="233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4200" y="435996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9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9" y="8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8" y="14"/>
                    </a:lnTo>
                    <a:lnTo>
                      <a:pt x="82" y="18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9"/>
                    </a:lnTo>
                    <a:lnTo>
                      <a:pt x="92" y="44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2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9"/>
                    </a:lnTo>
                    <a:lnTo>
                      <a:pt x="73" y="263"/>
                    </a:lnTo>
                    <a:lnTo>
                      <a:pt x="67" y="266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6"/>
                    </a:lnTo>
                    <a:lnTo>
                      <a:pt x="19" y="263"/>
                    </a:lnTo>
                    <a:lnTo>
                      <a:pt x="13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5688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69920" y="304056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927520" y="2616840"/>
                <a:ext cx="774360" cy="1213200"/>
              </a:xfrm>
              <a:custGeom>
                <a:avLst/>
                <a:gdLst/>
                <a:ahLst/>
                <a:rect l="l" t="t" r="r" b="b"/>
                <a:pathLst>
                  <a:path w="364" h="570">
                    <a:moveTo>
                      <a:pt x="364" y="570"/>
                    </a:moveTo>
                    <a:lnTo>
                      <a:pt x="364" y="0"/>
                    </a:lnTo>
                    <a:lnTo>
                      <a:pt x="0" y="0"/>
                    </a:lnTo>
                    <a:lnTo>
                      <a:pt x="0" y="570"/>
                    </a:lnTo>
                    <a:lnTo>
                      <a:pt x="364" y="570"/>
                    </a:lnTo>
                    <a:lnTo>
                      <a:pt x="364" y="5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94920" y="3163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672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248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82480" y="3163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30768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8440" y="3163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388680" y="3163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445920" y="3163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477600" y="31636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48280" y="3549240"/>
                <a:ext cx="6489720" cy="1936080"/>
              </a:xfrm>
              <a:custGeom>
                <a:avLst/>
                <a:gdLst/>
                <a:ahLst/>
                <a:rect l="l" t="t" r="r" b="b"/>
                <a:pathLst>
                  <a:path w="3050" h="910">
                    <a:moveTo>
                      <a:pt x="253" y="65"/>
                    </a:moveTo>
                    <a:lnTo>
                      <a:pt x="0" y="65"/>
                    </a:lnTo>
                    <a:lnTo>
                      <a:pt x="0" y="910"/>
                    </a:lnTo>
                    <a:lnTo>
                      <a:pt x="3050" y="910"/>
                    </a:lnTo>
                    <a:lnTo>
                      <a:pt x="3050" y="0"/>
                    </a:lnTo>
                    <a:lnTo>
                      <a:pt x="299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91080" y="2759760"/>
                <a:ext cx="995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4918320" y="3762000"/>
                <a:ext cx="117000" cy="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23520" y="3602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08480" y="36021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141880" y="3704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199480" y="3704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141880" y="380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583120" y="33868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668080" y="338688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597880" y="3489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655480" y="348948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597520" y="3593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91080" y="3067920"/>
                <a:ext cx="1000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70160" y="35449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4340160" y="3570480"/>
                <a:ext cx="695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701520" y="3570480"/>
                <a:ext cx="380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810840" y="3333960"/>
                <a:ext cx="50400" cy="48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4" y="23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17000" y="1488960"/>
                <a:ext cx="425520" cy="904320"/>
              </a:xfrm>
              <a:custGeom>
                <a:avLst/>
                <a:gdLst/>
                <a:ahLst/>
                <a:rect l="l" t="t" r="r" b="b"/>
                <a:pathLst>
                  <a:path w="200" h="425">
                    <a:moveTo>
                      <a:pt x="100" y="425"/>
                    </a:moveTo>
                    <a:lnTo>
                      <a:pt x="115" y="423"/>
                    </a:lnTo>
                    <a:lnTo>
                      <a:pt x="131" y="415"/>
                    </a:lnTo>
                    <a:lnTo>
                      <a:pt x="146" y="402"/>
                    </a:lnTo>
                    <a:lnTo>
                      <a:pt x="160" y="384"/>
                    </a:lnTo>
                    <a:lnTo>
                      <a:pt x="171" y="363"/>
                    </a:lnTo>
                    <a:lnTo>
                      <a:pt x="181" y="339"/>
                    </a:lnTo>
                    <a:lnTo>
                      <a:pt x="188" y="310"/>
                    </a:lnTo>
                    <a:lnTo>
                      <a:pt x="196" y="279"/>
                    </a:lnTo>
                    <a:lnTo>
                      <a:pt x="200" y="247"/>
                    </a:lnTo>
                    <a:lnTo>
                      <a:pt x="200" y="212"/>
                    </a:lnTo>
                    <a:lnTo>
                      <a:pt x="200" y="178"/>
                    </a:lnTo>
                    <a:lnTo>
                      <a:pt x="196" y="145"/>
                    </a:lnTo>
                    <a:lnTo>
                      <a:pt x="188" y="115"/>
                    </a:lnTo>
                    <a:lnTo>
                      <a:pt x="181" y="88"/>
                    </a:lnTo>
                    <a:lnTo>
                      <a:pt x="171" y="63"/>
                    </a:lnTo>
                    <a:lnTo>
                      <a:pt x="160" y="42"/>
                    </a:lnTo>
                    <a:lnTo>
                      <a:pt x="146" y="25"/>
                    </a:lnTo>
                    <a:lnTo>
                      <a:pt x="131" y="11"/>
                    </a:lnTo>
                    <a:lnTo>
                      <a:pt x="115" y="4"/>
                    </a:lnTo>
                    <a:lnTo>
                      <a:pt x="100" y="0"/>
                    </a:lnTo>
                    <a:lnTo>
                      <a:pt x="83" y="4"/>
                    </a:lnTo>
                    <a:lnTo>
                      <a:pt x="68" y="11"/>
                    </a:lnTo>
                    <a:lnTo>
                      <a:pt x="54" y="25"/>
                    </a:lnTo>
                    <a:lnTo>
                      <a:pt x="41" y="42"/>
                    </a:lnTo>
                    <a:lnTo>
                      <a:pt x="29" y="63"/>
                    </a:lnTo>
                    <a:lnTo>
                      <a:pt x="20" y="88"/>
                    </a:lnTo>
                    <a:lnTo>
                      <a:pt x="12" y="115"/>
                    </a:lnTo>
                    <a:lnTo>
                      <a:pt x="4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4" y="279"/>
                    </a:lnTo>
                    <a:lnTo>
                      <a:pt x="12" y="310"/>
                    </a:lnTo>
                    <a:lnTo>
                      <a:pt x="20" y="339"/>
                    </a:lnTo>
                    <a:lnTo>
                      <a:pt x="29" y="363"/>
                    </a:lnTo>
                    <a:lnTo>
                      <a:pt x="41" y="384"/>
                    </a:lnTo>
                    <a:lnTo>
                      <a:pt x="54" y="402"/>
                    </a:lnTo>
                    <a:lnTo>
                      <a:pt x="68" y="415"/>
                    </a:lnTo>
                    <a:lnTo>
                      <a:pt x="83" y="423"/>
                    </a:lnTo>
                    <a:lnTo>
                      <a:pt x="100" y="425"/>
                    </a:lnTo>
                    <a:lnTo>
                      <a:pt x="100" y="42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859120" y="1882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93580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99304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049920" y="1882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077640" y="1882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108960" y="1882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168360" y="1882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742360" y="3297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12200" y="329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70160" y="329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5080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893120" y="373644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25"/>
                    </a:moveTo>
                    <a:lnTo>
                      <a:pt x="14" y="25"/>
                    </a:lnTo>
                    <a:lnTo>
                      <a:pt x="16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317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389240" y="33703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295640" y="3395880"/>
                <a:ext cx="11016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070160" y="2731680"/>
                <a:ext cx="52920" cy="51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2" y="24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3705840" y="2755440"/>
                <a:ext cx="3762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070160" y="4164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05920" y="2759760"/>
                <a:ext cx="2081160" cy="1434240"/>
              </a:xfrm>
              <a:custGeom>
                <a:avLst/>
                <a:gdLst/>
                <a:ahLst/>
                <a:rect l="l" t="t" r="r" b="b"/>
                <a:pathLst>
                  <a:path w="978" h="674">
                    <a:moveTo>
                      <a:pt x="978" y="672"/>
                    </a:moveTo>
                    <a:lnTo>
                      <a:pt x="0" y="674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17672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447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1317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193640" y="188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131720" y="1418400"/>
                <a:ext cx="208440" cy="34668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98" y="163"/>
                    </a:lnTo>
                    <a:lnTo>
                      <a:pt x="98" y="163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159440" y="15339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257360" y="1533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07016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070160" y="156564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76560" y="1591200"/>
                <a:ext cx="110160" cy="699480"/>
              </a:xfrm>
              <a:custGeom>
                <a:avLst/>
                <a:gdLst/>
                <a:ahLst/>
                <a:rect l="l" t="t" r="r" b="b"/>
                <a:pathLst>
                  <a:path w="52" h="329">
                    <a:moveTo>
                      <a:pt x="52" y="0"/>
                    </a:moveTo>
                    <a:lnTo>
                      <a:pt x="0" y="1"/>
                    </a:lnTo>
                    <a:lnTo>
                      <a:pt x="0" y="329"/>
                    </a:lnTo>
                    <a:lnTo>
                      <a:pt x="52" y="329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2809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6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6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809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6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338520" y="22298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  <a:lnTo>
                      <a:pt x="96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80920" y="1765440"/>
                <a:ext cx="208440" cy="35100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96" y="16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8" y="165"/>
                    </a:lnTo>
                    <a:lnTo>
                      <a:pt x="98" y="165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311160" y="18802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4400" y="188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19360" y="22381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340160" y="1940400"/>
                <a:ext cx="1895760" cy="325080"/>
              </a:xfrm>
              <a:custGeom>
                <a:avLst/>
                <a:gdLst/>
                <a:ahLst/>
                <a:rect l="l" t="t" r="r" b="b"/>
                <a:pathLst>
                  <a:path w="891" h="153">
                    <a:moveTo>
                      <a:pt x="891" y="151"/>
                    </a:moveTo>
                    <a:lnTo>
                      <a:pt x="803" y="153"/>
                    </a:lnTo>
                    <a:lnTo>
                      <a:pt x="803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219360" y="191232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335840" y="1591200"/>
                <a:ext cx="1900080" cy="348840"/>
              </a:xfrm>
              <a:custGeom>
                <a:avLst/>
                <a:gdLst/>
                <a:ahLst/>
                <a:rect l="l" t="t" r="r" b="b"/>
                <a:pathLst>
                  <a:path w="893" h="164">
                    <a:moveTo>
                      <a:pt x="0" y="0"/>
                    </a:moveTo>
                    <a:lnTo>
                      <a:pt x="841" y="1"/>
                    </a:lnTo>
                    <a:lnTo>
                      <a:pt x="841" y="164"/>
                    </a:lnTo>
                    <a:lnTo>
                      <a:pt x="893" y="164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23520" y="2116800"/>
                <a:ext cx="208440" cy="344520"/>
              </a:xfrm>
              <a:custGeom>
                <a:avLst/>
                <a:gdLst/>
                <a:ahLst/>
                <a:rect l="l" t="t" r="r" b="b"/>
                <a:pathLst>
                  <a:path w="98" h="162">
                    <a:moveTo>
                      <a:pt x="98" y="162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98" y="162"/>
                    </a:lnTo>
                    <a:lnTo>
                      <a:pt x="98" y="162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  <a:lnTo>
                      <a:pt x="98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823520" y="2461320"/>
                <a:ext cx="208440" cy="2404440"/>
              </a:xfrm>
              <a:custGeom>
                <a:avLst/>
                <a:gdLst/>
                <a:ahLst/>
                <a:rect l="l" t="t" r="r" b="b"/>
                <a:pathLst>
                  <a:path w="98" h="1130">
                    <a:moveTo>
                      <a:pt x="98" y="1128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1130"/>
                    </a:lnTo>
                    <a:lnTo>
                      <a:pt x="98" y="1130"/>
                    </a:lnTo>
                    <a:lnTo>
                      <a:pt x="98" y="1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851960" y="222984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949160" y="2229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19360" y="3329640"/>
                <a:ext cx="52920" cy="53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" y="25"/>
                    </a:lnTo>
                    <a:lnTo>
                      <a:pt x="25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5950800" y="3353400"/>
                <a:ext cx="28080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766280" y="2261520"/>
                <a:ext cx="52920" cy="52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489360" y="1940400"/>
                <a:ext cx="1289160" cy="350640"/>
              </a:xfrm>
              <a:custGeom>
                <a:avLst/>
                <a:gdLst/>
                <a:ahLst/>
                <a:rect l="l" t="t" r="r" b="b"/>
                <a:pathLst>
                  <a:path w="606" h="165">
                    <a:moveTo>
                      <a:pt x="606" y="163"/>
                    </a:moveTo>
                    <a:lnTo>
                      <a:pt x="554" y="165"/>
                    </a:lnTo>
                    <a:lnTo>
                      <a:pt x="554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761960" y="3329640"/>
                <a:ext cx="57240" cy="532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8031960" y="3353400"/>
                <a:ext cx="4636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7650720" y="3353400"/>
                <a:ext cx="1234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761960" y="405540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" y="25"/>
                    </a:lnTo>
                    <a:lnTo>
                      <a:pt x="27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031960" y="3740400"/>
                <a:ext cx="463680" cy="338760"/>
              </a:xfrm>
              <a:custGeom>
                <a:avLst/>
                <a:gdLst/>
                <a:ahLst/>
                <a:rect l="l" t="t" r="r" b="b"/>
                <a:pathLst>
                  <a:path w="218" h="159">
                    <a:moveTo>
                      <a:pt x="218" y="0"/>
                    </a:moveTo>
                    <a:lnTo>
                      <a:pt x="163" y="0"/>
                    </a:lnTo>
                    <a:lnTo>
                      <a:pt x="163" y="159"/>
                    </a:lnTo>
                    <a:lnTo>
                      <a:pt x="0" y="1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6836040" y="4079160"/>
                <a:ext cx="93780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10112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31360" y="12445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03000" y="1244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328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1280" y="124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8228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25212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20160" y="15951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35148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36440" y="15951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06640" y="1595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130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9796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864200" y="1940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952400" y="19404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983720" y="19404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081280" y="1940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211520" y="32360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8388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342560" y="32360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369560" y="3236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427520" y="323604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3844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22304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281000" y="3357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365960" y="3357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22840" y="33577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59200" y="33577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617080" y="2836080"/>
                <a:ext cx="333720" cy="1040760"/>
              </a:xfrm>
              <a:custGeom>
                <a:avLst/>
                <a:gdLst/>
                <a:ahLst/>
                <a:rect l="l" t="t" r="r" b="b"/>
                <a:pathLst>
                  <a:path w="157" h="489">
                    <a:moveTo>
                      <a:pt x="0" y="0"/>
                    </a:moveTo>
                    <a:lnTo>
                      <a:pt x="0" y="198"/>
                    </a:lnTo>
                    <a:lnTo>
                      <a:pt x="50" y="245"/>
                    </a:lnTo>
                    <a:lnTo>
                      <a:pt x="0" y="291"/>
                    </a:lnTo>
                    <a:lnTo>
                      <a:pt x="0" y="489"/>
                    </a:lnTo>
                    <a:lnTo>
                      <a:pt x="157" y="339"/>
                    </a:lnTo>
                    <a:lnTo>
                      <a:pt x="157" y="1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074200" y="2661840"/>
                <a:ext cx="195840" cy="578520"/>
              </a:xfrm>
              <a:custGeom>
                <a:avLst/>
                <a:gdLst/>
                <a:ahLst/>
                <a:rect l="l" t="t" r="r" b="b"/>
                <a:pathLst>
                  <a:path w="92" h="272">
                    <a:moveTo>
                      <a:pt x="0" y="44"/>
                    </a:moveTo>
                    <a:lnTo>
                      <a:pt x="2" y="38"/>
                    </a:lnTo>
                    <a:lnTo>
                      <a:pt x="2" y="31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10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7" y="6"/>
                    </a:lnTo>
                    <a:lnTo>
                      <a:pt x="73" y="10"/>
                    </a:lnTo>
                    <a:lnTo>
                      <a:pt x="78" y="13"/>
                    </a:lnTo>
                    <a:lnTo>
                      <a:pt x="82" y="19"/>
                    </a:lnTo>
                    <a:lnTo>
                      <a:pt x="86" y="25"/>
                    </a:lnTo>
                    <a:lnTo>
                      <a:pt x="88" y="31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226"/>
                    </a:lnTo>
                    <a:lnTo>
                      <a:pt x="90" y="234"/>
                    </a:lnTo>
                    <a:lnTo>
                      <a:pt x="88" y="241"/>
                    </a:lnTo>
                    <a:lnTo>
                      <a:pt x="86" y="247"/>
                    </a:lnTo>
                    <a:lnTo>
                      <a:pt x="82" y="253"/>
                    </a:lnTo>
                    <a:lnTo>
                      <a:pt x="78" y="258"/>
                    </a:lnTo>
                    <a:lnTo>
                      <a:pt x="73" y="264"/>
                    </a:lnTo>
                    <a:lnTo>
                      <a:pt x="67" y="268"/>
                    </a:lnTo>
                    <a:lnTo>
                      <a:pt x="59" y="270"/>
                    </a:lnTo>
                    <a:lnTo>
                      <a:pt x="53" y="272"/>
                    </a:lnTo>
                    <a:lnTo>
                      <a:pt x="46" y="272"/>
                    </a:lnTo>
                    <a:lnTo>
                      <a:pt x="38" y="272"/>
                    </a:lnTo>
                    <a:lnTo>
                      <a:pt x="30" y="270"/>
                    </a:lnTo>
                    <a:lnTo>
                      <a:pt x="25" y="268"/>
                    </a:lnTo>
                    <a:lnTo>
                      <a:pt x="19" y="264"/>
                    </a:lnTo>
                    <a:lnTo>
                      <a:pt x="13" y="258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23520" y="2787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208480" y="27871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141880" y="288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199480" y="2889360"/>
                <a:ext cx="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141880" y="29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  <a:lnTo>
                      <a:pt x="29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444640" y="4787640"/>
                <a:ext cx="774360" cy="465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290" y="217"/>
                    </a:moveTo>
                    <a:lnTo>
                      <a:pt x="303" y="217"/>
                    </a:lnTo>
                    <a:lnTo>
                      <a:pt x="315" y="215"/>
                    </a:lnTo>
                    <a:lnTo>
                      <a:pt x="324" y="211"/>
                    </a:lnTo>
                    <a:lnTo>
                      <a:pt x="334" y="203"/>
                    </a:lnTo>
                    <a:lnTo>
                      <a:pt x="343" y="198"/>
                    </a:lnTo>
                    <a:lnTo>
                      <a:pt x="349" y="188"/>
                    </a:lnTo>
                    <a:lnTo>
                      <a:pt x="357" y="178"/>
                    </a:lnTo>
                    <a:lnTo>
                      <a:pt x="361" y="169"/>
                    </a:lnTo>
                    <a:lnTo>
                      <a:pt x="363" y="157"/>
                    </a:lnTo>
                    <a:lnTo>
                      <a:pt x="364" y="146"/>
                    </a:lnTo>
                    <a:lnTo>
                      <a:pt x="364" y="73"/>
                    </a:lnTo>
                    <a:lnTo>
                      <a:pt x="363" y="62"/>
                    </a:lnTo>
                    <a:lnTo>
                      <a:pt x="361" y="50"/>
                    </a:lnTo>
                    <a:lnTo>
                      <a:pt x="357" y="39"/>
                    </a:lnTo>
                    <a:lnTo>
                      <a:pt x="349" y="29"/>
                    </a:lnTo>
                    <a:lnTo>
                      <a:pt x="343" y="21"/>
                    </a:lnTo>
                    <a:lnTo>
                      <a:pt x="334" y="14"/>
                    </a:lnTo>
                    <a:lnTo>
                      <a:pt x="324" y="8"/>
                    </a:lnTo>
                    <a:lnTo>
                      <a:pt x="315" y="4"/>
                    </a:lnTo>
                    <a:lnTo>
                      <a:pt x="303" y="0"/>
                    </a:lnTo>
                    <a:lnTo>
                      <a:pt x="292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9" y="14"/>
                    </a:lnTo>
                    <a:lnTo>
                      <a:pt x="21" y="21"/>
                    </a:lnTo>
                    <a:lnTo>
                      <a:pt x="14" y="29"/>
                    </a:lnTo>
                    <a:lnTo>
                      <a:pt x="8" y="39"/>
                    </a:lnTo>
                    <a:lnTo>
                      <a:pt x="4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4" y="169"/>
                    </a:lnTo>
                    <a:lnTo>
                      <a:pt x="8" y="178"/>
                    </a:lnTo>
                    <a:lnTo>
                      <a:pt x="14" y="188"/>
                    </a:lnTo>
                    <a:lnTo>
                      <a:pt x="21" y="198"/>
                    </a:lnTo>
                    <a:lnTo>
                      <a:pt x="29" y="203"/>
                    </a:lnTo>
                    <a:lnTo>
                      <a:pt x="39" y="211"/>
                    </a:lnTo>
                    <a:lnTo>
                      <a:pt x="50" y="215"/>
                    </a:lnTo>
                    <a:lnTo>
                      <a:pt x="62" y="217"/>
                    </a:lnTo>
                    <a:lnTo>
                      <a:pt x="73" y="219"/>
                    </a:lnTo>
                    <a:lnTo>
                      <a:pt x="292" y="219"/>
                    </a:lnTo>
                    <a:lnTo>
                      <a:pt x="292" y="219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76400" y="48981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635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69304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30120" y="48981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028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0800" y="48981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9644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955840" y="48981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9742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31800" y="489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93720" y="4898160"/>
                <a:ext cx="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420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799600" y="5021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857200" y="50216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75920" y="502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12640" y="392760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12640" y="4540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12640" y="4728240"/>
              <a:ext cx="5328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4804200" y="3953160"/>
              <a:ext cx="23184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12640" y="3116880"/>
              <a:ext cx="5328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55520" y="2923200"/>
              <a:ext cx="57240" cy="511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2" y="24"/>
                  </a:lnTo>
                  <a:lnTo>
                    <a:pt x="27" y="13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5270040" y="2950920"/>
              <a:ext cx="306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12640" y="292320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04200" y="2950920"/>
              <a:ext cx="231840" cy="2534400"/>
            </a:xfrm>
            <a:custGeom>
              <a:avLst/>
              <a:gdLst/>
              <a:ahLst/>
              <a:rect l="l" t="t" r="r" b="b"/>
              <a:pathLst>
                <a:path w="109" h="1191">
                  <a:moveTo>
                    <a:pt x="109" y="0"/>
                  </a:moveTo>
                  <a:lnTo>
                    <a:pt x="0" y="0"/>
                  </a:lnTo>
                  <a:lnTo>
                    <a:pt x="0" y="11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12640" y="2731680"/>
              <a:ext cx="5328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4340520" y="2755440"/>
              <a:ext cx="69552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781160" y="3927600"/>
              <a:ext cx="4860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54920" y="3395880"/>
              <a:ext cx="23580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91080" y="1940400"/>
              <a:ext cx="2196000" cy="2819880"/>
            </a:xfrm>
            <a:custGeom>
              <a:avLst/>
              <a:gdLst/>
              <a:ahLst/>
              <a:rect l="l" t="t" r="r" b="b"/>
              <a:pathLst>
                <a:path w="1032" h="1325">
                  <a:moveTo>
                    <a:pt x="1032" y="1323"/>
                  </a:moveTo>
                  <a:lnTo>
                    <a:pt x="0" y="1325"/>
                  </a:lnTo>
                  <a:lnTo>
                    <a:pt x="0" y="0"/>
                  </a:lnTo>
                  <a:lnTo>
                    <a:pt x="41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70160" y="43556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22920" y="3068280"/>
              <a:ext cx="1963800" cy="1312920"/>
            </a:xfrm>
            <a:custGeom>
              <a:avLst/>
              <a:gdLst/>
              <a:ahLst/>
              <a:rect l="l" t="t" r="r" b="b"/>
              <a:pathLst>
                <a:path w="923" h="617">
                  <a:moveTo>
                    <a:pt x="923" y="617"/>
                  </a:moveTo>
                  <a:lnTo>
                    <a:pt x="0" y="617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7016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91080" y="4564080"/>
              <a:ext cx="220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70160" y="47322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" y="24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867680" y="454068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1" y="23"/>
                  </a:moveTo>
                  <a:lnTo>
                    <a:pt x="13" y="24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80720" y="2736000"/>
              <a:ext cx="52920" cy="511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2"/>
                  </a:moveTo>
                  <a:lnTo>
                    <a:pt x="14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95560" y="30445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3"/>
                  </a:moveTo>
                  <a:lnTo>
                    <a:pt x="15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62320" y="462168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6489360" y="4649040"/>
              <a:ext cx="128052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6160" y="4649040"/>
              <a:ext cx="338040" cy="293760"/>
            </a:xfrm>
            <a:custGeom>
              <a:avLst/>
              <a:gdLst/>
              <a:ahLst/>
              <a:rect l="l" t="t" r="r" b="b"/>
              <a:pathLst>
                <a:path w="159" h="138">
                  <a:moveTo>
                    <a:pt x="159" y="0"/>
                  </a:moveTo>
                  <a:lnTo>
                    <a:pt x="159" y="138"/>
                  </a:lnTo>
                  <a:lnTo>
                    <a:pt x="0" y="13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79000" y="4626000"/>
              <a:ext cx="48600" cy="48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1840" y="4649040"/>
              <a:ext cx="1883160" cy="449280"/>
            </a:xfrm>
            <a:custGeom>
              <a:avLst/>
              <a:gdLst/>
              <a:ahLst/>
              <a:rect l="l" t="t" r="r" b="b"/>
              <a:pathLst>
                <a:path w="885" h="211">
                  <a:moveTo>
                    <a:pt x="0" y="209"/>
                  </a:moveTo>
                  <a:lnTo>
                    <a:pt x="885" y="211"/>
                  </a:lnTo>
                  <a:lnTo>
                    <a:pt x="885" y="0"/>
                  </a:lnTo>
                  <a:lnTo>
                    <a:pt x="83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27640" y="5068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27640" y="4915440"/>
              <a:ext cx="4896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27640" y="4991760"/>
              <a:ext cx="48960" cy="532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0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30360" y="332964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489720" y="3353400"/>
              <a:ext cx="452880" cy="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11200" y="4055400"/>
              <a:ext cx="50400" cy="529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19040" y="3142440"/>
              <a:ext cx="1917360" cy="2223720"/>
            </a:xfrm>
            <a:custGeom>
              <a:avLst/>
              <a:gdLst/>
              <a:ahLst/>
              <a:rect l="l" t="t" r="r" b="b"/>
              <a:pathLst>
                <a:path w="901" h="1045">
                  <a:moveTo>
                    <a:pt x="901" y="99"/>
                  </a:moveTo>
                  <a:lnTo>
                    <a:pt x="901" y="1045"/>
                  </a:lnTo>
                  <a:lnTo>
                    <a:pt x="0" y="1045"/>
                  </a:lnTo>
                  <a:lnTo>
                    <a:pt x="0" y="0"/>
                  </a:lnTo>
                  <a:lnTo>
                    <a:pt x="5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81160" y="5456160"/>
              <a:ext cx="48600" cy="529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5"/>
                  </a:moveTo>
                  <a:lnTo>
                    <a:pt x="13" y="25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29120" y="3378960"/>
              <a:ext cx="5092200" cy="2215080"/>
            </a:xfrm>
            <a:custGeom>
              <a:avLst/>
              <a:gdLst/>
              <a:ahLst/>
              <a:rect l="l" t="t" r="r" b="b"/>
              <a:pathLst>
                <a:path w="2393" h="1041">
                  <a:moveTo>
                    <a:pt x="2391" y="806"/>
                  </a:moveTo>
                  <a:lnTo>
                    <a:pt x="2393" y="1041"/>
                  </a:lnTo>
                  <a:lnTo>
                    <a:pt x="0" y="1041"/>
                  </a:lnTo>
                  <a:lnTo>
                    <a:pt x="0" y="0"/>
                  </a:lnTo>
                  <a:lnTo>
                    <a:pt x="31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93960" y="5068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25"/>
                  </a:moveTo>
                  <a:lnTo>
                    <a:pt x="15" y="25"/>
                  </a:lnTo>
                  <a:lnTo>
                    <a:pt x="17" y="25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70160" y="1912320"/>
              <a:ext cx="52920" cy="53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378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467720" y="22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53144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61320" y="22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88680" y="22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1768680" y="3242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1751040" y="319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1754280" y="314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1768680" y="3109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1764720" y="3076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1751040" y="302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1754280" y="2972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1768680" y="2931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1772640" y="29073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1751040" y="286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6200000">
              <a:off x="1751040" y="2811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83080" y="503244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421240" y="516636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23680" y="4630320"/>
              <a:ext cx="52920" cy="52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127840" y="4498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12800" y="4498200"/>
              <a:ext cx="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142240" y="460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99840" y="46047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2240" y="4706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261760" y="4649040"/>
              <a:ext cx="96588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718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44852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6412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3036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0020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2396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108200" y="450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74800" y="4506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5904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28496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573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492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68920" y="4506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89080" y="4506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543080" y="45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56576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3000" y="4506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55040" y="4506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25600" y="4506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641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516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015320" y="49474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013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126560" y="49474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219800" y="4947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28856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3126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8756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448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98800" y="49474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16800" y="4947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69720" y="4947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9600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50720" y="4947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685280" y="4947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53320" y="49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718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4488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718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4488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718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4816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486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76320" y="4613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842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86884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89980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97108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00132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7836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356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94280" y="4613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211920" y="461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265200" y="4613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29544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352320" y="4613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389040" y="46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461400" y="461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86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76320" y="44218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42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6884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9980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08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0132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7836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13560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94280" y="44218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211920" y="442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6520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295440" y="442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352320" y="4421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89040" y="4421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61760" y="4421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486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76320" y="4238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42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6884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9980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7108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00132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7836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13560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194280" y="4238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211920" y="423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6520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295440" y="423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52320" y="4238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389040" y="4238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461760" y="4238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86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76320" y="40510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42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6884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980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00132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07836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13560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194280" y="4051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1192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265200" y="4051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95440" y="405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352320" y="4051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89040" y="4051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61040" y="405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344840" y="4751640"/>
              <a:ext cx="672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40520" y="4568400"/>
              <a:ext cx="689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344840" y="4194000"/>
              <a:ext cx="1055160" cy="863640"/>
            </a:xfrm>
            <a:custGeom>
              <a:avLst/>
              <a:gdLst/>
              <a:ahLst/>
              <a:rect l="l" t="t" r="r" b="b"/>
              <a:pathLst>
                <a:path w="496" h="406">
                  <a:moveTo>
                    <a:pt x="0" y="0"/>
                  </a:moveTo>
                  <a:lnTo>
                    <a:pt x="155" y="0"/>
                  </a:lnTo>
                  <a:lnTo>
                    <a:pt x="155" y="406"/>
                  </a:lnTo>
                  <a:lnTo>
                    <a:pt x="496" y="40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340520" y="4381200"/>
              <a:ext cx="1095840" cy="815040"/>
            </a:xfrm>
            <a:custGeom>
              <a:avLst/>
              <a:gdLst/>
              <a:ahLst/>
              <a:rect l="l" t="t" r="r" b="b"/>
              <a:pathLst>
                <a:path w="515" h="383">
                  <a:moveTo>
                    <a:pt x="515" y="381"/>
                  </a:moveTo>
                  <a:lnTo>
                    <a:pt x="111" y="383"/>
                  </a:ln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ad word can still cause a haz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hus, we need a hazard detection unit to “stall” the load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n't always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97200" y="2438280"/>
            <a:ext cx="5371200" cy="3049560"/>
            <a:chOff x="1897200" y="2438280"/>
            <a:chExt cx="5371200" cy="3049560"/>
          </a:xfrm>
        </p:grpSpPr>
        <p:grpSp>
          <p:nvGrpSpPr>
            <p:cNvPr id="1403" name=""/>
            <p:cNvGrpSpPr/>
            <p:nvPr/>
          </p:nvGrpSpPr>
          <p:grpSpPr>
            <a:xfrm>
              <a:off x="1897200" y="2438280"/>
              <a:ext cx="5324400" cy="2949480"/>
              <a:chOff x="1897200" y="2438280"/>
              <a:chExt cx="5324400" cy="2949480"/>
            </a:xfrm>
          </p:grpSpPr>
          <p:sp>
            <p:nvSpPr>
              <p:cNvPr id="1404" name=""/>
              <p:cNvSpPr/>
              <p:nvPr/>
            </p:nvSpPr>
            <p:spPr>
              <a:xfrm>
                <a:off x="5280120" y="3724200"/>
                <a:ext cx="1126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396040" y="3611520"/>
                <a:ext cx="112680" cy="2271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5621400" y="3607920"/>
                <a:ext cx="32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5508360" y="3611520"/>
                <a:ext cx="112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5508360" y="3838680"/>
                <a:ext cx="11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423040" y="3657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49540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554440" y="36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76880" y="4689360"/>
                <a:ext cx="142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732200" y="4191120"/>
                <a:ext cx="14616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91120" y="3665520"/>
                <a:ext cx="142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75320" y="5148360"/>
                <a:ext cx="112680" cy="228600"/>
              </a:xfrm>
              <a:custGeom>
                <a:avLst/>
                <a:gdLst/>
                <a:ahLst/>
                <a:rect l="l" t="t" r="r" b="b"/>
                <a:pathLst>
                  <a:path w="71" h="144">
                    <a:moveTo>
                      <a:pt x="71" y="142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588000" y="5145120"/>
                <a:ext cx="115920" cy="2318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0" y="0"/>
                    </a:moveTo>
                    <a:lnTo>
                      <a:pt x="73" y="2"/>
                    </a:lnTo>
                    <a:lnTo>
                      <a:pt x="73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076720" y="4689360"/>
                <a:ext cx="1159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046920" y="463536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934240" y="4632480"/>
                <a:ext cx="112680" cy="2300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71" y="0"/>
                    </a:moveTo>
                    <a:lnTo>
                      <a:pt x="0" y="2"/>
                    </a:lnTo>
                    <a:lnTo>
                      <a:pt x="0" y="145"/>
                    </a:lnTo>
                    <a:lnTo>
                      <a:pt x="71" y="1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535640" y="4179960"/>
                <a:ext cx="114120" cy="32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535640" y="4307040"/>
                <a:ext cx="3427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079960" y="4808520"/>
                <a:ext cx="343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992400" y="3778200"/>
                <a:ext cx="341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992400" y="3665520"/>
                <a:ext cx="115920" cy="144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793960" y="3097080"/>
                <a:ext cx="115920" cy="228600"/>
              </a:xfrm>
              <a:custGeom>
                <a:avLst/>
                <a:gdLst/>
                <a:ahLst/>
                <a:rect l="l" t="t" r="r" b="b"/>
                <a:pathLst>
                  <a:path w="73" h="144">
                    <a:moveTo>
                      <a:pt x="0" y="142"/>
                    </a:moveTo>
                    <a:lnTo>
                      <a:pt x="73" y="14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681280" y="3094200"/>
                <a:ext cx="112680" cy="231480"/>
              </a:xfrm>
              <a:custGeom>
                <a:avLst/>
                <a:gdLst/>
                <a:ahLst/>
                <a:rect l="l" t="t" r="r" b="b"/>
                <a:pathLst>
                  <a:path w="71" h="146">
                    <a:moveTo>
                      <a:pt x="71" y="0"/>
                    </a:moveTo>
                    <a:lnTo>
                      <a:pt x="0" y="2"/>
                    </a:lnTo>
                    <a:lnTo>
                      <a:pt x="0" y="146"/>
                    </a:lnTo>
                    <a:lnTo>
                      <a:pt x="71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396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767320" y="3139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92600" y="298296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6"/>
                    </a:lnTo>
                    <a:lnTo>
                      <a:pt x="34" y="143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906640" y="3209760"/>
                <a:ext cx="316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492880" y="515772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1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5376960" y="5151240"/>
                <a:ext cx="32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76960" y="515448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76960" y="5381640"/>
                <a:ext cx="122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408640" y="5200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48136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538600" y="520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605560" y="5211720"/>
                <a:ext cx="35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28920" y="3086280"/>
                <a:ext cx="115920" cy="22680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3218040" y="3082680"/>
                <a:ext cx="144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218040" y="3086280"/>
                <a:ext cx="117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218040" y="3313080"/>
                <a:ext cx="117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247920" y="3132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320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374640" y="31320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444840" y="3143160"/>
                <a:ext cx="34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965400" y="3209760"/>
                <a:ext cx="341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451320" y="3265560"/>
                <a:ext cx="341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165480" y="31528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33540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0" y="143"/>
                    </a:moveTo>
                    <a:lnTo>
                      <a:pt x="73" y="143"/>
                    </a:lnTo>
                    <a:lnTo>
                      <a:pt x="73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222720" y="3608280"/>
                <a:ext cx="115920" cy="227160"/>
              </a:xfrm>
              <a:custGeom>
                <a:avLst/>
                <a:gdLst/>
                <a:ahLst/>
                <a:rect l="l" t="t" r="r" b="b"/>
                <a:pathLst>
                  <a:path w="73" h="143">
                    <a:moveTo>
                      <a:pt x="71" y="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28104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308400" y="3654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878280" y="3608280"/>
                <a:ext cx="114120" cy="227160"/>
              </a:xfrm>
              <a:custGeom>
                <a:avLst/>
                <a:gdLst/>
                <a:ahLst/>
                <a:rect l="l" t="t" r="r" b="b"/>
                <a:pathLst>
                  <a:path w="72" h="143">
                    <a:moveTo>
                      <a:pt x="0" y="143"/>
                    </a:moveTo>
                    <a:lnTo>
                      <a:pt x="72" y="143"/>
                    </a:lnTo>
                    <a:lnTo>
                      <a:pt x="72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3765600" y="3604680"/>
                <a:ext cx="14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765600" y="3608280"/>
                <a:ext cx="114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765600" y="3835440"/>
                <a:ext cx="11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334040" y="3495600"/>
                <a:ext cx="172800" cy="452520"/>
              </a:xfrm>
              <a:custGeom>
                <a:avLst/>
                <a:gdLst/>
                <a:ahLst/>
                <a:rect l="l" t="t" r="r" b="b"/>
                <a:pathLst>
                  <a:path w="109" h="285">
                    <a:moveTo>
                      <a:pt x="0" y="0"/>
                    </a:moveTo>
                    <a:lnTo>
                      <a:pt x="0" y="115"/>
                    </a:lnTo>
                    <a:lnTo>
                      <a:pt x="35" y="144"/>
                    </a:lnTo>
                    <a:lnTo>
                      <a:pt x="0" y="170"/>
                    </a:lnTo>
                    <a:lnTo>
                      <a:pt x="0" y="285"/>
                    </a:lnTo>
                    <a:lnTo>
                      <a:pt x="109" y="199"/>
                    </a:lnTo>
                    <a:lnTo>
                      <a:pt x="109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451320" y="3720960"/>
                <a:ext cx="3142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076720" y="3720960"/>
                <a:ext cx="112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706920" y="3665520"/>
                <a:ext cx="5868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0" y="35"/>
                    </a:moveTo>
                    <a:lnTo>
                      <a:pt x="0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6845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757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83032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8602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2259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30192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37464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40164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7702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8433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9160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94452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131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862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45896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48596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5460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92768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00040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02740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9604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468760" y="2608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541480" y="260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568480" y="260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325240" y="24382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38932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411640" y="2438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49516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55060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58084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1468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3484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69352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2052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7344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9360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90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998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952360" y="2438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97900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03156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7908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32360" y="24382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152520" y="2438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10840" y="2438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61960" y="2438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000520" y="3139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021040" y="3139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09340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12220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17944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23308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265120" y="3139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292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3461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4048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43792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495160" y="3139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550600" y="3139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914480" y="3133800"/>
                <a:ext cx="1800" cy="221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97200" y="533700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3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911240" y="26002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778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0127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06964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23640" y="26002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58560" y="2600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216160" y="2600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1840" y="2600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10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96632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0174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075760" y="2720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123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182320" y="2720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210040" y="27208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23164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88880" y="2720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343240" y="27208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91088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666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99980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057040" y="2840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112480" y="2840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49560" y="284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91088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4472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9666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02356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05128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07288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12976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8232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20932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24280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30112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349000" y="2960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378160" y="2960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401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455560" y="2960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513880" y="2960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65000" y="2960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54480" y="2505240"/>
                <a:ext cx="38368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182000" y="248760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0" y="24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999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05380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1124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1664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19672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521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3094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33820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36484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42208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477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504880" y="36543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5347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590560" y="3654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022560" y="2982960"/>
                <a:ext cx="87480" cy="455400"/>
              </a:xfrm>
              <a:custGeom>
                <a:avLst/>
                <a:gdLst/>
                <a:ahLst/>
                <a:rect l="l" t="t" r="r" b="b"/>
                <a:pathLst>
                  <a:path w="55" h="287">
                    <a:moveTo>
                      <a:pt x="54" y="287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5" y="287"/>
                    </a:lnTo>
                    <a:lnTo>
                      <a:pt x="55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56724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10832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649760" y="2982960"/>
                <a:ext cx="85680" cy="45540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56724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0832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649760" y="3495600"/>
                <a:ext cx="85680" cy="455760"/>
              </a:xfrm>
              <a:custGeom>
                <a:avLst/>
                <a:gdLst/>
                <a:ahLst/>
                <a:rect l="l" t="t" r="r" b="b"/>
                <a:pathLst>
                  <a:path w="54" h="287">
                    <a:moveTo>
                      <a:pt x="52" y="285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4" y="287"/>
                    </a:lnTo>
                    <a:lnTo>
                      <a:pt x="54" y="287"/>
                    </a:lnTo>
                    <a:lnTo>
                      <a:pt x="52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92640" y="3495600"/>
                <a:ext cx="84240" cy="455760"/>
              </a:xfrm>
              <a:custGeom>
                <a:avLst/>
                <a:gdLst/>
                <a:ahLst/>
                <a:rect l="l" t="t" r="r" b="b"/>
                <a:pathLst>
                  <a:path w="53" h="287">
                    <a:moveTo>
                      <a:pt x="53" y="285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7"/>
                    </a:lnTo>
                    <a:lnTo>
                      <a:pt x="53" y="287"/>
                    </a:lnTo>
                    <a:lnTo>
                      <a:pt x="53" y="287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934240" y="4121280"/>
                <a:ext cx="1126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159600" y="4118040"/>
                <a:ext cx="324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6043680" y="4121280"/>
                <a:ext cx="115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 flipH="1">
              <a:off x="6043680" y="4349880"/>
              <a:ext cx="115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87828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44"/>
                  </a:moveTo>
                  <a:lnTo>
                    <a:pt x="72" y="144"/>
                  </a:lnTo>
                  <a:lnTo>
                    <a:pt x="72" y="0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65600" y="412128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71" y="0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72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224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4984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19720" y="41212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4307040" y="4118040"/>
              <a:ext cx="144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07040" y="41212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07040" y="4349880"/>
              <a:ext cx="1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3692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09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63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75120" y="400860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8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92800" y="412128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2" y="144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42916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502600" y="4167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62680" y="4167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354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92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992400" y="4233960"/>
              <a:ext cx="3146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18160" y="4233960"/>
              <a:ext cx="312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48000" y="4179960"/>
              <a:ext cx="59040" cy="54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34"/>
                  </a:moveTo>
                  <a:lnTo>
                    <a:pt x="2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32320" y="4233960"/>
              <a:ext cx="401760" cy="17280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2" y="109"/>
                  </a:lnTo>
                  <a:lnTo>
                    <a:pt x="216" y="109"/>
                  </a:lnTo>
                  <a:lnTo>
                    <a:pt x="216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10832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49760" y="400860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6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9264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53" y="2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3408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75320" y="463536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71" y="14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6700680" y="4628880"/>
              <a:ext cx="324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584760" y="4632480"/>
              <a:ext cx="1155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6584760" y="4859280"/>
              <a:ext cx="115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41972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07040" y="4632480"/>
              <a:ext cx="11556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1" y="0"/>
                  </a:moveTo>
                  <a:lnTo>
                    <a:pt x="0" y="2"/>
                  </a:lnTo>
                  <a:lnTo>
                    <a:pt x="0" y="145"/>
                  </a:lnTo>
                  <a:lnTo>
                    <a:pt x="73" y="1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356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9452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960800" y="463536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41"/>
                  </a:moveTo>
                  <a:lnTo>
                    <a:pt x="73" y="143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4848120" y="4628880"/>
              <a:ext cx="18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848120" y="4632480"/>
              <a:ext cx="1159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848120" y="485928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16560" y="4519440"/>
              <a:ext cx="174600" cy="455760"/>
            </a:xfrm>
            <a:custGeom>
              <a:avLst/>
              <a:gdLst/>
              <a:ahLst/>
              <a:rect l="l" t="t" r="r" b="b"/>
              <a:pathLst>
                <a:path w="110" h="287">
                  <a:moveTo>
                    <a:pt x="0" y="0"/>
                  </a:moveTo>
                  <a:lnTo>
                    <a:pt x="2" y="117"/>
                  </a:lnTo>
                  <a:lnTo>
                    <a:pt x="37" y="143"/>
                  </a:lnTo>
                  <a:lnTo>
                    <a:pt x="2" y="170"/>
                  </a:lnTo>
                  <a:lnTo>
                    <a:pt x="2" y="287"/>
                  </a:lnTo>
                  <a:lnTo>
                    <a:pt x="110" y="199"/>
                  </a:lnTo>
                  <a:lnTo>
                    <a:pt x="110" y="88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7060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43680" y="4681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0412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76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633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535640" y="4746600"/>
              <a:ext cx="31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91160" y="4746600"/>
              <a:ext cx="343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59600" y="4746600"/>
              <a:ext cx="31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791240" y="46926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34"/>
                  </a:moveTo>
                  <a:lnTo>
                    <a:pt x="1" y="0"/>
                  </a:ln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73760" y="4746600"/>
              <a:ext cx="401760" cy="174600"/>
            </a:xfrm>
            <a:custGeom>
              <a:avLst/>
              <a:gdLst/>
              <a:ahLst/>
              <a:rect l="l" t="t" r="r" b="b"/>
              <a:pathLst>
                <a:path w="253" h="110">
                  <a:moveTo>
                    <a:pt x="0" y="0"/>
                  </a:moveTo>
                  <a:lnTo>
                    <a:pt x="2" y="110"/>
                  </a:lnTo>
                  <a:lnTo>
                    <a:pt x="217" y="110"/>
                  </a:lnTo>
                  <a:lnTo>
                    <a:pt x="217" y="37"/>
                  </a:lnTo>
                  <a:lnTo>
                    <a:pt x="253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lnTo>
                    <a:pt x="52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64976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2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19264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34080" y="4519440"/>
              <a:ext cx="84240" cy="45576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275520" y="451944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018200" y="5148360"/>
              <a:ext cx="112680" cy="22860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7242120" y="514188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7127640" y="51451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7127640" y="5373720"/>
              <a:ext cx="114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60800" y="514836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848120" y="5145120"/>
              <a:ext cx="115920" cy="23184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050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93740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59440" y="5032440"/>
              <a:ext cx="173160" cy="453960"/>
            </a:xfrm>
            <a:custGeom>
              <a:avLst/>
              <a:gdLst/>
              <a:ahLst/>
              <a:rect l="l" t="t" r="r" b="b"/>
              <a:pathLst>
                <a:path w="109" h="286">
                  <a:moveTo>
                    <a:pt x="0" y="0"/>
                  </a:moveTo>
                  <a:lnTo>
                    <a:pt x="2" y="117"/>
                  </a:lnTo>
                  <a:lnTo>
                    <a:pt x="36" y="144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1204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5120" y="519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45200" y="519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117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1751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076720" y="5261040"/>
              <a:ext cx="30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32600" y="526104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700680" y="526104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611680" y="5315040"/>
              <a:ext cx="3510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32320" y="5203800"/>
              <a:ext cx="4788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36"/>
                  </a:moveTo>
                  <a:lnTo>
                    <a:pt x="2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418440" y="5261040"/>
              <a:ext cx="398160" cy="169920"/>
            </a:xfrm>
            <a:custGeom>
              <a:avLst/>
              <a:gdLst/>
              <a:ahLst/>
              <a:rect l="l" t="t" r="r" b="b"/>
              <a:pathLst>
                <a:path w="251" h="107">
                  <a:moveTo>
                    <a:pt x="0" y="0"/>
                  </a:moveTo>
                  <a:lnTo>
                    <a:pt x="0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1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9264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503244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7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27552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816600" y="503244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71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1020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8292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10992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47856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5516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62436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65604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02144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094520" y="2608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167240" y="26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197480" y="260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998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053800" y="4167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08728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118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729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31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5864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8564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34288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398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25320" y="4167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45556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11000" y="416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999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05380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124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664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967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521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3094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33820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36484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422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477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504880" y="4681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347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056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999800" y="5191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49480" y="51912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072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09988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12688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8556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3956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6980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98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5224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410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437920" y="5191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46492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23600" y="519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197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2"/>
                  </a:moveTo>
                  <a:lnTo>
                    <a:pt x="73" y="144"/>
                  </a:lnTo>
                  <a:lnTo>
                    <a:pt x="73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07040" y="3094200"/>
              <a:ext cx="115560" cy="2314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71" y="0"/>
                  </a:moveTo>
                  <a:lnTo>
                    <a:pt x="0" y="2"/>
                  </a:lnTo>
                  <a:lnTo>
                    <a:pt x="0" y="146"/>
                  </a:lnTo>
                  <a:lnTo>
                    <a:pt x="73" y="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4664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19720" y="31399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35640" y="3209760"/>
              <a:ext cx="11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38680" y="3209760"/>
              <a:ext cx="109440" cy="180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48120" y="30970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71" y="142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076720" y="3090600"/>
              <a:ext cx="180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4963680" y="30942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963680" y="3322800"/>
              <a:ext cx="112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78360" y="3139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5108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06520" y="313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9584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68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922200" y="365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878360" y="4681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95108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06520" y="46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0080" y="364500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7"/>
                  </a:moveTo>
                  <a:lnTo>
                    <a:pt x="17" y="27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4760" y="41702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7"/>
                  </a:moveTo>
                  <a:lnTo>
                    <a:pt x="15" y="29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41720" y="325296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7"/>
                  </a:moveTo>
                  <a:lnTo>
                    <a:pt x="16" y="29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68840" y="318924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6"/>
                  </a:moveTo>
                  <a:lnTo>
                    <a:pt x="17" y="26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210280" y="36990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7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60800" y="3259080"/>
              <a:ext cx="3240" cy="141768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263840" y="3209760"/>
              <a:ext cx="425160" cy="4557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689360" y="3209760"/>
              <a:ext cx="115920" cy="98136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319720" y="466884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27"/>
                  </a:moveTo>
                  <a:lnTo>
                    <a:pt x="17" y="28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29360" y="3708360"/>
              <a:ext cx="114120" cy="98424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38840" y="46562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330800" y="3495600"/>
              <a:ext cx="172800" cy="452520"/>
            </a:xfrm>
            <a:custGeom>
              <a:avLst/>
              <a:gdLst/>
              <a:ahLst/>
              <a:rect l="l" t="t" r="r" b="b"/>
              <a:pathLst>
                <a:path w="109" h="285">
                  <a:moveTo>
                    <a:pt x="0" y="0"/>
                  </a:moveTo>
                  <a:lnTo>
                    <a:pt x="2" y="115"/>
                  </a:lnTo>
                  <a:lnTo>
                    <a:pt x="37" y="144"/>
                  </a:lnTo>
                  <a:lnTo>
                    <a:pt x="2" y="170"/>
                  </a:lnTo>
                  <a:lnTo>
                    <a:pt x="2" y="285"/>
                  </a:lnTo>
                  <a:lnTo>
                    <a:pt x="109" y="199"/>
                  </a:lnTo>
                  <a:lnTo>
                    <a:pt x="109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46520" y="2982960"/>
              <a:ext cx="85680" cy="45540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646520" y="3495600"/>
              <a:ext cx="85680" cy="455760"/>
            </a:xfrm>
            <a:custGeom>
              <a:avLst/>
              <a:gdLst/>
              <a:ahLst/>
              <a:rect l="l" t="t" r="r" b="b"/>
              <a:pathLst>
                <a:path w="54" h="287">
                  <a:moveTo>
                    <a:pt x="54" y="285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4" y="287"/>
                  </a:lnTo>
                  <a:lnTo>
                    <a:pt x="54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71880" y="4008600"/>
              <a:ext cx="174960" cy="453960"/>
            </a:xfrm>
            <a:custGeom>
              <a:avLst/>
              <a:gdLst/>
              <a:ahLst/>
              <a:rect l="l" t="t" r="r" b="b"/>
              <a:pathLst>
                <a:path w="110" h="286">
                  <a:moveTo>
                    <a:pt x="0" y="0"/>
                  </a:moveTo>
                  <a:lnTo>
                    <a:pt x="2" y="115"/>
                  </a:lnTo>
                  <a:lnTo>
                    <a:pt x="37" y="142"/>
                  </a:lnTo>
                  <a:lnTo>
                    <a:pt x="2" y="171"/>
                  </a:lnTo>
                  <a:lnTo>
                    <a:pt x="2" y="286"/>
                  </a:lnTo>
                  <a:lnTo>
                    <a:pt x="110" y="198"/>
                  </a:lnTo>
                  <a:lnTo>
                    <a:pt x="110" y="8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189400" y="4008600"/>
              <a:ext cx="84240" cy="455400"/>
            </a:xfrm>
            <a:custGeom>
              <a:avLst/>
              <a:gdLst/>
              <a:ahLst/>
              <a:rect l="l" t="t" r="r" b="b"/>
              <a:pathLst>
                <a:path w="53" h="287">
                  <a:moveTo>
                    <a:pt x="53" y="286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3" y="287"/>
                  </a:lnTo>
                  <a:lnTo>
                    <a:pt x="53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48000" y="3209760"/>
              <a:ext cx="401760" cy="169920"/>
            </a:xfrm>
            <a:custGeom>
              <a:avLst/>
              <a:gdLst/>
              <a:ahLst/>
              <a:rect l="l" t="t" r="r" b="b"/>
              <a:pathLst>
                <a:path w="253" h="107">
                  <a:moveTo>
                    <a:pt x="0" y="0"/>
                  </a:moveTo>
                  <a:lnTo>
                    <a:pt x="2" y="107"/>
                  </a:lnTo>
                  <a:lnTo>
                    <a:pt x="217" y="107"/>
                  </a:lnTo>
                  <a:lnTo>
                    <a:pt x="217" y="36"/>
                  </a:lnTo>
                  <a:lnTo>
                    <a:pt x="253" y="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506840" y="3720960"/>
              <a:ext cx="138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732200" y="3720960"/>
              <a:ext cx="115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48280" y="4233960"/>
              <a:ext cx="1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273640" y="4233960"/>
              <a:ext cx="119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91240" y="3720960"/>
              <a:ext cx="401400" cy="173160"/>
            </a:xfrm>
            <a:custGeom>
              <a:avLst/>
              <a:gdLst/>
              <a:ahLst/>
              <a:rect l="l" t="t" r="r" b="b"/>
              <a:pathLst>
                <a:path w="253" h="109">
                  <a:moveTo>
                    <a:pt x="0" y="0"/>
                  </a:moveTo>
                  <a:lnTo>
                    <a:pt x="1" y="109"/>
                  </a:lnTo>
                  <a:lnTo>
                    <a:pt x="216" y="109"/>
                  </a:lnTo>
                  <a:lnTo>
                    <a:pt x="216" y="38"/>
                  </a:lnTo>
                  <a:lnTo>
                    <a:pt x="253" y="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888080" y="3654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961160" y="365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848120" y="3608280"/>
              <a:ext cx="228600" cy="22716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144" y="143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44" y="143"/>
                  </a:lnTo>
                  <a:lnTo>
                    <a:pt x="144" y="1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192640" y="3495600"/>
              <a:ext cx="87480" cy="455760"/>
            </a:xfrm>
            <a:custGeom>
              <a:avLst/>
              <a:gdLst/>
              <a:ahLst/>
              <a:rect l="l" t="t" r="r" b="b"/>
              <a:pathLst>
                <a:path w="55" h="287">
                  <a:moveTo>
                    <a:pt x="53" y="285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55" y="287"/>
                  </a:lnTo>
                  <a:lnTo>
                    <a:pt x="55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 can stall the pipeline by keeping an instruction in the sam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449280" y="2168640"/>
            <a:ext cx="8236440" cy="3961080"/>
            <a:chOff x="449280" y="2168640"/>
            <a:chExt cx="8236440" cy="3961080"/>
          </a:xfrm>
        </p:grpSpPr>
        <p:grpSp>
          <p:nvGrpSpPr>
            <p:cNvPr id="1805" name=""/>
            <p:cNvGrpSpPr/>
            <p:nvPr/>
          </p:nvGrpSpPr>
          <p:grpSpPr>
            <a:xfrm>
              <a:off x="449280" y="2168640"/>
              <a:ext cx="7367400" cy="3910680"/>
              <a:chOff x="449280" y="2168640"/>
              <a:chExt cx="7367400" cy="3910680"/>
            </a:xfrm>
          </p:grpSpPr>
          <p:sp>
            <p:nvSpPr>
              <p:cNvPr id="1806" name=""/>
              <p:cNvSpPr/>
              <p:nvPr/>
            </p:nvSpPr>
            <p:spPr>
              <a:xfrm>
                <a:off x="4467240" y="3079080"/>
                <a:ext cx="154080" cy="36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96160" y="2979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24240" y="29790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2360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6320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84024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91512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956880" y="2979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9957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6956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1491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1959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269720" y="2979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348920" y="2979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78800" y="2933280"/>
                <a:ext cx="1800" cy="310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54320" y="6027840"/>
                <a:ext cx="50040" cy="514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1"/>
                    </a:lnTo>
                    <a:lnTo>
                      <a:pt x="11" y="24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50360" y="21686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418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871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65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4016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164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6508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982800" y="21686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503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277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580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73560" y="233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4016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9360" y="233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58600" y="23356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9172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964080" y="233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046160" y="2335680"/>
                <a:ext cx="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503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2740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20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50160" y="2496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27560" y="2496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360" y="2496600"/>
                <a:ext cx="36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92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960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4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300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4116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742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95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193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5788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90468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98208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049760" y="2663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091880" y="2663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11996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00240" y="26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73320" y="2663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344600" y="2663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958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699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502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222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6328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94032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01484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0569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0958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964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4956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200" y="37069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32300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404360" y="37069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958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68880" y="43570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138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545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326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9082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94968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9874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6308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13976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77920" y="4357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21572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29600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958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699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502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222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6328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4032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01484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0569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0958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16964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4956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285200" y="50083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32300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404360" y="5008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95080" y="5745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62760" y="5745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9516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322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700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503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232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1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0047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07856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5704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195200" y="5745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23264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3132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908320" y="3772080"/>
                <a:ext cx="154080" cy="216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045120" y="3594240"/>
                <a:ext cx="1674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377760" y="358488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212880" y="358956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6212880" y="3926160"/>
                <a:ext cx="164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095880" y="3685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19488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273360" y="3685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04360" y="5058720"/>
                <a:ext cx="19116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458600" y="3689640"/>
                <a:ext cx="1864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  <a:lnTo>
                      <a:pt x="77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477560" y="566496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153"/>
                    </a:moveTo>
                    <a:lnTo>
                      <a:pt x="0" y="155"/>
                    </a:ln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645320" y="566496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636520" y="505872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93648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771240" y="4958640"/>
                <a:ext cx="16488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912920" y="4380480"/>
                <a:ext cx="154080" cy="180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912920" y="4550040"/>
                <a:ext cx="458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190840" y="4380480"/>
                <a:ext cx="171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40840" y="5214960"/>
                <a:ext cx="458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91480" y="3844080"/>
                <a:ext cx="453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91480" y="3689640"/>
                <a:ext cx="1540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850040" y="2874600"/>
                <a:ext cx="173880" cy="33696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0" y="153"/>
                    </a:moveTo>
                    <a:lnTo>
                      <a:pt x="80" y="155"/>
                    </a:lnTo>
                    <a:lnTo>
                      <a:pt x="8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678320" y="2874600"/>
                <a:ext cx="17136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773360" y="2974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811520" y="29746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200040" y="2774520"/>
                <a:ext cx="232560" cy="608400"/>
              </a:xfrm>
              <a:custGeom>
                <a:avLst/>
                <a:gdLst/>
                <a:ahLst/>
                <a:rect l="l" t="t" r="r" b="b"/>
                <a:pathLst>
                  <a:path w="107" h="280">
                    <a:moveTo>
                      <a:pt x="0" y="0"/>
                    </a:moveTo>
                    <a:lnTo>
                      <a:pt x="2" y="113"/>
                    </a:lnTo>
                    <a:lnTo>
                      <a:pt x="34" y="140"/>
                    </a:lnTo>
                    <a:lnTo>
                      <a:pt x="2" y="167"/>
                    </a:lnTo>
                    <a:lnTo>
                      <a:pt x="2" y="280"/>
                    </a:lnTo>
                    <a:lnTo>
                      <a:pt x="107" y="195"/>
                    </a:lnTo>
                    <a:lnTo>
                      <a:pt x="107" y="86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019600" y="3079080"/>
                <a:ext cx="3848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82280" y="566928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V="1">
                <a:off x="6012720" y="5664600"/>
                <a:ext cx="432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012720" y="5664960"/>
                <a:ext cx="17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012720" y="6001920"/>
                <a:ext cx="178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067080" y="57693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6680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239520" y="5769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345360" y="5756040"/>
                <a:ext cx="467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586960" y="2878920"/>
                <a:ext cx="16740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2419920" y="2874600"/>
                <a:ext cx="1800" cy="33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419920" y="287892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408760" y="3207240"/>
                <a:ext cx="173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469960" y="2963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6968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649960" y="2963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759040" y="2991960"/>
                <a:ext cx="4366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432600" y="3079080"/>
                <a:ext cx="4410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759040" y="3152880"/>
                <a:ext cx="4453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345760" y="3002760"/>
                <a:ext cx="73800" cy="763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35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12760" y="307908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5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574000" y="3598560"/>
                <a:ext cx="16704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408760" y="3594240"/>
                <a:ext cx="164880" cy="336240"/>
              </a:xfrm>
              <a:custGeom>
                <a:avLst/>
                <a:gdLst/>
                <a:ahLst/>
                <a:rect l="l" t="t" r="r" b="b"/>
                <a:pathLst>
                  <a:path w="76" h="155">
                    <a:moveTo>
                      <a:pt x="76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6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490840" y="36939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526840" y="369396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037040" y="3585240"/>
                <a:ext cx="171360" cy="34956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869280" y="3598560"/>
                <a:ext cx="432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869280" y="393516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321520" y="3589560"/>
                <a:ext cx="336600" cy="332280"/>
              </a:xfrm>
              <a:custGeom>
                <a:avLst/>
                <a:gdLst/>
                <a:ahLst/>
                <a:rect l="l" t="t" r="r" b="b"/>
                <a:pathLst>
                  <a:path w="155" h="153">
                    <a:moveTo>
                      <a:pt x="153" y="153"/>
                    </a:moveTo>
                    <a:lnTo>
                      <a:pt x="155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155" y="153"/>
                    </a:lnTo>
                    <a:lnTo>
                      <a:pt x="155" y="1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382720" y="3689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481000" y="3689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741040" y="3769920"/>
                <a:ext cx="421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873680" y="3769920"/>
                <a:ext cx="458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58120" y="3769920"/>
                <a:ext cx="127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795480" y="3681000"/>
                <a:ext cx="78120" cy="756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254200" y="3769920"/>
                <a:ext cx="53676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2" y="105"/>
                    </a:lnTo>
                    <a:lnTo>
                      <a:pt x="213" y="105"/>
                    </a:lnTo>
                    <a:lnTo>
                      <a:pt x="213" y="34"/>
                    </a:lnTo>
                    <a:lnTo>
                      <a:pt x="247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7200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8201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9191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587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45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502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6496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870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7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2778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37608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4174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86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96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0687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10688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6004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005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450080" y="2168640"/>
              <a:ext cx="7235640" cy="3961080"/>
              <a:chOff x="1450080" y="2168640"/>
              <a:chExt cx="7235640" cy="3961080"/>
            </a:xfrm>
          </p:grpSpPr>
          <p:sp>
            <p:nvSpPr>
              <p:cNvPr id="2007" name=""/>
              <p:cNvSpPr/>
              <p:nvPr/>
            </p:nvSpPr>
            <p:spPr>
              <a:xfrm>
                <a:off x="47988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836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3452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453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44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581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450080" y="21686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5332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564920" y="21686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6779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568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532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84104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87380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94940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9861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05812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208656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16432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23596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303280" y="21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3446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4130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48184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554200" y="21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582280" y="21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657880" y="21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727000" y="21686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828160" y="2268360"/>
                <a:ext cx="5825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8644320" y="2246760"/>
                <a:ext cx="41400" cy="40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73320" y="2774520"/>
                <a:ext cx="11772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99440" y="277452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619080" y="2774520"/>
                <a:ext cx="117000" cy="610560"/>
              </a:xfrm>
              <a:custGeom>
                <a:avLst/>
                <a:gdLst/>
                <a:ahLst/>
                <a:rect l="l" t="t" r="r" b="b"/>
                <a:pathLst>
                  <a:path w="54" h="281">
                    <a:moveTo>
                      <a:pt x="52" y="280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4" y="281"/>
                    </a:lnTo>
                    <a:lnTo>
                      <a:pt x="54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345200" y="277452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8954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45200" y="346608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067000" y="346608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9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790600" y="346608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9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766560" y="42678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7099200" y="4258440"/>
                <a:ext cx="180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6924600" y="4267800"/>
                <a:ext cx="173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6924600" y="4600080"/>
                <a:ext cx="1738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027680" y="4267800"/>
                <a:ext cx="171360" cy="336240"/>
              </a:xfrm>
              <a:custGeom>
                <a:avLst/>
                <a:gdLst/>
                <a:ahLst/>
                <a:rect l="l" t="t" r="r" b="b"/>
                <a:pathLst>
                  <a:path w="79" h="155">
                    <a:moveTo>
                      <a:pt x="0" y="153"/>
                    </a:moveTo>
                    <a:lnTo>
                      <a:pt x="79" y="155"/>
                    </a:lnTo>
                    <a:lnTo>
                      <a:pt x="79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862800" y="4267800"/>
                <a:ext cx="164880" cy="33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962160" y="4361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998160" y="4361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762080" y="426780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4590720" y="4258440"/>
                <a:ext cx="4320" cy="34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590720" y="426780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590720" y="4600080"/>
                <a:ext cx="171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645440" y="4352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74480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823280" y="43524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370840" y="4152600"/>
                <a:ext cx="227880" cy="60156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0" y="0"/>
                    </a:moveTo>
                    <a:lnTo>
                      <a:pt x="0" y="112"/>
                    </a:lnTo>
                    <a:lnTo>
                      <a:pt x="34" y="137"/>
                    </a:lnTo>
                    <a:lnTo>
                      <a:pt x="0" y="164"/>
                    </a:lnTo>
                    <a:lnTo>
                      <a:pt x="0" y="277"/>
                    </a:lnTo>
                    <a:lnTo>
                      <a:pt x="105" y="193"/>
                    </a:lnTo>
                    <a:lnTo>
                      <a:pt x="105" y="8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58080" y="4254480"/>
                <a:ext cx="331920" cy="33696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153" y="153"/>
                    </a:moveTo>
                    <a:lnTo>
                      <a:pt x="153" y="0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153" y="155"/>
                    </a:lnTo>
                    <a:lnTo>
                      <a:pt x="153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1214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219360" y="43570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803640" y="4357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90336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981840" y="4357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191120" y="4450320"/>
                <a:ext cx="42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99080" y="4450320"/>
                <a:ext cx="299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408000" y="4450320"/>
                <a:ext cx="358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519080" y="4376160"/>
                <a:ext cx="75600" cy="738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977800" y="4450320"/>
                <a:ext cx="534240" cy="23040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0"/>
                    </a:moveTo>
                    <a:lnTo>
                      <a:pt x="2" y="106"/>
                    </a:lnTo>
                    <a:lnTo>
                      <a:pt x="213" y="106"/>
                    </a:lnTo>
                    <a:lnTo>
                      <a:pt x="213" y="37"/>
                    </a:lnTo>
                    <a:lnTo>
                      <a:pt x="246" y="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345200" y="4152600"/>
                <a:ext cx="11268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278160" y="4258800"/>
                <a:ext cx="171360" cy="340920"/>
              </a:xfrm>
              <a:custGeom>
                <a:avLst/>
                <a:gdLst/>
                <a:ahLst/>
                <a:rect l="l" t="t" r="r" b="b"/>
                <a:pathLst>
                  <a:path w="79" h="157">
                    <a:moveTo>
                      <a:pt x="0" y="157"/>
                    </a:moveTo>
                    <a:lnTo>
                      <a:pt x="79" y="157"/>
                    </a:lnTo>
                    <a:lnTo>
                      <a:pt x="79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112560" y="4258800"/>
                <a:ext cx="169200" cy="340920"/>
              </a:xfrm>
              <a:custGeom>
                <a:avLst/>
                <a:gdLst/>
                <a:ahLst/>
                <a:rect l="l" t="t" r="r" b="b"/>
                <a:pathLst>
                  <a:path w="78" h="157">
                    <a:moveTo>
                      <a:pt x="76" y="0"/>
                    </a:moveTo>
                    <a:lnTo>
                      <a:pt x="0" y="0"/>
                    </a:lnTo>
                    <a:lnTo>
                      <a:pt x="0" y="157"/>
                    </a:lnTo>
                    <a:lnTo>
                      <a:pt x="78" y="15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201480" y="4367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239640" y="4367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199400" y="4450320"/>
                <a:ext cx="412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458520" y="4450320"/>
                <a:ext cx="1497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08280" y="4152600"/>
                <a:ext cx="110880" cy="605880"/>
              </a:xfrm>
              <a:custGeom>
                <a:avLst/>
                <a:gdLst/>
                <a:ahLst/>
                <a:rect l="l" t="t" r="r" b="b"/>
                <a:pathLst>
                  <a:path w="51" h="279">
                    <a:moveTo>
                      <a:pt x="51" y="277"/>
                    </a:moveTo>
                    <a:lnTo>
                      <a:pt x="51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1" y="279"/>
                    </a:lnTo>
                    <a:lnTo>
                      <a:pt x="51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06700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790600" y="4152600"/>
                <a:ext cx="113040" cy="605880"/>
              </a:xfrm>
              <a:custGeom>
                <a:avLst/>
                <a:gdLst/>
                <a:ahLst/>
                <a:rect l="l" t="t" r="r" b="b"/>
                <a:pathLst>
                  <a:path w="52" h="279">
                    <a:moveTo>
                      <a:pt x="52" y="277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2" y="279"/>
                    </a:lnTo>
                    <a:lnTo>
                      <a:pt x="52" y="279"/>
                    </a:lnTo>
                    <a:lnTo>
                      <a:pt x="52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  <a:lnTo>
                      <a:pt x="51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512040" y="4152600"/>
                <a:ext cx="115200" cy="605880"/>
              </a:xfrm>
              <a:custGeom>
                <a:avLst/>
                <a:gdLst/>
                <a:ahLst/>
                <a:rect l="l" t="t" r="r" b="b"/>
                <a:pathLst>
                  <a:path w="53" h="279">
                    <a:moveTo>
                      <a:pt x="51" y="277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3" y="279"/>
                    </a:lnTo>
                    <a:lnTo>
                      <a:pt x="5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4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520400" y="4950000"/>
                <a:ext cx="165600" cy="33264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74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7853400" y="494100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H="1">
                <a:off x="7677360" y="494604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>
                <a:off x="7677360" y="528264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744800" y="4958640"/>
                <a:ext cx="167400" cy="33696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0" y="153"/>
                    </a:moveTo>
                    <a:lnTo>
                      <a:pt x="77" y="155"/>
                    </a:lnTo>
                    <a:lnTo>
                      <a:pt x="7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577760" y="4958640"/>
                <a:ext cx="167040" cy="33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686120" y="5037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721760" y="503712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77400" y="496332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312160" y="4963320"/>
                <a:ext cx="216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312160" y="4958640"/>
                <a:ext cx="1648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312160" y="529596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090480" y="4832640"/>
                <a:ext cx="232560" cy="604080"/>
              </a:xfrm>
              <a:custGeom>
                <a:avLst/>
                <a:gdLst/>
                <a:ahLst/>
                <a:rect l="l" t="t" r="r" b="b"/>
                <a:pathLst>
                  <a:path w="107" h="278">
                    <a:moveTo>
                      <a:pt x="0" y="0"/>
                    </a:moveTo>
                    <a:lnTo>
                      <a:pt x="2" y="113"/>
                    </a:lnTo>
                    <a:lnTo>
                      <a:pt x="35" y="140"/>
                    </a:lnTo>
                    <a:lnTo>
                      <a:pt x="2" y="167"/>
                    </a:lnTo>
                    <a:lnTo>
                      <a:pt x="2" y="278"/>
                    </a:lnTo>
                    <a:lnTo>
                      <a:pt x="107" y="194"/>
                    </a:lnTo>
                    <a:lnTo>
                      <a:pt x="107" y="8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827760" y="50454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926040" y="50454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571160" y="50346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6705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744320" y="50346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4912560" y="5137200"/>
                <a:ext cx="403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323400" y="5137200"/>
                <a:ext cx="447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125120" y="5137200"/>
                <a:ext cx="378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23240" y="504972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703200" y="5137200"/>
                <a:ext cx="532800" cy="22788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0" y="0"/>
                    </a:moveTo>
                    <a:lnTo>
                      <a:pt x="0" y="105"/>
                    </a:lnTo>
                    <a:lnTo>
                      <a:pt x="211" y="105"/>
                    </a:lnTo>
                    <a:lnTo>
                      <a:pt x="211" y="34"/>
                    </a:lnTo>
                    <a:lnTo>
                      <a:pt x="245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06700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790600" y="4832640"/>
                <a:ext cx="11304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512040" y="4832640"/>
                <a:ext cx="115200" cy="608400"/>
              </a:xfrm>
              <a:custGeom>
                <a:avLst/>
                <a:gdLst/>
                <a:ahLst/>
                <a:rect l="l" t="t" r="r" b="b"/>
                <a:pathLst>
                  <a:path w="53" h="280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3" y="280"/>
                    </a:lnTo>
                    <a:lnTo>
                      <a:pt x="53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236000" y="4832640"/>
                <a:ext cx="112680" cy="608400"/>
              </a:xfrm>
              <a:custGeom>
                <a:avLst/>
                <a:gdLst/>
                <a:ahLst/>
                <a:rect l="l" t="t" r="r" b="b"/>
                <a:pathLst>
                  <a:path w="52" h="280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52" y="280"/>
                    </a:lnTo>
                    <a:lnTo>
                      <a:pt x="52" y="2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240040" y="5660640"/>
                <a:ext cx="16740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8574840" y="5651640"/>
                <a:ext cx="21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8398800" y="5656680"/>
                <a:ext cx="175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>
                <a:off x="8398800" y="5993280"/>
                <a:ext cx="175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462280" y="5673960"/>
                <a:ext cx="165600" cy="3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295240" y="5669280"/>
                <a:ext cx="167040" cy="336240"/>
              </a:xfrm>
              <a:custGeom>
                <a:avLst/>
                <a:gdLst/>
                <a:ahLst/>
                <a:rect l="l" t="t" r="r" b="b"/>
                <a:pathLst>
                  <a:path w="77" h="155">
                    <a:moveTo>
                      <a:pt x="77" y="0"/>
                    </a:moveTo>
                    <a:lnTo>
                      <a:pt x="0" y="2"/>
                    </a:lnTo>
                    <a:lnTo>
                      <a:pt x="0" y="155"/>
                    </a:lnTo>
                    <a:lnTo>
                      <a:pt x="77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403240" y="5756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439960" y="57560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816600" y="5523840"/>
                <a:ext cx="231840" cy="605880"/>
              </a:xfrm>
              <a:custGeom>
                <a:avLst/>
                <a:gdLst/>
                <a:ahLst/>
                <a:rect l="l" t="t" r="r" b="b"/>
                <a:pathLst>
                  <a:path w="107" h="279">
                    <a:moveTo>
                      <a:pt x="0" y="0"/>
                    </a:moveTo>
                    <a:lnTo>
                      <a:pt x="0" y="113"/>
                    </a:lnTo>
                    <a:lnTo>
                      <a:pt x="34" y="140"/>
                    </a:lnTo>
                    <a:lnTo>
                      <a:pt x="0" y="166"/>
                    </a:lnTo>
                    <a:lnTo>
                      <a:pt x="0" y="279"/>
                    </a:lnTo>
                    <a:lnTo>
                      <a:pt x="107" y="193"/>
                    </a:lnTo>
                    <a:lnTo>
                      <a:pt x="107" y="86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539480" y="5754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638840" y="57542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286480" y="5745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38548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466120" y="5745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636160" y="5819040"/>
                <a:ext cx="42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044840" y="5819040"/>
                <a:ext cx="4410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825320" y="5819040"/>
                <a:ext cx="3996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357600" y="5893200"/>
                <a:ext cx="4586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940720" y="5736960"/>
                <a:ext cx="80280" cy="738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34"/>
                    </a:moveTo>
                    <a:lnTo>
                      <a:pt x="2" y="0"/>
                    </a:lnTo>
                    <a:lnTo>
                      <a:pt x="3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425000" y="5819040"/>
                <a:ext cx="537120" cy="227880"/>
              </a:xfrm>
              <a:custGeom>
                <a:avLst/>
                <a:gdLst/>
                <a:ahLst/>
                <a:rect l="l" t="t" r="r" b="b"/>
                <a:pathLst>
                  <a:path w="247" h="105">
                    <a:moveTo>
                      <a:pt x="0" y="0"/>
                    </a:moveTo>
                    <a:lnTo>
                      <a:pt x="1" y="105"/>
                    </a:lnTo>
                    <a:lnTo>
                      <a:pt x="210" y="105"/>
                    </a:lnTo>
                    <a:lnTo>
                      <a:pt x="210" y="36"/>
                    </a:lnTo>
                    <a:lnTo>
                      <a:pt x="247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790600" y="5515200"/>
                <a:ext cx="11304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  <a:lnTo>
                      <a:pt x="51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512040" y="5515200"/>
                <a:ext cx="115200" cy="610560"/>
              </a:xfrm>
              <a:custGeom>
                <a:avLst/>
                <a:gdLst/>
                <a:ahLst/>
                <a:rect l="l" t="t" r="r" b="b"/>
                <a:pathLst>
                  <a:path w="53" h="281">
                    <a:moveTo>
                      <a:pt x="51" y="280"/>
                    </a:moveTo>
                    <a:lnTo>
                      <a:pt x="53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3" y="281"/>
                    </a:lnTo>
                    <a:lnTo>
                      <a:pt x="53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23600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  <a:lnTo>
                      <a:pt x="52" y="28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62120" y="5515200"/>
                <a:ext cx="112680" cy="610560"/>
              </a:xfrm>
              <a:custGeom>
                <a:avLst/>
                <a:gdLst/>
                <a:ahLst/>
                <a:rect l="l" t="t" r="r" b="b"/>
                <a:pathLst>
                  <a:path w="52" h="281">
                    <a:moveTo>
                      <a:pt x="52" y="28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281"/>
                    </a:lnTo>
                    <a:lnTo>
                      <a:pt x="52" y="281"/>
                    </a:lnTo>
                    <a:lnTo>
                      <a:pt x="52" y="2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0541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1542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25752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946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74964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84972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9483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98580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512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61256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71156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7486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24040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340480" y="235080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438400" y="235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48124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557560" y="235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040640" y="2874600"/>
                <a:ext cx="17172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873600" y="2874600"/>
                <a:ext cx="167040" cy="33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36960" y="29548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035240" y="295488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91120" y="3079080"/>
                <a:ext cx="1540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21320" y="2883600"/>
                <a:ext cx="164880" cy="33192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4953960" y="2874240"/>
                <a:ext cx="360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4786200" y="2878920"/>
                <a:ext cx="16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4786200" y="3215520"/>
                <a:ext cx="167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671360" y="29505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77108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849560" y="295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19320" y="36943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01904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99320" y="36943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466800" y="3844080"/>
                <a:ext cx="16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466800" y="3689640"/>
                <a:ext cx="152280" cy="4320"/>
              </a:xfrm>
              <a:prstGeom prst="line">
                <a:avLst/>
              </a:prstGeom>
              <a:ln w="158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17040" y="3602520"/>
                <a:ext cx="164880" cy="332640"/>
              </a:xfrm>
              <a:prstGeom prst="rect">
                <a:avLst/>
              </a:prstGeom>
              <a:noFill/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3149280" y="3611520"/>
                <a:ext cx="216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145320" y="3935160"/>
                <a:ext cx="171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073680" y="3694320"/>
                <a:ext cx="75600" cy="75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5"/>
                    </a:move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  <a:lnTo>
                      <a:pt x="52" y="2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619080" y="3466080"/>
                <a:ext cx="117000" cy="605880"/>
              </a:xfrm>
              <a:custGeom>
                <a:avLst/>
                <a:gdLst/>
                <a:ahLst/>
                <a:rect l="l" t="t" r="r" b="b"/>
                <a:pathLst>
                  <a:path w="54" h="279">
                    <a:moveTo>
                      <a:pt x="52" y="279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54" y="279"/>
                    </a:lnTo>
                    <a:lnTo>
                      <a:pt x="54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>
              <a:off x="3200400" y="3694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29976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378240" y="3694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62560" y="5050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46156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541120" y="5050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721760" y="4276440"/>
              <a:ext cx="73800" cy="738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5" y="34"/>
                  </a:moveTo>
                  <a:lnTo>
                    <a:pt x="19" y="34"/>
                  </a:lnTo>
                  <a:lnTo>
                    <a:pt x="23" y="34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8" y="31"/>
                  </a:lnTo>
                  <a:lnTo>
                    <a:pt x="30" y="29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5" y="3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732480" y="3770280"/>
              <a:ext cx="14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869640" y="3580920"/>
              <a:ext cx="1674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146040" y="3602520"/>
              <a:ext cx="171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073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89016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9736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05828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1440" y="4681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69520" y="468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469680" y="3411360"/>
              <a:ext cx="1162800" cy="1643040"/>
            </a:xfrm>
            <a:custGeom>
              <a:avLst/>
              <a:gdLst/>
              <a:ahLst/>
              <a:rect l="l" t="t" r="r" b="b"/>
              <a:pathLst>
                <a:path w="535" h="756">
                  <a:moveTo>
                    <a:pt x="45" y="448"/>
                  </a:moveTo>
                  <a:lnTo>
                    <a:pt x="43" y="453"/>
                  </a:lnTo>
                  <a:lnTo>
                    <a:pt x="41" y="459"/>
                  </a:lnTo>
                  <a:lnTo>
                    <a:pt x="39" y="465"/>
                  </a:lnTo>
                  <a:lnTo>
                    <a:pt x="37" y="471"/>
                  </a:lnTo>
                  <a:lnTo>
                    <a:pt x="35" y="476"/>
                  </a:lnTo>
                  <a:lnTo>
                    <a:pt x="35" y="482"/>
                  </a:lnTo>
                  <a:lnTo>
                    <a:pt x="35" y="488"/>
                  </a:lnTo>
                  <a:lnTo>
                    <a:pt x="39" y="494"/>
                  </a:lnTo>
                  <a:lnTo>
                    <a:pt x="43" y="501"/>
                  </a:lnTo>
                  <a:lnTo>
                    <a:pt x="50" y="509"/>
                  </a:lnTo>
                  <a:lnTo>
                    <a:pt x="46" y="517"/>
                  </a:lnTo>
                  <a:lnTo>
                    <a:pt x="45" y="524"/>
                  </a:lnTo>
                  <a:lnTo>
                    <a:pt x="45" y="530"/>
                  </a:lnTo>
                  <a:lnTo>
                    <a:pt x="45" y="536"/>
                  </a:lnTo>
                  <a:lnTo>
                    <a:pt x="45" y="540"/>
                  </a:lnTo>
                  <a:lnTo>
                    <a:pt x="48" y="543"/>
                  </a:lnTo>
                  <a:lnTo>
                    <a:pt x="50" y="547"/>
                  </a:lnTo>
                  <a:lnTo>
                    <a:pt x="56" y="551"/>
                  </a:lnTo>
                  <a:lnTo>
                    <a:pt x="60" y="553"/>
                  </a:lnTo>
                  <a:lnTo>
                    <a:pt x="66" y="555"/>
                  </a:lnTo>
                  <a:lnTo>
                    <a:pt x="81" y="559"/>
                  </a:lnTo>
                  <a:lnTo>
                    <a:pt x="79" y="559"/>
                  </a:lnTo>
                  <a:lnTo>
                    <a:pt x="75" y="559"/>
                  </a:lnTo>
                  <a:lnTo>
                    <a:pt x="69" y="559"/>
                  </a:lnTo>
                  <a:lnTo>
                    <a:pt x="62" y="563"/>
                  </a:lnTo>
                  <a:lnTo>
                    <a:pt x="52" y="564"/>
                  </a:lnTo>
                  <a:lnTo>
                    <a:pt x="45" y="568"/>
                  </a:lnTo>
                  <a:lnTo>
                    <a:pt x="35" y="574"/>
                  </a:lnTo>
                  <a:lnTo>
                    <a:pt x="27" y="582"/>
                  </a:lnTo>
                  <a:lnTo>
                    <a:pt x="20" y="591"/>
                  </a:lnTo>
                  <a:lnTo>
                    <a:pt x="14" y="603"/>
                  </a:lnTo>
                  <a:lnTo>
                    <a:pt x="14" y="605"/>
                  </a:lnTo>
                  <a:lnTo>
                    <a:pt x="12" y="614"/>
                  </a:lnTo>
                  <a:lnTo>
                    <a:pt x="12" y="628"/>
                  </a:lnTo>
                  <a:lnTo>
                    <a:pt x="14" y="643"/>
                  </a:lnTo>
                  <a:lnTo>
                    <a:pt x="20" y="660"/>
                  </a:lnTo>
                  <a:lnTo>
                    <a:pt x="27" y="673"/>
                  </a:lnTo>
                  <a:lnTo>
                    <a:pt x="41" y="685"/>
                  </a:lnTo>
                  <a:lnTo>
                    <a:pt x="62" y="689"/>
                  </a:lnTo>
                  <a:lnTo>
                    <a:pt x="89" y="687"/>
                  </a:lnTo>
                  <a:lnTo>
                    <a:pt x="123" y="675"/>
                  </a:lnTo>
                  <a:lnTo>
                    <a:pt x="123" y="683"/>
                  </a:lnTo>
                  <a:lnTo>
                    <a:pt x="121" y="691"/>
                  </a:lnTo>
                  <a:lnTo>
                    <a:pt x="121" y="696"/>
                  </a:lnTo>
                  <a:lnTo>
                    <a:pt x="123" y="704"/>
                  </a:lnTo>
                  <a:lnTo>
                    <a:pt x="123" y="712"/>
                  </a:lnTo>
                  <a:lnTo>
                    <a:pt x="125" y="717"/>
                  </a:lnTo>
                  <a:lnTo>
                    <a:pt x="127" y="723"/>
                  </a:lnTo>
                  <a:lnTo>
                    <a:pt x="131" y="729"/>
                  </a:lnTo>
                  <a:lnTo>
                    <a:pt x="135" y="735"/>
                  </a:lnTo>
                  <a:lnTo>
                    <a:pt x="140" y="740"/>
                  </a:lnTo>
                  <a:lnTo>
                    <a:pt x="156" y="748"/>
                  </a:lnTo>
                  <a:lnTo>
                    <a:pt x="171" y="754"/>
                  </a:lnTo>
                  <a:lnTo>
                    <a:pt x="188" y="756"/>
                  </a:lnTo>
                  <a:lnTo>
                    <a:pt x="204" y="756"/>
                  </a:lnTo>
                  <a:lnTo>
                    <a:pt x="221" y="752"/>
                  </a:lnTo>
                  <a:lnTo>
                    <a:pt x="236" y="746"/>
                  </a:lnTo>
                  <a:lnTo>
                    <a:pt x="250" y="735"/>
                  </a:lnTo>
                  <a:lnTo>
                    <a:pt x="261" y="723"/>
                  </a:lnTo>
                  <a:lnTo>
                    <a:pt x="271" y="706"/>
                  </a:lnTo>
                  <a:lnTo>
                    <a:pt x="276" y="685"/>
                  </a:lnTo>
                  <a:lnTo>
                    <a:pt x="294" y="696"/>
                  </a:lnTo>
                  <a:lnTo>
                    <a:pt x="317" y="706"/>
                  </a:lnTo>
                  <a:lnTo>
                    <a:pt x="344" y="714"/>
                  </a:lnTo>
                  <a:lnTo>
                    <a:pt x="368" y="717"/>
                  </a:lnTo>
                  <a:lnTo>
                    <a:pt x="393" y="717"/>
                  </a:lnTo>
                  <a:lnTo>
                    <a:pt x="416" y="712"/>
                  </a:lnTo>
                  <a:lnTo>
                    <a:pt x="436" y="702"/>
                  </a:lnTo>
                  <a:lnTo>
                    <a:pt x="449" y="687"/>
                  </a:lnTo>
                  <a:lnTo>
                    <a:pt x="457" y="666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5" y="637"/>
                  </a:lnTo>
                  <a:lnTo>
                    <a:pt x="453" y="635"/>
                  </a:lnTo>
                  <a:lnTo>
                    <a:pt x="453" y="635"/>
                  </a:lnTo>
                  <a:lnTo>
                    <a:pt x="453" y="633"/>
                  </a:lnTo>
                  <a:lnTo>
                    <a:pt x="451" y="633"/>
                  </a:lnTo>
                  <a:lnTo>
                    <a:pt x="449" y="631"/>
                  </a:lnTo>
                  <a:lnTo>
                    <a:pt x="447" y="631"/>
                  </a:lnTo>
                  <a:lnTo>
                    <a:pt x="445" y="629"/>
                  </a:lnTo>
                  <a:lnTo>
                    <a:pt x="443" y="629"/>
                  </a:lnTo>
                  <a:lnTo>
                    <a:pt x="451" y="629"/>
                  </a:lnTo>
                  <a:lnTo>
                    <a:pt x="460" y="629"/>
                  </a:lnTo>
                  <a:lnTo>
                    <a:pt x="468" y="628"/>
                  </a:lnTo>
                  <a:lnTo>
                    <a:pt x="476" y="626"/>
                  </a:lnTo>
                  <a:lnTo>
                    <a:pt x="482" y="624"/>
                  </a:lnTo>
                  <a:lnTo>
                    <a:pt x="489" y="620"/>
                  </a:lnTo>
                  <a:lnTo>
                    <a:pt x="495" y="616"/>
                  </a:lnTo>
                  <a:lnTo>
                    <a:pt x="499" y="612"/>
                  </a:lnTo>
                  <a:lnTo>
                    <a:pt x="505" y="607"/>
                  </a:lnTo>
                  <a:lnTo>
                    <a:pt x="507" y="599"/>
                  </a:lnTo>
                  <a:lnTo>
                    <a:pt x="510" y="585"/>
                  </a:lnTo>
                  <a:lnTo>
                    <a:pt x="510" y="572"/>
                  </a:lnTo>
                  <a:lnTo>
                    <a:pt x="508" y="561"/>
                  </a:lnTo>
                  <a:lnTo>
                    <a:pt x="505" y="547"/>
                  </a:lnTo>
                  <a:lnTo>
                    <a:pt x="499" y="536"/>
                  </a:lnTo>
                  <a:lnTo>
                    <a:pt x="491" y="526"/>
                  </a:lnTo>
                  <a:lnTo>
                    <a:pt x="482" y="517"/>
                  </a:lnTo>
                  <a:lnTo>
                    <a:pt x="472" y="509"/>
                  </a:lnTo>
                  <a:lnTo>
                    <a:pt x="459" y="503"/>
                  </a:lnTo>
                  <a:lnTo>
                    <a:pt x="447" y="497"/>
                  </a:lnTo>
                  <a:lnTo>
                    <a:pt x="441" y="497"/>
                  </a:lnTo>
                  <a:lnTo>
                    <a:pt x="437" y="497"/>
                  </a:lnTo>
                  <a:lnTo>
                    <a:pt x="432" y="497"/>
                  </a:lnTo>
                  <a:lnTo>
                    <a:pt x="428" y="497"/>
                  </a:lnTo>
                  <a:lnTo>
                    <a:pt x="422" y="499"/>
                  </a:lnTo>
                  <a:lnTo>
                    <a:pt x="418" y="501"/>
                  </a:lnTo>
                  <a:lnTo>
                    <a:pt x="413" y="503"/>
                  </a:lnTo>
                  <a:lnTo>
                    <a:pt x="409" y="507"/>
                  </a:lnTo>
                  <a:lnTo>
                    <a:pt x="405" y="511"/>
                  </a:lnTo>
                  <a:lnTo>
                    <a:pt x="401" y="515"/>
                  </a:lnTo>
                  <a:lnTo>
                    <a:pt x="401" y="515"/>
                  </a:lnTo>
                  <a:lnTo>
                    <a:pt x="401" y="511"/>
                  </a:lnTo>
                  <a:lnTo>
                    <a:pt x="401" y="507"/>
                  </a:lnTo>
                  <a:lnTo>
                    <a:pt x="401" y="501"/>
                  </a:lnTo>
                  <a:lnTo>
                    <a:pt x="399" y="494"/>
                  </a:lnTo>
                  <a:lnTo>
                    <a:pt x="397" y="486"/>
                  </a:lnTo>
                  <a:lnTo>
                    <a:pt x="393" y="478"/>
                  </a:lnTo>
                  <a:lnTo>
                    <a:pt x="390" y="469"/>
                  </a:lnTo>
                  <a:lnTo>
                    <a:pt x="384" y="461"/>
                  </a:lnTo>
                  <a:lnTo>
                    <a:pt x="376" y="453"/>
                  </a:lnTo>
                  <a:lnTo>
                    <a:pt x="378" y="450"/>
                  </a:lnTo>
                  <a:lnTo>
                    <a:pt x="378" y="446"/>
                  </a:lnTo>
                  <a:lnTo>
                    <a:pt x="380" y="442"/>
                  </a:lnTo>
                  <a:lnTo>
                    <a:pt x="380" y="438"/>
                  </a:lnTo>
                  <a:lnTo>
                    <a:pt x="380" y="434"/>
                  </a:lnTo>
                  <a:lnTo>
                    <a:pt x="380" y="430"/>
                  </a:lnTo>
                  <a:lnTo>
                    <a:pt x="380" y="427"/>
                  </a:lnTo>
                  <a:lnTo>
                    <a:pt x="380" y="421"/>
                  </a:lnTo>
                  <a:lnTo>
                    <a:pt x="378" y="417"/>
                  </a:lnTo>
                  <a:lnTo>
                    <a:pt x="378" y="413"/>
                  </a:lnTo>
                  <a:lnTo>
                    <a:pt x="378" y="411"/>
                  </a:lnTo>
                  <a:lnTo>
                    <a:pt x="376" y="411"/>
                  </a:lnTo>
                  <a:lnTo>
                    <a:pt x="376" y="411"/>
                  </a:lnTo>
                  <a:lnTo>
                    <a:pt x="376" y="409"/>
                  </a:lnTo>
                  <a:lnTo>
                    <a:pt x="374" y="408"/>
                  </a:lnTo>
                  <a:lnTo>
                    <a:pt x="374" y="408"/>
                  </a:lnTo>
                  <a:lnTo>
                    <a:pt x="372" y="406"/>
                  </a:lnTo>
                  <a:lnTo>
                    <a:pt x="370" y="406"/>
                  </a:lnTo>
                  <a:lnTo>
                    <a:pt x="368" y="404"/>
                  </a:lnTo>
                  <a:lnTo>
                    <a:pt x="367" y="404"/>
                  </a:lnTo>
                  <a:lnTo>
                    <a:pt x="374" y="404"/>
                  </a:lnTo>
                  <a:lnTo>
                    <a:pt x="382" y="404"/>
                  </a:lnTo>
                  <a:lnTo>
                    <a:pt x="390" y="402"/>
                  </a:lnTo>
                  <a:lnTo>
                    <a:pt x="397" y="402"/>
                  </a:lnTo>
                  <a:lnTo>
                    <a:pt x="405" y="398"/>
                  </a:lnTo>
                  <a:lnTo>
                    <a:pt x="411" y="396"/>
                  </a:lnTo>
                  <a:lnTo>
                    <a:pt x="418" y="392"/>
                  </a:lnTo>
                  <a:lnTo>
                    <a:pt x="422" y="386"/>
                  </a:lnTo>
                  <a:lnTo>
                    <a:pt x="426" y="381"/>
                  </a:lnTo>
                  <a:lnTo>
                    <a:pt x="430" y="373"/>
                  </a:lnTo>
                  <a:lnTo>
                    <a:pt x="432" y="364"/>
                  </a:lnTo>
                  <a:lnTo>
                    <a:pt x="434" y="354"/>
                  </a:lnTo>
                  <a:lnTo>
                    <a:pt x="434" y="344"/>
                  </a:lnTo>
                  <a:lnTo>
                    <a:pt x="432" y="335"/>
                  </a:lnTo>
                  <a:lnTo>
                    <a:pt x="430" y="327"/>
                  </a:lnTo>
                  <a:lnTo>
                    <a:pt x="426" y="318"/>
                  </a:lnTo>
                  <a:lnTo>
                    <a:pt x="420" y="310"/>
                  </a:lnTo>
                  <a:lnTo>
                    <a:pt x="416" y="302"/>
                  </a:lnTo>
                  <a:lnTo>
                    <a:pt x="409" y="295"/>
                  </a:lnTo>
                  <a:lnTo>
                    <a:pt x="401" y="289"/>
                  </a:lnTo>
                  <a:lnTo>
                    <a:pt x="416" y="289"/>
                  </a:lnTo>
                  <a:lnTo>
                    <a:pt x="430" y="287"/>
                  </a:lnTo>
                  <a:lnTo>
                    <a:pt x="443" y="283"/>
                  </a:lnTo>
                  <a:lnTo>
                    <a:pt x="453" y="279"/>
                  </a:lnTo>
                  <a:lnTo>
                    <a:pt x="464" y="272"/>
                  </a:lnTo>
                  <a:lnTo>
                    <a:pt x="472" y="264"/>
                  </a:lnTo>
                  <a:lnTo>
                    <a:pt x="478" y="253"/>
                  </a:lnTo>
                  <a:lnTo>
                    <a:pt x="480" y="241"/>
                  </a:lnTo>
                  <a:lnTo>
                    <a:pt x="482" y="226"/>
                  </a:lnTo>
                  <a:lnTo>
                    <a:pt x="480" y="209"/>
                  </a:lnTo>
                  <a:lnTo>
                    <a:pt x="480" y="209"/>
                  </a:lnTo>
                  <a:lnTo>
                    <a:pt x="478" y="209"/>
                  </a:lnTo>
                  <a:lnTo>
                    <a:pt x="478" y="207"/>
                  </a:lnTo>
                  <a:lnTo>
                    <a:pt x="478" y="207"/>
                  </a:lnTo>
                  <a:lnTo>
                    <a:pt x="476" y="205"/>
                  </a:lnTo>
                  <a:lnTo>
                    <a:pt x="476" y="205"/>
                  </a:lnTo>
                  <a:lnTo>
                    <a:pt x="474" y="203"/>
                  </a:lnTo>
                  <a:lnTo>
                    <a:pt x="472" y="203"/>
                  </a:lnTo>
                  <a:lnTo>
                    <a:pt x="470" y="201"/>
                  </a:lnTo>
                  <a:lnTo>
                    <a:pt x="468" y="201"/>
                  </a:lnTo>
                  <a:lnTo>
                    <a:pt x="476" y="201"/>
                  </a:lnTo>
                  <a:lnTo>
                    <a:pt x="483" y="201"/>
                  </a:lnTo>
                  <a:lnTo>
                    <a:pt x="491" y="199"/>
                  </a:lnTo>
                  <a:lnTo>
                    <a:pt x="499" y="199"/>
                  </a:lnTo>
                  <a:lnTo>
                    <a:pt x="507" y="195"/>
                  </a:lnTo>
                  <a:lnTo>
                    <a:pt x="512" y="193"/>
                  </a:lnTo>
                  <a:lnTo>
                    <a:pt x="518" y="187"/>
                  </a:lnTo>
                  <a:lnTo>
                    <a:pt x="524" y="184"/>
                  </a:lnTo>
                  <a:lnTo>
                    <a:pt x="528" y="178"/>
                  </a:lnTo>
                  <a:lnTo>
                    <a:pt x="531" y="170"/>
                  </a:lnTo>
                  <a:lnTo>
                    <a:pt x="535" y="157"/>
                  </a:lnTo>
                  <a:lnTo>
                    <a:pt x="535" y="143"/>
                  </a:lnTo>
                  <a:lnTo>
                    <a:pt x="533" y="132"/>
                  </a:lnTo>
                  <a:lnTo>
                    <a:pt x="530" y="119"/>
                  </a:lnTo>
                  <a:lnTo>
                    <a:pt x="524" y="107"/>
                  </a:lnTo>
                  <a:lnTo>
                    <a:pt x="516" y="98"/>
                  </a:lnTo>
                  <a:lnTo>
                    <a:pt x="507" y="88"/>
                  </a:lnTo>
                  <a:lnTo>
                    <a:pt x="495" y="80"/>
                  </a:lnTo>
                  <a:lnTo>
                    <a:pt x="483" y="75"/>
                  </a:lnTo>
                  <a:lnTo>
                    <a:pt x="470" y="69"/>
                  </a:lnTo>
                  <a:lnTo>
                    <a:pt x="466" y="69"/>
                  </a:lnTo>
                  <a:lnTo>
                    <a:pt x="460" y="69"/>
                  </a:lnTo>
                  <a:lnTo>
                    <a:pt x="457" y="69"/>
                  </a:lnTo>
                  <a:lnTo>
                    <a:pt x="451" y="69"/>
                  </a:lnTo>
                  <a:lnTo>
                    <a:pt x="447" y="71"/>
                  </a:lnTo>
                  <a:lnTo>
                    <a:pt x="443" y="73"/>
                  </a:lnTo>
                  <a:lnTo>
                    <a:pt x="437" y="75"/>
                  </a:lnTo>
                  <a:lnTo>
                    <a:pt x="434" y="78"/>
                  </a:lnTo>
                  <a:lnTo>
                    <a:pt x="430" y="82"/>
                  </a:lnTo>
                  <a:lnTo>
                    <a:pt x="426" y="86"/>
                  </a:lnTo>
                  <a:lnTo>
                    <a:pt x="426" y="84"/>
                  </a:lnTo>
                  <a:lnTo>
                    <a:pt x="426" y="76"/>
                  </a:lnTo>
                  <a:lnTo>
                    <a:pt x="424" y="67"/>
                  </a:lnTo>
                  <a:lnTo>
                    <a:pt x="420" y="55"/>
                  </a:lnTo>
                  <a:lnTo>
                    <a:pt x="414" y="42"/>
                  </a:lnTo>
                  <a:lnTo>
                    <a:pt x="407" y="29"/>
                  </a:lnTo>
                  <a:lnTo>
                    <a:pt x="393" y="17"/>
                  </a:lnTo>
                  <a:lnTo>
                    <a:pt x="378" y="8"/>
                  </a:lnTo>
                  <a:lnTo>
                    <a:pt x="355" y="2"/>
                  </a:lnTo>
                  <a:lnTo>
                    <a:pt x="328" y="2"/>
                  </a:lnTo>
                  <a:lnTo>
                    <a:pt x="326" y="0"/>
                  </a:lnTo>
                  <a:lnTo>
                    <a:pt x="321" y="2"/>
                  </a:lnTo>
                  <a:lnTo>
                    <a:pt x="309" y="2"/>
                  </a:lnTo>
                  <a:lnTo>
                    <a:pt x="298" y="6"/>
                  </a:lnTo>
                  <a:lnTo>
                    <a:pt x="282" y="10"/>
                  </a:lnTo>
                  <a:lnTo>
                    <a:pt x="269" y="17"/>
                  </a:lnTo>
                  <a:lnTo>
                    <a:pt x="255" y="29"/>
                  </a:lnTo>
                  <a:lnTo>
                    <a:pt x="242" y="42"/>
                  </a:lnTo>
                  <a:lnTo>
                    <a:pt x="232" y="61"/>
                  </a:lnTo>
                  <a:lnTo>
                    <a:pt x="227" y="86"/>
                  </a:lnTo>
                  <a:lnTo>
                    <a:pt x="232" y="44"/>
                  </a:lnTo>
                  <a:lnTo>
                    <a:pt x="225" y="34"/>
                  </a:lnTo>
                  <a:lnTo>
                    <a:pt x="215" y="25"/>
                  </a:lnTo>
                  <a:lnTo>
                    <a:pt x="206" y="17"/>
                  </a:lnTo>
                  <a:lnTo>
                    <a:pt x="194" y="11"/>
                  </a:lnTo>
                  <a:lnTo>
                    <a:pt x="183" y="8"/>
                  </a:lnTo>
                  <a:lnTo>
                    <a:pt x="171" y="4"/>
                  </a:lnTo>
                  <a:lnTo>
                    <a:pt x="158" y="4"/>
                  </a:lnTo>
                  <a:lnTo>
                    <a:pt x="146" y="6"/>
                  </a:lnTo>
                  <a:lnTo>
                    <a:pt x="133" y="10"/>
                  </a:lnTo>
                  <a:lnTo>
                    <a:pt x="121" y="15"/>
                  </a:lnTo>
                  <a:lnTo>
                    <a:pt x="110" y="23"/>
                  </a:lnTo>
                  <a:lnTo>
                    <a:pt x="100" y="31"/>
                  </a:lnTo>
                  <a:lnTo>
                    <a:pt x="92" y="42"/>
                  </a:lnTo>
                  <a:lnTo>
                    <a:pt x="87" y="52"/>
                  </a:lnTo>
                  <a:lnTo>
                    <a:pt x="83" y="65"/>
                  </a:lnTo>
                  <a:lnTo>
                    <a:pt x="81" y="76"/>
                  </a:lnTo>
                  <a:lnTo>
                    <a:pt x="81" y="90"/>
                  </a:lnTo>
                  <a:lnTo>
                    <a:pt x="81" y="101"/>
                  </a:lnTo>
                  <a:lnTo>
                    <a:pt x="85" y="115"/>
                  </a:lnTo>
                  <a:lnTo>
                    <a:pt x="91" y="126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100" y="130"/>
                  </a:lnTo>
                  <a:lnTo>
                    <a:pt x="92" y="132"/>
                  </a:lnTo>
                  <a:lnTo>
                    <a:pt x="87" y="134"/>
                  </a:lnTo>
                  <a:lnTo>
                    <a:pt x="77" y="136"/>
                  </a:lnTo>
                  <a:lnTo>
                    <a:pt x="68" y="140"/>
                  </a:lnTo>
                  <a:lnTo>
                    <a:pt x="60" y="145"/>
                  </a:lnTo>
                  <a:lnTo>
                    <a:pt x="50" y="153"/>
                  </a:lnTo>
                  <a:lnTo>
                    <a:pt x="45" y="163"/>
                  </a:lnTo>
                  <a:lnTo>
                    <a:pt x="39" y="174"/>
                  </a:lnTo>
                  <a:lnTo>
                    <a:pt x="39" y="174"/>
                  </a:lnTo>
                  <a:lnTo>
                    <a:pt x="39" y="176"/>
                  </a:lnTo>
                  <a:lnTo>
                    <a:pt x="39" y="178"/>
                  </a:lnTo>
                  <a:lnTo>
                    <a:pt x="37" y="180"/>
                  </a:lnTo>
                  <a:lnTo>
                    <a:pt x="37" y="184"/>
                  </a:lnTo>
                  <a:lnTo>
                    <a:pt x="37" y="189"/>
                  </a:lnTo>
                  <a:lnTo>
                    <a:pt x="37" y="193"/>
                  </a:lnTo>
                  <a:lnTo>
                    <a:pt x="37" y="199"/>
                  </a:lnTo>
                  <a:lnTo>
                    <a:pt x="37" y="205"/>
                  </a:lnTo>
                  <a:lnTo>
                    <a:pt x="39" y="210"/>
                  </a:lnTo>
                  <a:lnTo>
                    <a:pt x="37" y="210"/>
                  </a:lnTo>
                  <a:lnTo>
                    <a:pt x="35" y="212"/>
                  </a:lnTo>
                  <a:lnTo>
                    <a:pt x="31" y="218"/>
                  </a:lnTo>
                  <a:lnTo>
                    <a:pt x="27" y="224"/>
                  </a:lnTo>
                  <a:lnTo>
                    <a:pt x="23" y="230"/>
                  </a:lnTo>
                  <a:lnTo>
                    <a:pt x="20" y="239"/>
                  </a:lnTo>
                  <a:lnTo>
                    <a:pt x="16" y="249"/>
                  </a:lnTo>
                  <a:lnTo>
                    <a:pt x="14" y="260"/>
                  </a:lnTo>
                  <a:lnTo>
                    <a:pt x="12" y="272"/>
                  </a:lnTo>
                  <a:lnTo>
                    <a:pt x="14" y="287"/>
                  </a:lnTo>
                  <a:lnTo>
                    <a:pt x="14" y="287"/>
                  </a:lnTo>
                  <a:lnTo>
                    <a:pt x="10" y="293"/>
                  </a:lnTo>
                  <a:lnTo>
                    <a:pt x="8" y="298"/>
                  </a:lnTo>
                  <a:lnTo>
                    <a:pt x="4" y="308"/>
                  </a:lnTo>
                  <a:lnTo>
                    <a:pt x="2" y="319"/>
                  </a:lnTo>
                  <a:lnTo>
                    <a:pt x="0" y="331"/>
                  </a:lnTo>
                  <a:lnTo>
                    <a:pt x="2" y="342"/>
                  </a:lnTo>
                  <a:lnTo>
                    <a:pt x="6" y="356"/>
                  </a:lnTo>
                  <a:lnTo>
                    <a:pt x="12" y="369"/>
                  </a:lnTo>
                  <a:lnTo>
                    <a:pt x="23" y="381"/>
                  </a:lnTo>
                  <a:lnTo>
                    <a:pt x="22" y="383"/>
                  </a:lnTo>
                  <a:lnTo>
                    <a:pt x="22" y="386"/>
                  </a:lnTo>
                  <a:lnTo>
                    <a:pt x="20" y="392"/>
                  </a:lnTo>
                  <a:lnTo>
                    <a:pt x="18" y="400"/>
                  </a:lnTo>
                  <a:lnTo>
                    <a:pt x="18" y="408"/>
                  </a:lnTo>
                  <a:lnTo>
                    <a:pt x="18" y="417"/>
                  </a:lnTo>
                  <a:lnTo>
                    <a:pt x="20" y="425"/>
                  </a:lnTo>
                  <a:lnTo>
                    <a:pt x="25" y="434"/>
                  </a:lnTo>
                  <a:lnTo>
                    <a:pt x="33" y="442"/>
                  </a:lnTo>
                  <a:lnTo>
                    <a:pt x="46" y="448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974040" y="4891320"/>
              <a:ext cx="121680" cy="1170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7" y="54"/>
                  </a:moveTo>
                  <a:lnTo>
                    <a:pt x="33" y="54"/>
                  </a:lnTo>
                  <a:lnTo>
                    <a:pt x="37" y="54"/>
                  </a:lnTo>
                  <a:lnTo>
                    <a:pt x="41" y="52"/>
                  </a:lnTo>
                  <a:lnTo>
                    <a:pt x="44" y="50"/>
                  </a:lnTo>
                  <a:lnTo>
                    <a:pt x="48" y="46"/>
                  </a:lnTo>
                  <a:lnTo>
                    <a:pt x="52" y="44"/>
                  </a:lnTo>
                  <a:lnTo>
                    <a:pt x="54" y="40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0" y="54"/>
                  </a:lnTo>
                  <a:lnTo>
                    <a:pt x="23" y="54"/>
                  </a:lnTo>
                  <a:lnTo>
                    <a:pt x="29" y="54"/>
                  </a:lnTo>
                  <a:lnTo>
                    <a:pt x="29" y="54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054320" y="4854600"/>
              <a:ext cx="119160" cy="1195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0" y="55"/>
                  </a:lnTo>
                  <a:lnTo>
                    <a:pt x="36" y="53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3" y="19"/>
                  </a:lnTo>
                  <a:lnTo>
                    <a:pt x="52" y="15"/>
                  </a:lnTo>
                  <a:lnTo>
                    <a:pt x="50" y="11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3" y="55"/>
                  </a:lnTo>
                  <a:lnTo>
                    <a:pt x="27" y="55"/>
                  </a:lnTo>
                  <a:lnTo>
                    <a:pt x="27" y="55"/>
                  </a:ln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367520" y="304632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728240" y="3120120"/>
              <a:ext cx="7128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808600" y="3726720"/>
              <a:ext cx="73440" cy="71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7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33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63040" y="5024160"/>
              <a:ext cx="73800" cy="763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5"/>
                  </a:lnTo>
                  <a:lnTo>
                    <a:pt x="17" y="35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517280" y="3657240"/>
              <a:ext cx="6948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00040" y="4450320"/>
              <a:ext cx="1584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404240" y="3079080"/>
              <a:ext cx="149760" cy="614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41360" y="3770280"/>
              <a:ext cx="158400" cy="1293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6640" y="346608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9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86640" y="4152600"/>
              <a:ext cx="117720" cy="60588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52" y="27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54" y="279"/>
                  </a:lnTo>
                  <a:lnTo>
                    <a:pt x="54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45440" y="3466080"/>
              <a:ext cx="232560" cy="605880"/>
            </a:xfrm>
            <a:custGeom>
              <a:avLst/>
              <a:gdLst/>
              <a:ahLst/>
              <a:rect l="l" t="t" r="r" b="b"/>
              <a:pathLst>
                <a:path w="107" h="279">
                  <a:moveTo>
                    <a:pt x="0" y="0"/>
                  </a:moveTo>
                  <a:lnTo>
                    <a:pt x="2" y="113"/>
                  </a:lnTo>
                  <a:lnTo>
                    <a:pt x="35" y="140"/>
                  </a:lnTo>
                  <a:lnTo>
                    <a:pt x="2" y="166"/>
                  </a:lnTo>
                  <a:lnTo>
                    <a:pt x="2" y="279"/>
                  </a:lnTo>
                  <a:lnTo>
                    <a:pt x="107" y="193"/>
                  </a:lnTo>
                  <a:lnTo>
                    <a:pt x="107" y="8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345560" y="2774520"/>
              <a:ext cx="117000" cy="610560"/>
            </a:xfrm>
            <a:custGeom>
              <a:avLst/>
              <a:gdLst/>
              <a:ahLst/>
              <a:rect l="l" t="t" r="r" b="b"/>
              <a:pathLst>
                <a:path w="54" h="281">
                  <a:moveTo>
                    <a:pt x="52" y="280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54" y="281"/>
                  </a:lnTo>
                  <a:lnTo>
                    <a:pt x="54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4758840" y="3174840"/>
              <a:ext cx="3600" cy="1138320"/>
            </a:xfrm>
            <a:prstGeom prst="line">
              <a:avLst/>
            </a:prstGeom>
            <a:ln w="1584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49760" y="3466080"/>
              <a:ext cx="227880" cy="605880"/>
            </a:xfrm>
            <a:custGeom>
              <a:avLst/>
              <a:gdLst/>
              <a:ahLst/>
              <a:rect l="l" t="t" r="r" b="b"/>
              <a:pathLst>
                <a:path w="105" h="279">
                  <a:moveTo>
                    <a:pt x="0" y="0"/>
                  </a:moveTo>
                  <a:lnTo>
                    <a:pt x="0" y="113"/>
                  </a:lnTo>
                  <a:lnTo>
                    <a:pt x="34" y="140"/>
                  </a:lnTo>
                  <a:lnTo>
                    <a:pt x="0" y="166"/>
                  </a:lnTo>
                  <a:lnTo>
                    <a:pt x="0" y="279"/>
                  </a:lnTo>
                  <a:lnTo>
                    <a:pt x="105" y="193"/>
                  </a:lnTo>
                  <a:lnTo>
                    <a:pt x="105" y="8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azard De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all by letting an instruction that won’t write anything go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390600" y="1689120"/>
            <a:ext cx="8337600" cy="4502160"/>
            <a:chOff x="390600" y="1689120"/>
            <a:chExt cx="8337600" cy="4502160"/>
          </a:xfrm>
        </p:grpSpPr>
        <p:grpSp>
          <p:nvGrpSpPr>
            <p:cNvPr id="2250" name=""/>
            <p:cNvGrpSpPr/>
            <p:nvPr/>
          </p:nvGrpSpPr>
          <p:grpSpPr>
            <a:xfrm>
              <a:off x="441360" y="1689120"/>
              <a:ext cx="8286840" cy="4390920"/>
              <a:chOff x="441360" y="1689120"/>
              <a:chExt cx="8286840" cy="4390920"/>
            </a:xfrm>
          </p:grpSpPr>
          <p:sp>
            <p:nvSpPr>
              <p:cNvPr id="2251" name=""/>
              <p:cNvSpPr/>
              <p:nvPr/>
            </p:nvSpPr>
            <p:spPr>
              <a:xfrm>
                <a:off x="2924280" y="1914480"/>
                <a:ext cx="885600" cy="403200"/>
              </a:xfrm>
              <a:custGeom>
                <a:avLst/>
                <a:gdLst/>
                <a:ahLst/>
                <a:rect l="l" t="t" r="r" b="b"/>
                <a:pathLst>
                  <a:path w="558" h="254">
                    <a:moveTo>
                      <a:pt x="558" y="254"/>
                    </a:moveTo>
                    <a:lnTo>
                      <a:pt x="558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303720" y="2644920"/>
                <a:ext cx="3664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900600" y="2644920"/>
                <a:ext cx="220680" cy="1440"/>
              </a:xfrm>
              <a:prstGeom prst="line">
                <a:avLst/>
              </a:prstGeom>
              <a:ln w="1908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145120" y="470232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30"/>
                    </a:moveTo>
                    <a:lnTo>
                      <a:pt x="33" y="30"/>
                    </a:lnTo>
                    <a:lnTo>
                      <a:pt x="18" y="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145120" y="39132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32"/>
                    </a:moveTo>
                    <a:lnTo>
                      <a:pt x="33" y="32"/>
                    </a:lnTo>
                    <a:lnTo>
                      <a:pt x="18" y="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173640" y="57513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0"/>
                    </a:moveTo>
                    <a:lnTo>
                      <a:pt x="32" y="33"/>
                    </a:lnTo>
                    <a:lnTo>
                      <a:pt x="0" y="18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213600" y="2981160"/>
                <a:ext cx="1955520" cy="2799000"/>
              </a:xfrm>
              <a:custGeom>
                <a:avLst/>
                <a:gdLst/>
                <a:ahLst/>
                <a:rect l="l" t="t" r="r" b="b"/>
                <a:pathLst>
                  <a:path w="1232" h="1763">
                    <a:moveTo>
                      <a:pt x="1232" y="0"/>
                    </a:moveTo>
                    <a:lnTo>
                      <a:pt x="1232" y="1763"/>
                    </a:lnTo>
                    <a:lnTo>
                      <a:pt x="0" y="17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43760" y="2981160"/>
                <a:ext cx="225360" cy="324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32680" y="2644920"/>
                <a:ext cx="439560" cy="2984400"/>
              </a:xfrm>
              <a:custGeom>
                <a:avLst/>
                <a:gdLst/>
                <a:ahLst/>
                <a:rect l="l" t="t" r="r" b="b"/>
                <a:pathLst>
                  <a:path w="277" h="1880">
                    <a:moveTo>
                      <a:pt x="277" y="0"/>
                    </a:moveTo>
                    <a:lnTo>
                      <a:pt x="277" y="1880"/>
                    </a:lnTo>
                    <a:lnTo>
                      <a:pt x="0" y="188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168880" y="4737240"/>
                <a:ext cx="270000" cy="817560"/>
              </a:xfrm>
              <a:custGeom>
                <a:avLst/>
                <a:gdLst/>
                <a:ahLst/>
                <a:rect l="l" t="t" r="r" b="b"/>
                <a:pathLst>
                  <a:path w="170" h="515">
                    <a:moveTo>
                      <a:pt x="0" y="0"/>
                    </a:moveTo>
                    <a:lnTo>
                      <a:pt x="3" y="68"/>
                    </a:lnTo>
                    <a:lnTo>
                      <a:pt x="97" y="68"/>
                    </a:lnTo>
                    <a:lnTo>
                      <a:pt x="97" y="515"/>
                    </a:lnTo>
                    <a:lnTo>
                      <a:pt x="170" y="515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168880" y="3951360"/>
                <a:ext cx="289080" cy="1528560"/>
              </a:xfrm>
              <a:custGeom>
                <a:avLst/>
                <a:gdLst/>
                <a:ahLst/>
                <a:rect l="l" t="t" r="r" b="b"/>
                <a:pathLst>
                  <a:path w="182" h="963">
                    <a:moveTo>
                      <a:pt x="0" y="0"/>
                    </a:moveTo>
                    <a:lnTo>
                      <a:pt x="3" y="65"/>
                    </a:lnTo>
                    <a:lnTo>
                      <a:pt x="132" y="65"/>
                    </a:lnTo>
                    <a:lnTo>
                      <a:pt x="132" y="963"/>
                    </a:lnTo>
                    <a:lnTo>
                      <a:pt x="182" y="96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643040" y="3095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666800" y="1914480"/>
                <a:ext cx="506520" cy="1189080"/>
              </a:xfrm>
              <a:custGeom>
                <a:avLst/>
                <a:gdLst/>
                <a:ahLst/>
                <a:rect l="l" t="t" r="r" b="b"/>
                <a:pathLst>
                  <a:path w="319" h="749">
                    <a:moveTo>
                      <a:pt x="0" y="749"/>
                    </a:moveTo>
                    <a:lnTo>
                      <a:pt x="0" y="0"/>
                    </a:lnTo>
                    <a:lnTo>
                      <a:pt x="319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36400" y="1839960"/>
                <a:ext cx="1636920" cy="1906560"/>
              </a:xfrm>
              <a:custGeom>
                <a:avLst/>
                <a:gdLst/>
                <a:ahLst/>
                <a:rect l="l" t="t" r="r" b="b"/>
                <a:pathLst>
                  <a:path w="1031" h="1201">
                    <a:moveTo>
                      <a:pt x="0" y="1201"/>
                    </a:moveTo>
                    <a:lnTo>
                      <a:pt x="0" y="0"/>
                    </a:lnTo>
                    <a:lnTo>
                      <a:pt x="1031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12640" y="37353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1655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943360" y="40147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  <a:lnTo>
                      <a:pt x="117" y="3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41360" y="3794040"/>
                <a:ext cx="189000" cy="525600"/>
              </a:xfrm>
              <a:custGeom>
                <a:avLst/>
                <a:gdLst/>
                <a:ahLst/>
                <a:rect l="l" t="t" r="r" b="b"/>
                <a:pathLst>
                  <a:path w="119" h="331">
                    <a:moveTo>
                      <a:pt x="117" y="331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19" y="331"/>
                    </a:lnTo>
                    <a:lnTo>
                      <a:pt x="119" y="33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68360" y="40006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36400" y="40006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lnTo>
                      <a:pt x="401" y="7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81200" y="3470400"/>
                <a:ext cx="636480" cy="117612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39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5536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8380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93924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98712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014120" y="39402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04904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104480" y="3940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152000" y="3940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4400" y="39402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04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258560" y="394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314360" y="39402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1944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00296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057320" y="40593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144080" y="40593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199880" y="40593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231200" y="4059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935760" y="3430440"/>
                <a:ext cx="636480" cy="1176480"/>
              </a:xfrm>
              <a:custGeom>
                <a:avLst/>
                <a:gdLst/>
                <a:ahLst/>
                <a:rect l="l" t="t" r="r" b="b"/>
                <a:pathLst>
                  <a:path w="401" h="741">
                    <a:moveTo>
                      <a:pt x="401" y="741"/>
                    </a:moveTo>
                    <a:lnTo>
                      <a:pt x="401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01" y="741"/>
                    </a:lnTo>
                    <a:lnTo>
                      <a:pt x="401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943360" y="341460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943360" y="431496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019840" y="420048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01984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545080" y="43862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5268960" y="4410000"/>
                <a:ext cx="2952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8370720" y="39909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8370720" y="436716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7120" y="4054320"/>
                <a:ext cx="11412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22160" y="4030560"/>
                <a:ext cx="5112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426520" y="3924360"/>
                <a:ext cx="190440" cy="56016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60"/>
                    </a:moveTo>
                    <a:lnTo>
                      <a:pt x="3" y="50"/>
                    </a:lnTo>
                    <a:lnTo>
                      <a:pt x="5" y="40"/>
                    </a:lnTo>
                    <a:lnTo>
                      <a:pt x="8" y="32"/>
                    </a:lnTo>
                    <a:lnTo>
                      <a:pt x="13" y="25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80" y="3"/>
                    </a:lnTo>
                    <a:lnTo>
                      <a:pt x="87" y="8"/>
                    </a:lnTo>
                    <a:lnTo>
                      <a:pt x="95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7" y="40"/>
                    </a:lnTo>
                    <a:lnTo>
                      <a:pt x="120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20" y="306"/>
                    </a:lnTo>
                    <a:lnTo>
                      <a:pt x="117" y="313"/>
                    </a:lnTo>
                    <a:lnTo>
                      <a:pt x="112" y="323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3"/>
                    </a:lnTo>
                    <a:lnTo>
                      <a:pt x="87" y="348"/>
                    </a:lnTo>
                    <a:lnTo>
                      <a:pt x="80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3" y="351"/>
                    </a:lnTo>
                    <a:lnTo>
                      <a:pt x="33" y="348"/>
                    </a:lnTo>
                    <a:lnTo>
                      <a:pt x="25" y="343"/>
                    </a:lnTo>
                    <a:lnTo>
                      <a:pt x="20" y="336"/>
                    </a:lnTo>
                    <a:lnTo>
                      <a:pt x="13" y="331"/>
                    </a:lnTo>
                    <a:lnTo>
                      <a:pt x="8" y="323"/>
                    </a:lnTo>
                    <a:lnTo>
                      <a:pt x="5" y="313"/>
                    </a:lnTo>
                    <a:lnTo>
                      <a:pt x="3" y="306"/>
                    </a:lnTo>
                    <a:lnTo>
                      <a:pt x="3" y="296"/>
                    </a:lnTo>
                    <a:lnTo>
                      <a:pt x="3" y="60"/>
                    </a:lnTo>
                    <a:lnTo>
                      <a:pt x="3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078520" y="413388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2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5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5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2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57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1"/>
                    </a:lnTo>
                    <a:lnTo>
                      <a:pt x="60" y="353"/>
                    </a:lnTo>
                    <a:lnTo>
                      <a:pt x="50" y="351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57"/>
                    </a:lnTo>
                    <a:lnTo>
                      <a:pt x="0" y="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83356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943360" y="37148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998800" y="3300480"/>
                <a:ext cx="750960" cy="1176120"/>
              </a:xfrm>
              <a:custGeom>
                <a:avLst/>
                <a:gdLst/>
                <a:ahLst/>
                <a:rect l="l" t="t" r="r" b="b"/>
                <a:pathLst>
                  <a:path w="473" h="741">
                    <a:moveTo>
                      <a:pt x="473" y="741"/>
                    </a:moveTo>
                    <a:lnTo>
                      <a:pt x="473" y="0"/>
                    </a:lnTo>
                    <a:lnTo>
                      <a:pt x="0" y="0"/>
                    </a:lnTo>
                    <a:lnTo>
                      <a:pt x="0" y="741"/>
                    </a:lnTo>
                    <a:lnTo>
                      <a:pt x="473" y="741"/>
                    </a:lnTo>
                    <a:lnTo>
                      <a:pt x="473" y="74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160800" y="3830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2317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28752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343320" y="38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36636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417480" y="38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446280" y="38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3500280" y="38307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531600" y="3830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436840" y="4205160"/>
                <a:ext cx="6291360" cy="1874880"/>
              </a:xfrm>
              <a:custGeom>
                <a:avLst/>
                <a:gdLst/>
                <a:ahLst/>
                <a:rect l="l" t="t" r="r" b="b"/>
                <a:pathLst>
                  <a:path w="3963" h="1181">
                    <a:moveTo>
                      <a:pt x="329" y="84"/>
                    </a:moveTo>
                    <a:lnTo>
                      <a:pt x="0" y="84"/>
                    </a:lnTo>
                    <a:lnTo>
                      <a:pt x="0" y="1181"/>
                    </a:lnTo>
                    <a:lnTo>
                      <a:pt x="3963" y="1181"/>
                    </a:lnTo>
                    <a:lnTo>
                      <a:pt x="3963" y="0"/>
                    </a:lnTo>
                    <a:lnTo>
                      <a:pt x="389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1995120" y="3438360"/>
                <a:ext cx="9637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4927680" y="4410000"/>
                <a:ext cx="11592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126040" y="4255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208480" y="42559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144760" y="43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200560" y="43545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144400" y="4452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078520" y="5002200"/>
                <a:ext cx="190440" cy="560520"/>
              </a:xfrm>
              <a:custGeom>
                <a:avLst/>
                <a:gdLst/>
                <a:ahLst/>
                <a:rect l="l" t="t" r="r" b="b"/>
                <a:pathLst>
                  <a:path w="120" h="353">
                    <a:moveTo>
                      <a:pt x="0" y="57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0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5" y="10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3"/>
                    </a:lnTo>
                    <a:lnTo>
                      <a:pt x="117" y="303"/>
                    </a:lnTo>
                    <a:lnTo>
                      <a:pt x="115" y="313"/>
                    </a:lnTo>
                    <a:lnTo>
                      <a:pt x="112" y="321"/>
                    </a:lnTo>
                    <a:lnTo>
                      <a:pt x="107" y="328"/>
                    </a:lnTo>
                    <a:lnTo>
                      <a:pt x="102" y="336"/>
                    </a:lnTo>
                    <a:lnTo>
                      <a:pt x="95" y="341"/>
                    </a:lnTo>
                    <a:lnTo>
                      <a:pt x="87" y="346"/>
                    </a:lnTo>
                    <a:lnTo>
                      <a:pt x="77" y="351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1"/>
                    </a:lnTo>
                    <a:lnTo>
                      <a:pt x="32" y="346"/>
                    </a:lnTo>
                    <a:lnTo>
                      <a:pt x="25" y="341"/>
                    </a:lnTo>
                    <a:lnTo>
                      <a:pt x="17" y="336"/>
                    </a:lnTo>
                    <a:lnTo>
                      <a:pt x="12" y="328"/>
                    </a:lnTo>
                    <a:lnTo>
                      <a:pt x="7" y="321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3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126040" y="5124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208480" y="5124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144760" y="522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200560" y="52228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144400" y="5326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479080" y="4046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561520" y="404640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494200" y="4149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548560" y="41497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494200" y="4248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995480" y="3738600"/>
                <a:ext cx="968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05440" y="420048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>
                <a:off x="4366800" y="422424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>
                <a:off x="3749400" y="4224240"/>
                <a:ext cx="368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762600" y="39956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  <a:lnTo>
                      <a:pt x="129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892600" y="2211480"/>
                <a:ext cx="411120" cy="876240"/>
              </a:xfrm>
              <a:custGeom>
                <a:avLst/>
                <a:gdLst/>
                <a:ahLst/>
                <a:rect l="l" t="t" r="r" b="b"/>
                <a:pathLst>
                  <a:path w="259" h="552">
                    <a:moveTo>
                      <a:pt x="129" y="549"/>
                    </a:moveTo>
                    <a:lnTo>
                      <a:pt x="149" y="547"/>
                    </a:lnTo>
                    <a:lnTo>
                      <a:pt x="169" y="537"/>
                    </a:lnTo>
                    <a:lnTo>
                      <a:pt x="189" y="519"/>
                    </a:lnTo>
                    <a:lnTo>
                      <a:pt x="207" y="497"/>
                    </a:lnTo>
                    <a:lnTo>
                      <a:pt x="222" y="470"/>
                    </a:lnTo>
                    <a:lnTo>
                      <a:pt x="234" y="437"/>
                    </a:lnTo>
                    <a:lnTo>
                      <a:pt x="244" y="403"/>
                    </a:lnTo>
                    <a:lnTo>
                      <a:pt x="254" y="363"/>
                    </a:lnTo>
                    <a:lnTo>
                      <a:pt x="256" y="321"/>
                    </a:lnTo>
                    <a:lnTo>
                      <a:pt x="259" y="276"/>
                    </a:lnTo>
                    <a:lnTo>
                      <a:pt x="256" y="231"/>
                    </a:lnTo>
                    <a:lnTo>
                      <a:pt x="254" y="189"/>
                    </a:lnTo>
                    <a:lnTo>
                      <a:pt x="244" y="149"/>
                    </a:lnTo>
                    <a:lnTo>
                      <a:pt x="234" y="112"/>
                    </a:lnTo>
                    <a:lnTo>
                      <a:pt x="222" y="79"/>
                    </a:lnTo>
                    <a:lnTo>
                      <a:pt x="207" y="52"/>
                    </a:lnTo>
                    <a:lnTo>
                      <a:pt x="189" y="30"/>
                    </a:lnTo>
                    <a:lnTo>
                      <a:pt x="169" y="12"/>
                    </a:lnTo>
                    <a:lnTo>
                      <a:pt x="149" y="2"/>
                    </a:lnTo>
                    <a:lnTo>
                      <a:pt x="129" y="0"/>
                    </a:lnTo>
                    <a:lnTo>
                      <a:pt x="107" y="2"/>
                    </a:lnTo>
                    <a:lnTo>
                      <a:pt x="87" y="12"/>
                    </a:lnTo>
                    <a:lnTo>
                      <a:pt x="70" y="30"/>
                    </a:lnTo>
                    <a:lnTo>
                      <a:pt x="52" y="52"/>
                    </a:lnTo>
                    <a:lnTo>
                      <a:pt x="37" y="79"/>
                    </a:lnTo>
                    <a:lnTo>
                      <a:pt x="25" y="112"/>
                    </a:lnTo>
                    <a:lnTo>
                      <a:pt x="15" y="149"/>
                    </a:lnTo>
                    <a:lnTo>
                      <a:pt x="5" y="189"/>
                    </a:lnTo>
                    <a:lnTo>
                      <a:pt x="0" y="231"/>
                    </a:lnTo>
                    <a:lnTo>
                      <a:pt x="0" y="276"/>
                    </a:lnTo>
                    <a:lnTo>
                      <a:pt x="0" y="321"/>
                    </a:lnTo>
                    <a:lnTo>
                      <a:pt x="5" y="363"/>
                    </a:lnTo>
                    <a:lnTo>
                      <a:pt x="15" y="403"/>
                    </a:lnTo>
                    <a:lnTo>
                      <a:pt x="25" y="437"/>
                    </a:lnTo>
                    <a:lnTo>
                      <a:pt x="37" y="470"/>
                    </a:lnTo>
                    <a:lnTo>
                      <a:pt x="52" y="497"/>
                    </a:lnTo>
                    <a:lnTo>
                      <a:pt x="70" y="519"/>
                    </a:lnTo>
                    <a:lnTo>
                      <a:pt x="87" y="537"/>
                    </a:lnTo>
                    <a:lnTo>
                      <a:pt x="107" y="547"/>
                    </a:lnTo>
                    <a:lnTo>
                      <a:pt x="129" y="552"/>
                    </a:lnTo>
                    <a:lnTo>
                      <a:pt x="129" y="552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932200" y="25909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00636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06180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117600" y="2590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144600" y="2590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1762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232440" y="259092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726160" y="3960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793840" y="3960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850000" y="39607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56852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908600" y="43862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lnTo>
                      <a:pt x="124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1655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4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508040" y="4030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417680" y="4054320"/>
                <a:ext cx="10620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05440" y="341136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3754440" y="3438360"/>
                <a:ext cx="363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105440" y="48909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2104920" y="3438360"/>
                <a:ext cx="2016360" cy="1481400"/>
              </a:xfrm>
              <a:custGeom>
                <a:avLst/>
                <a:gdLst/>
                <a:ahLst/>
                <a:rect l="l" t="t" r="r" b="b"/>
                <a:pathLst>
                  <a:path w="1270" h="933">
                    <a:moveTo>
                      <a:pt x="1270" y="930"/>
                    </a:moveTo>
                    <a:lnTo>
                      <a:pt x="0" y="9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95480" y="2644920"/>
                <a:ext cx="849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2084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275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165560" y="2479680"/>
                <a:ext cx="201600" cy="334800"/>
              </a:xfrm>
              <a:custGeom>
                <a:avLst/>
                <a:gdLst/>
                <a:ahLst/>
                <a:rect l="l" t="t" r="r" b="b"/>
                <a:pathLst>
                  <a:path w="127" h="211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7" y="211"/>
                    </a:lnTo>
                    <a:lnTo>
                      <a:pt x="127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224600" y="25909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4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165560" y="213984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4" y="211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192920" y="225108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287600" y="2251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105440" y="29574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105440" y="22813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014720" y="2305080"/>
                <a:ext cx="106560" cy="679320"/>
              </a:xfrm>
              <a:custGeom>
                <a:avLst/>
                <a:gdLst/>
                <a:ahLst/>
                <a:rect l="l" t="t" r="r" b="b"/>
                <a:pathLst>
                  <a:path w="67" h="428">
                    <a:moveTo>
                      <a:pt x="67" y="0"/>
                    </a:moveTo>
                    <a:lnTo>
                      <a:pt x="0" y="3"/>
                    </a:lnTo>
                    <a:lnTo>
                      <a:pt x="0" y="428"/>
                    </a:lnTo>
                    <a:lnTo>
                      <a:pt x="67" y="428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  <a:lnTo>
                      <a:pt x="125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248520" y="2814480"/>
                <a:ext cx="198360" cy="33984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5" y="212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5" y="214"/>
                    </a:lnTo>
                    <a:lnTo>
                      <a:pt x="125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248520" y="3154320"/>
                <a:ext cx="198360" cy="2325600"/>
              </a:xfrm>
              <a:custGeom>
                <a:avLst/>
                <a:gdLst/>
                <a:ahLst/>
                <a:rect l="l" t="t" r="r" b="b"/>
                <a:pathLst>
                  <a:path w="125" h="1465">
                    <a:moveTo>
                      <a:pt x="125" y="1465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5" y="1465"/>
                    </a:lnTo>
                    <a:lnTo>
                      <a:pt x="125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303960" y="29257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248520" y="24796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125" h="211">
                    <a:moveTo>
                      <a:pt x="125" y="211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125" y="211"/>
                    </a:lnTo>
                    <a:lnTo>
                      <a:pt x="125" y="211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77320" y="25909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67320" y="25909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189840" y="29336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2" y="32"/>
                    </a:lnTo>
                    <a:lnTo>
                      <a:pt x="32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367160" y="2644920"/>
                <a:ext cx="1838520" cy="315720"/>
              </a:xfrm>
              <a:custGeom>
                <a:avLst/>
                <a:gdLst/>
                <a:ahLst/>
                <a:rect l="l" t="t" r="r" b="b"/>
                <a:pathLst>
                  <a:path w="1158" h="199">
                    <a:moveTo>
                      <a:pt x="1158" y="199"/>
                    </a:moveTo>
                    <a:lnTo>
                      <a:pt x="1043" y="199"/>
                    </a:lnTo>
                    <a:lnTo>
                      <a:pt x="1043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189840" y="262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362480" y="2305080"/>
                <a:ext cx="1843200" cy="339840"/>
              </a:xfrm>
              <a:custGeom>
                <a:avLst/>
                <a:gdLst/>
                <a:ahLst/>
                <a:rect l="l" t="t" r="r" b="b"/>
                <a:pathLst>
                  <a:path w="1161" h="214">
                    <a:moveTo>
                      <a:pt x="0" y="0"/>
                    </a:moveTo>
                    <a:lnTo>
                      <a:pt x="1094" y="3"/>
                    </a:lnTo>
                    <a:lnTo>
                      <a:pt x="1094" y="214"/>
                    </a:lnTo>
                    <a:lnTo>
                      <a:pt x="1161" y="214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  <a:lnTo>
                      <a:pt x="127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742160" y="2814480"/>
                <a:ext cx="201600" cy="339840"/>
              </a:xfrm>
              <a:custGeom>
                <a:avLst/>
                <a:gdLst/>
                <a:ahLst/>
                <a:rect l="l" t="t" r="r" b="b"/>
                <a:pathLst>
                  <a:path w="127" h="214">
                    <a:moveTo>
                      <a:pt x="127" y="212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214"/>
                    </a:lnTo>
                    <a:lnTo>
                      <a:pt x="127" y="214"/>
                    </a:lnTo>
                    <a:lnTo>
                      <a:pt x="127" y="21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742160" y="3154320"/>
                <a:ext cx="201600" cy="2325600"/>
              </a:xfrm>
              <a:custGeom>
                <a:avLst/>
                <a:gdLst/>
                <a:ahLst/>
                <a:rect l="l" t="t" r="r" b="b"/>
                <a:pathLst>
                  <a:path w="127" h="1465">
                    <a:moveTo>
                      <a:pt x="127" y="1465"/>
                    </a:moveTo>
                    <a:lnTo>
                      <a:pt x="127" y="0"/>
                    </a:lnTo>
                    <a:lnTo>
                      <a:pt x="0" y="0"/>
                    </a:lnTo>
                    <a:lnTo>
                      <a:pt x="0" y="1465"/>
                    </a:lnTo>
                    <a:lnTo>
                      <a:pt x="127" y="1465"/>
                    </a:lnTo>
                    <a:lnTo>
                      <a:pt x="127" y="146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771320" y="29257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66000" y="29257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18984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2" y="33"/>
                    </a:lnTo>
                    <a:lnTo>
                      <a:pt x="32" y="18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5927760" y="4019400"/>
                <a:ext cx="272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8160" y="29574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46880" y="2644920"/>
                <a:ext cx="1252440" cy="339480"/>
              </a:xfrm>
              <a:custGeom>
                <a:avLst/>
                <a:gdLst/>
                <a:ahLst/>
                <a:rect l="l" t="t" r="r" b="b"/>
                <a:pathLst>
                  <a:path w="789" h="214">
                    <a:moveTo>
                      <a:pt x="789" y="212"/>
                    </a:moveTo>
                    <a:lnTo>
                      <a:pt x="722" y="214"/>
                    </a:lnTo>
                    <a:lnTo>
                      <a:pt x="722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3480" y="3990960"/>
                <a:ext cx="5544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3" y="33"/>
                    </a:lnTo>
                    <a:lnTo>
                      <a:pt x="35" y="18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7943400" y="4019400"/>
                <a:ext cx="451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>
                <a:off x="7577280" y="4019400"/>
                <a:ext cx="118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83480" y="469440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43760" y="4390920"/>
                <a:ext cx="451080" cy="330480"/>
              </a:xfrm>
              <a:custGeom>
                <a:avLst/>
                <a:gdLst/>
                <a:ahLst/>
                <a:rect l="l" t="t" r="r" b="b"/>
                <a:pathLst>
                  <a:path w="284" h="208">
                    <a:moveTo>
                      <a:pt x="284" y="0"/>
                    </a:moveTo>
                    <a:lnTo>
                      <a:pt x="212" y="2"/>
                    </a:lnTo>
                    <a:lnTo>
                      <a:pt x="212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>
                <a:off x="6786720" y="4718160"/>
                <a:ext cx="9093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13676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165560" y="197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2368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2638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330440" y="1974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15312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22116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87760" y="230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31512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399000" y="2309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465960" y="23097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6327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7198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782120" y="2649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868880" y="2649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898400" y="264960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88040" y="26496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49960" y="39052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22124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276680" y="39052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303680" y="3905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359480" y="39052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07868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16076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216920" y="40194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300440" y="4019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354440" y="4019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390800" y="4019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603760" y="3513240"/>
                <a:ext cx="324000" cy="1008000"/>
              </a:xfrm>
              <a:custGeom>
                <a:avLst/>
                <a:gdLst/>
                <a:ahLst/>
                <a:rect l="l" t="t" r="r" b="b"/>
                <a:pathLst>
                  <a:path w="204" h="635">
                    <a:moveTo>
                      <a:pt x="0" y="0"/>
                    </a:moveTo>
                    <a:lnTo>
                      <a:pt x="0" y="257"/>
                    </a:lnTo>
                    <a:lnTo>
                      <a:pt x="65" y="319"/>
                    </a:lnTo>
                    <a:lnTo>
                      <a:pt x="0" y="381"/>
                    </a:lnTo>
                    <a:lnTo>
                      <a:pt x="0" y="635"/>
                    </a:lnTo>
                    <a:lnTo>
                      <a:pt x="204" y="441"/>
                    </a:lnTo>
                    <a:lnTo>
                      <a:pt x="204" y="19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078520" y="3343320"/>
                <a:ext cx="190440" cy="561960"/>
              </a:xfrm>
              <a:custGeom>
                <a:avLst/>
                <a:gdLst/>
                <a:ahLst/>
                <a:rect l="l" t="t" r="r" b="b"/>
                <a:pathLst>
                  <a:path w="120" h="354">
                    <a:moveTo>
                      <a:pt x="0" y="58"/>
                    </a:moveTo>
                    <a:lnTo>
                      <a:pt x="2" y="50"/>
                    </a:lnTo>
                    <a:lnTo>
                      <a:pt x="2" y="40"/>
                    </a:lnTo>
                    <a:lnTo>
                      <a:pt x="7" y="33"/>
                    </a:lnTo>
                    <a:lnTo>
                      <a:pt x="12" y="25"/>
                    </a:lnTo>
                    <a:lnTo>
                      <a:pt x="17" y="18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60" y="0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7" y="8"/>
                    </a:lnTo>
                    <a:lnTo>
                      <a:pt x="95" y="13"/>
                    </a:lnTo>
                    <a:lnTo>
                      <a:pt x="102" y="18"/>
                    </a:lnTo>
                    <a:lnTo>
                      <a:pt x="107" y="25"/>
                    </a:lnTo>
                    <a:lnTo>
                      <a:pt x="112" y="33"/>
                    </a:lnTo>
                    <a:lnTo>
                      <a:pt x="115" y="40"/>
                    </a:lnTo>
                    <a:lnTo>
                      <a:pt x="117" y="50"/>
                    </a:lnTo>
                    <a:lnTo>
                      <a:pt x="120" y="60"/>
                    </a:lnTo>
                    <a:lnTo>
                      <a:pt x="120" y="296"/>
                    </a:lnTo>
                    <a:lnTo>
                      <a:pt x="117" y="304"/>
                    </a:lnTo>
                    <a:lnTo>
                      <a:pt x="115" y="314"/>
                    </a:lnTo>
                    <a:lnTo>
                      <a:pt x="112" y="324"/>
                    </a:lnTo>
                    <a:lnTo>
                      <a:pt x="107" y="331"/>
                    </a:lnTo>
                    <a:lnTo>
                      <a:pt x="102" y="336"/>
                    </a:lnTo>
                    <a:lnTo>
                      <a:pt x="95" y="344"/>
                    </a:lnTo>
                    <a:lnTo>
                      <a:pt x="87" y="349"/>
                    </a:lnTo>
                    <a:lnTo>
                      <a:pt x="77" y="351"/>
                    </a:lnTo>
                    <a:lnTo>
                      <a:pt x="70" y="354"/>
                    </a:lnTo>
                    <a:lnTo>
                      <a:pt x="60" y="354"/>
                    </a:lnTo>
                    <a:lnTo>
                      <a:pt x="50" y="354"/>
                    </a:lnTo>
                    <a:lnTo>
                      <a:pt x="40" y="351"/>
                    </a:lnTo>
                    <a:lnTo>
                      <a:pt x="32" y="349"/>
                    </a:lnTo>
                    <a:lnTo>
                      <a:pt x="25" y="344"/>
                    </a:lnTo>
                    <a:lnTo>
                      <a:pt x="17" y="336"/>
                    </a:lnTo>
                    <a:lnTo>
                      <a:pt x="12" y="331"/>
                    </a:lnTo>
                    <a:lnTo>
                      <a:pt x="7" y="324"/>
                    </a:lnTo>
                    <a:lnTo>
                      <a:pt x="2" y="314"/>
                    </a:lnTo>
                    <a:lnTo>
                      <a:pt x="2" y="304"/>
                    </a:lnTo>
                    <a:lnTo>
                      <a:pt x="0" y="296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26040" y="34671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208480" y="34671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44760" y="356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200560" y="35686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144400" y="3668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173320" y="1689120"/>
                <a:ext cx="750960" cy="450720"/>
              </a:xfrm>
              <a:custGeom>
                <a:avLst/>
                <a:gdLst/>
                <a:ahLst/>
                <a:rect l="l" t="t" r="r" b="b"/>
                <a:pathLst>
                  <a:path w="473" h="284">
                    <a:moveTo>
                      <a:pt x="378" y="284"/>
                    </a:moveTo>
                    <a:lnTo>
                      <a:pt x="393" y="284"/>
                    </a:lnTo>
                    <a:lnTo>
                      <a:pt x="408" y="279"/>
                    </a:lnTo>
                    <a:lnTo>
                      <a:pt x="423" y="274"/>
                    </a:lnTo>
                    <a:lnTo>
                      <a:pt x="435" y="267"/>
                    </a:lnTo>
                    <a:lnTo>
                      <a:pt x="445" y="257"/>
                    </a:lnTo>
                    <a:lnTo>
                      <a:pt x="455" y="247"/>
                    </a:lnTo>
                    <a:lnTo>
                      <a:pt x="463" y="234"/>
                    </a:lnTo>
                    <a:lnTo>
                      <a:pt x="468" y="219"/>
                    </a:lnTo>
                    <a:lnTo>
                      <a:pt x="473" y="204"/>
                    </a:lnTo>
                    <a:lnTo>
                      <a:pt x="473" y="189"/>
                    </a:lnTo>
                    <a:lnTo>
                      <a:pt x="473" y="95"/>
                    </a:lnTo>
                    <a:lnTo>
                      <a:pt x="473" y="80"/>
                    </a:lnTo>
                    <a:lnTo>
                      <a:pt x="468" y="65"/>
                    </a:lnTo>
                    <a:lnTo>
                      <a:pt x="463" y="53"/>
                    </a:lnTo>
                    <a:lnTo>
                      <a:pt x="455" y="40"/>
                    </a:lnTo>
                    <a:lnTo>
                      <a:pt x="445" y="28"/>
                    </a:lnTo>
                    <a:lnTo>
                      <a:pt x="435" y="20"/>
                    </a:lnTo>
                    <a:lnTo>
                      <a:pt x="423" y="13"/>
                    </a:lnTo>
                    <a:lnTo>
                      <a:pt x="408" y="5"/>
                    </a:lnTo>
                    <a:lnTo>
                      <a:pt x="393" y="3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3"/>
                    </a:lnTo>
                    <a:lnTo>
                      <a:pt x="64" y="5"/>
                    </a:lnTo>
                    <a:lnTo>
                      <a:pt x="52" y="13"/>
                    </a:lnTo>
                    <a:lnTo>
                      <a:pt x="39" y="20"/>
                    </a:lnTo>
                    <a:lnTo>
                      <a:pt x="27" y="28"/>
                    </a:lnTo>
                    <a:lnTo>
                      <a:pt x="17" y="40"/>
                    </a:lnTo>
                    <a:lnTo>
                      <a:pt x="10" y="53"/>
                    </a:lnTo>
                    <a:lnTo>
                      <a:pt x="5" y="65"/>
                    </a:lnTo>
                    <a:lnTo>
                      <a:pt x="2" y="80"/>
                    </a:lnTo>
                    <a:lnTo>
                      <a:pt x="0" y="95"/>
                    </a:lnTo>
                    <a:lnTo>
                      <a:pt x="0" y="189"/>
                    </a:lnTo>
                    <a:lnTo>
                      <a:pt x="2" y="204"/>
                    </a:lnTo>
                    <a:lnTo>
                      <a:pt x="5" y="219"/>
                    </a:lnTo>
                    <a:lnTo>
                      <a:pt x="10" y="234"/>
                    </a:lnTo>
                    <a:lnTo>
                      <a:pt x="17" y="247"/>
                    </a:lnTo>
                    <a:lnTo>
                      <a:pt x="27" y="257"/>
                    </a:lnTo>
                    <a:lnTo>
                      <a:pt x="39" y="267"/>
                    </a:lnTo>
                    <a:lnTo>
                      <a:pt x="52" y="274"/>
                    </a:lnTo>
                    <a:lnTo>
                      <a:pt x="64" y="279"/>
                    </a:lnTo>
                    <a:lnTo>
                      <a:pt x="79" y="284"/>
                    </a:lnTo>
                    <a:lnTo>
                      <a:pt x="94" y="284"/>
                    </a:lnTo>
                    <a:lnTo>
                      <a:pt x="378" y="284"/>
                    </a:lnTo>
                    <a:lnTo>
                      <a:pt x="378" y="284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  <a:lnTo>
                      <a:pt x="376" y="2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390600" y="1698480"/>
              <a:ext cx="7664400" cy="4492800"/>
              <a:chOff x="390600" y="1698480"/>
              <a:chExt cx="7664400" cy="4492800"/>
            </a:xfrm>
          </p:grpSpPr>
          <p:sp>
            <p:nvSpPr>
              <p:cNvPr id="2452" name=""/>
              <p:cNvSpPr/>
              <p:nvPr/>
            </p:nvSpPr>
            <p:spPr>
              <a:xfrm>
                <a:off x="5438880" y="5405400"/>
                <a:ext cx="750960" cy="449280"/>
              </a:xfrm>
              <a:custGeom>
                <a:avLst/>
                <a:gdLst/>
                <a:ahLst/>
                <a:rect l="l" t="t" r="r" b="b"/>
                <a:pathLst>
                  <a:path w="473" h="283">
                    <a:moveTo>
                      <a:pt x="376" y="283"/>
                    </a:moveTo>
                    <a:lnTo>
                      <a:pt x="393" y="281"/>
                    </a:lnTo>
                    <a:lnTo>
                      <a:pt x="408" y="278"/>
                    </a:lnTo>
                    <a:lnTo>
                      <a:pt x="420" y="273"/>
                    </a:lnTo>
                    <a:lnTo>
                      <a:pt x="433" y="266"/>
                    </a:lnTo>
                    <a:lnTo>
                      <a:pt x="445" y="256"/>
                    </a:lnTo>
                    <a:lnTo>
                      <a:pt x="453" y="243"/>
                    </a:lnTo>
                    <a:lnTo>
                      <a:pt x="463" y="231"/>
                    </a:lnTo>
                    <a:lnTo>
                      <a:pt x="468" y="218"/>
                    </a:lnTo>
                    <a:lnTo>
                      <a:pt x="470" y="204"/>
                    </a:lnTo>
                    <a:lnTo>
                      <a:pt x="473" y="189"/>
                    </a:lnTo>
                    <a:lnTo>
                      <a:pt x="473" y="94"/>
                    </a:lnTo>
                    <a:lnTo>
                      <a:pt x="470" y="79"/>
                    </a:lnTo>
                    <a:lnTo>
                      <a:pt x="468" y="64"/>
                    </a:lnTo>
                    <a:lnTo>
                      <a:pt x="463" y="49"/>
                    </a:lnTo>
                    <a:lnTo>
                      <a:pt x="453" y="37"/>
                    </a:lnTo>
                    <a:lnTo>
                      <a:pt x="445" y="27"/>
                    </a:lnTo>
                    <a:lnTo>
                      <a:pt x="433" y="17"/>
                    </a:lnTo>
                    <a:lnTo>
                      <a:pt x="420" y="10"/>
                    </a:lnTo>
                    <a:lnTo>
                      <a:pt x="408" y="5"/>
                    </a:lnTo>
                    <a:lnTo>
                      <a:pt x="393" y="0"/>
                    </a:lnTo>
                    <a:lnTo>
                      <a:pt x="378" y="0"/>
                    </a:lnTo>
                    <a:lnTo>
                      <a:pt x="94" y="0"/>
                    </a:lnTo>
                    <a:lnTo>
                      <a:pt x="79" y="0"/>
                    </a:lnTo>
                    <a:lnTo>
                      <a:pt x="64" y="5"/>
                    </a:lnTo>
                    <a:lnTo>
                      <a:pt x="49" y="10"/>
                    </a:lnTo>
                    <a:lnTo>
                      <a:pt x="37" y="17"/>
                    </a:lnTo>
                    <a:lnTo>
                      <a:pt x="27" y="27"/>
                    </a:lnTo>
                    <a:lnTo>
                      <a:pt x="17" y="37"/>
                    </a:lnTo>
                    <a:lnTo>
                      <a:pt x="10" y="49"/>
                    </a:lnTo>
                    <a:lnTo>
                      <a:pt x="5" y="64"/>
                    </a:lnTo>
                    <a:lnTo>
                      <a:pt x="0" y="79"/>
                    </a:lnTo>
                    <a:lnTo>
                      <a:pt x="0" y="94"/>
                    </a:lnTo>
                    <a:lnTo>
                      <a:pt x="0" y="189"/>
                    </a:lnTo>
                    <a:lnTo>
                      <a:pt x="0" y="204"/>
                    </a:lnTo>
                    <a:lnTo>
                      <a:pt x="5" y="218"/>
                    </a:lnTo>
                    <a:lnTo>
                      <a:pt x="10" y="231"/>
                    </a:lnTo>
                    <a:lnTo>
                      <a:pt x="17" y="243"/>
                    </a:lnTo>
                    <a:lnTo>
                      <a:pt x="27" y="256"/>
                    </a:lnTo>
                    <a:lnTo>
                      <a:pt x="37" y="266"/>
                    </a:lnTo>
                    <a:lnTo>
                      <a:pt x="49" y="273"/>
                    </a:lnTo>
                    <a:lnTo>
                      <a:pt x="64" y="278"/>
                    </a:lnTo>
                    <a:lnTo>
                      <a:pt x="79" y="281"/>
                    </a:lnTo>
                    <a:lnTo>
                      <a:pt x="94" y="283"/>
                    </a:lnTo>
                    <a:lnTo>
                      <a:pt x="378" y="283"/>
                    </a:lnTo>
                    <a:lnTo>
                      <a:pt x="378" y="283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394000" y="174132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46492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523600" y="17413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57148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626920" y="1741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661840" y="17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717640" y="17413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3349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39040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444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47284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528280" y="18558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579400" y="1855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608560" y="185580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62692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682360" y="1855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738520" y="18558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46024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515680" y="197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571840" y="1974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595240" y="197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563800" y="55119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62428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679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715000" y="5511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78592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841720" y="5511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87664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932800" y="5511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116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006600" y="5511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067440" y="55119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72580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781240" y="5630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837400" y="56307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857560" y="5630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019840" y="4572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0198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019840" y="5353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4818240" y="4599000"/>
                <a:ext cx="22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019840" y="378612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545080" y="36003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268960" y="3624120"/>
                <a:ext cx="295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019840" y="36003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932360" y="3624120"/>
                <a:ext cx="111240" cy="2455920"/>
              </a:xfrm>
              <a:custGeom>
                <a:avLst/>
                <a:gdLst/>
                <a:ahLst/>
                <a:rect l="l" t="t" r="r" b="b"/>
                <a:pathLst>
                  <a:path w="70" h="1547">
                    <a:moveTo>
                      <a:pt x="70" y="0"/>
                    </a:moveTo>
                    <a:lnTo>
                      <a:pt x="0" y="0"/>
                    </a:lnTo>
                    <a:lnTo>
                      <a:pt x="0" y="154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019840" y="3411360"/>
                <a:ext cx="50760" cy="511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4366800" y="3438360"/>
                <a:ext cx="6764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781520" y="457524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28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765440" y="4054320"/>
                <a:ext cx="23004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967120" y="1839960"/>
                <a:ext cx="1509480" cy="804960"/>
              </a:xfrm>
              <a:custGeom>
                <a:avLst/>
                <a:gdLst/>
                <a:ahLst/>
                <a:rect l="l" t="t" r="r" b="b"/>
                <a:pathLst>
                  <a:path w="951" h="507">
                    <a:moveTo>
                      <a:pt x="951" y="507"/>
                    </a:moveTo>
                    <a:lnTo>
                      <a:pt x="951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454640" y="262080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4" y="33"/>
                    </a:moveTo>
                    <a:lnTo>
                      <a:pt x="17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654360" y="28065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714840" y="2365200"/>
                <a:ext cx="189000" cy="560520"/>
              </a:xfrm>
              <a:custGeom>
                <a:avLst/>
                <a:gdLst/>
                <a:ahLst/>
                <a:rect l="l" t="t" r="r" b="b"/>
                <a:pathLst>
                  <a:path w="119" h="353">
                    <a:moveTo>
                      <a:pt x="0" y="59"/>
                    </a:moveTo>
                    <a:lnTo>
                      <a:pt x="2" y="49"/>
                    </a:lnTo>
                    <a:lnTo>
                      <a:pt x="2" y="40"/>
                    </a:lnTo>
                    <a:lnTo>
                      <a:pt x="7" y="32"/>
                    </a:lnTo>
                    <a:lnTo>
                      <a:pt x="12" y="25"/>
                    </a:lnTo>
                    <a:lnTo>
                      <a:pt x="17" y="17"/>
                    </a:lnTo>
                    <a:lnTo>
                      <a:pt x="25" y="12"/>
                    </a:lnTo>
                    <a:lnTo>
                      <a:pt x="32" y="7"/>
                    </a:lnTo>
                    <a:lnTo>
                      <a:pt x="40" y="2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7" y="7"/>
                    </a:lnTo>
                    <a:lnTo>
                      <a:pt x="94" y="12"/>
                    </a:lnTo>
                    <a:lnTo>
                      <a:pt x="102" y="17"/>
                    </a:lnTo>
                    <a:lnTo>
                      <a:pt x="107" y="25"/>
                    </a:lnTo>
                    <a:lnTo>
                      <a:pt x="112" y="32"/>
                    </a:lnTo>
                    <a:lnTo>
                      <a:pt x="114" y="40"/>
                    </a:lnTo>
                    <a:lnTo>
                      <a:pt x="117" y="49"/>
                    </a:lnTo>
                    <a:lnTo>
                      <a:pt x="119" y="59"/>
                    </a:lnTo>
                    <a:lnTo>
                      <a:pt x="119" y="296"/>
                    </a:lnTo>
                    <a:lnTo>
                      <a:pt x="117" y="303"/>
                    </a:lnTo>
                    <a:lnTo>
                      <a:pt x="114" y="313"/>
                    </a:lnTo>
                    <a:lnTo>
                      <a:pt x="112" y="323"/>
                    </a:lnTo>
                    <a:lnTo>
                      <a:pt x="107" y="330"/>
                    </a:lnTo>
                    <a:lnTo>
                      <a:pt x="102" y="335"/>
                    </a:lnTo>
                    <a:lnTo>
                      <a:pt x="94" y="343"/>
                    </a:lnTo>
                    <a:lnTo>
                      <a:pt x="87" y="348"/>
                    </a:lnTo>
                    <a:lnTo>
                      <a:pt x="77" y="350"/>
                    </a:lnTo>
                    <a:lnTo>
                      <a:pt x="70" y="353"/>
                    </a:lnTo>
                    <a:lnTo>
                      <a:pt x="60" y="353"/>
                    </a:lnTo>
                    <a:lnTo>
                      <a:pt x="50" y="353"/>
                    </a:lnTo>
                    <a:lnTo>
                      <a:pt x="40" y="350"/>
                    </a:lnTo>
                    <a:lnTo>
                      <a:pt x="32" y="348"/>
                    </a:lnTo>
                    <a:lnTo>
                      <a:pt x="25" y="343"/>
                    </a:lnTo>
                    <a:lnTo>
                      <a:pt x="17" y="335"/>
                    </a:lnTo>
                    <a:lnTo>
                      <a:pt x="12" y="330"/>
                    </a:lnTo>
                    <a:lnTo>
                      <a:pt x="7" y="323"/>
                    </a:lnTo>
                    <a:lnTo>
                      <a:pt x="2" y="313"/>
                    </a:lnTo>
                    <a:lnTo>
                      <a:pt x="2" y="303"/>
                    </a:lnTo>
                    <a:lnTo>
                      <a:pt x="0" y="296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3563640" y="2830680"/>
                <a:ext cx="114120" cy="4680"/>
              </a:xfrm>
              <a:prstGeom prst="line">
                <a:avLst/>
              </a:prstGeom>
              <a:ln w="111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465000" y="2776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762360" y="248760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844800" y="24876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781080" y="259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836880" y="2590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780720" y="2689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786120" y="23097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932200" y="18162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30"/>
                    </a:moveTo>
                    <a:lnTo>
                      <a:pt x="30" y="0"/>
                    </a:lnTo>
                    <a:lnTo>
                      <a:pt x="0" y="15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995480" y="1989000"/>
                <a:ext cx="2125800" cy="3400560"/>
              </a:xfrm>
              <a:custGeom>
                <a:avLst/>
                <a:gdLst/>
                <a:ahLst/>
                <a:rect l="l" t="t" r="r" b="b"/>
                <a:pathLst>
                  <a:path w="1339" h="2142">
                    <a:moveTo>
                      <a:pt x="84" y="0"/>
                    </a:moveTo>
                    <a:lnTo>
                      <a:pt x="0" y="0"/>
                    </a:lnTo>
                    <a:lnTo>
                      <a:pt x="0" y="2142"/>
                    </a:lnTo>
                    <a:lnTo>
                      <a:pt x="1339" y="2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112840" y="196704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3" y="32"/>
                    </a:lnTo>
                    <a:lnTo>
                      <a:pt x="35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144880" y="20527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105440" y="50418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220840" y="3738600"/>
                <a:ext cx="1900440" cy="1330200"/>
              </a:xfrm>
              <a:custGeom>
                <a:avLst/>
                <a:gdLst/>
                <a:ahLst/>
                <a:rect l="l" t="t" r="r" b="b"/>
                <a:pathLst>
                  <a:path w="1197" h="838">
                    <a:moveTo>
                      <a:pt x="1197" y="836"/>
                    </a:moveTo>
                    <a:lnTo>
                      <a:pt x="0" y="83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105440" y="51912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995480" y="5214960"/>
                <a:ext cx="21258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105440" y="53611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3" y="33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971720" y="5191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33"/>
                    </a:moveTo>
                    <a:lnTo>
                      <a:pt x="17" y="33"/>
                    </a:ln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3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081160" y="341460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5" y="30"/>
                    </a:moveTo>
                    <a:lnTo>
                      <a:pt x="18" y="33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192400" y="371484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0"/>
                    </a:moveTo>
                    <a:lnTo>
                      <a:pt x="20" y="33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0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0"/>
                    </a:lnTo>
                    <a:lnTo>
                      <a:pt x="15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521080" y="214776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30"/>
                    </a:moveTo>
                    <a:lnTo>
                      <a:pt x="32" y="30"/>
                    </a:lnTo>
                    <a:lnTo>
                      <a:pt x="17" y="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548080" y="2187720"/>
                <a:ext cx="1928520" cy="3441600"/>
              </a:xfrm>
              <a:custGeom>
                <a:avLst/>
                <a:gdLst/>
                <a:ahLst/>
                <a:rect l="l" t="t" r="r" b="b"/>
                <a:pathLst>
                  <a:path w="1215" h="2168">
                    <a:moveTo>
                      <a:pt x="1215" y="1907"/>
                    </a:moveTo>
                    <a:lnTo>
                      <a:pt x="1215" y="2168"/>
                    </a:lnTo>
                    <a:lnTo>
                      <a:pt x="0" y="216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68348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3" y="32"/>
                    </a:lnTo>
                    <a:lnTo>
                      <a:pt x="32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H="1">
                <a:off x="6450120" y="5278320"/>
                <a:ext cx="12412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232680" y="5278320"/>
                <a:ext cx="328320" cy="276480"/>
              </a:xfrm>
              <a:custGeom>
                <a:avLst/>
                <a:gdLst/>
                <a:ahLst/>
                <a:rect l="l" t="t" r="r" b="b"/>
                <a:pathLst>
                  <a:path w="207" h="174">
                    <a:moveTo>
                      <a:pt x="207" y="0"/>
                    </a:moveTo>
                    <a:lnTo>
                      <a:pt x="207" y="174"/>
                    </a:lnTo>
                    <a:lnTo>
                      <a:pt x="0" y="1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37240" y="52545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3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7" y="8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229440" y="5283360"/>
                <a:ext cx="1825560" cy="422280"/>
              </a:xfrm>
              <a:custGeom>
                <a:avLst/>
                <a:gdLst/>
                <a:ahLst/>
                <a:rect l="l" t="t" r="r" b="b"/>
                <a:pathLst>
                  <a:path w="1150" h="266">
                    <a:moveTo>
                      <a:pt x="0" y="266"/>
                    </a:moveTo>
                    <a:lnTo>
                      <a:pt x="1150" y="266"/>
                    </a:lnTo>
                    <a:lnTo>
                      <a:pt x="1150" y="0"/>
                    </a:lnTo>
                    <a:lnTo>
                      <a:pt x="10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197760" y="5676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30" y="0"/>
                    </a:moveTo>
                    <a:lnTo>
                      <a:pt x="30" y="33"/>
                    </a:lnTo>
                    <a:lnTo>
                      <a:pt x="0" y="18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197760" y="55278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197760" y="560232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30" y="32"/>
                    </a:lnTo>
                    <a:lnTo>
                      <a:pt x="0" y="17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877080" y="39909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6449760" y="4019400"/>
                <a:ext cx="4395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762600" y="469440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809960" y="3813120"/>
                <a:ext cx="1976760" cy="2152800"/>
              </a:xfrm>
              <a:custGeom>
                <a:avLst/>
                <a:gdLst/>
                <a:ahLst/>
                <a:rect l="l" t="t" r="r" b="b"/>
                <a:pathLst>
                  <a:path w="1245" h="1356">
                    <a:moveTo>
                      <a:pt x="1245" y="130"/>
                    </a:moveTo>
                    <a:lnTo>
                      <a:pt x="1245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14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908600" y="60562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5" y="30"/>
                    </a:moveTo>
                    <a:lnTo>
                      <a:pt x="17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7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322360" y="4038480"/>
                <a:ext cx="4934160" cy="2152800"/>
              </a:xfrm>
              <a:custGeom>
                <a:avLst/>
                <a:gdLst/>
                <a:ahLst/>
                <a:rect l="l" t="t" r="r" b="b"/>
                <a:pathLst>
                  <a:path w="3108" h="1356">
                    <a:moveTo>
                      <a:pt x="3106" y="1050"/>
                    </a:moveTo>
                    <a:lnTo>
                      <a:pt x="3108" y="1356"/>
                    </a:lnTo>
                    <a:lnTo>
                      <a:pt x="0" y="1356"/>
                    </a:lnTo>
                    <a:lnTo>
                      <a:pt x="0" y="0"/>
                    </a:lnTo>
                    <a:lnTo>
                      <a:pt x="4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229520" y="56815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4105440" y="26179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654360" y="261792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3" y="35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5555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584000" y="294948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64592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674360" y="294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701720" y="2949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6200000">
                <a:off x="1875960" y="3909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200000">
                <a:off x="1858320" y="3864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6200000">
                <a:off x="1861560" y="3809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6200000">
                <a:off x="1875960" y="3774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rot="16200000">
                <a:off x="1872000" y="3743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rot="16200000">
                <a:off x="1858320" y="36950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rot="16200000">
                <a:off x="1861560" y="36432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rot="16200000">
                <a:off x="1875960" y="3607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rot="16200000">
                <a:off x="1879920" y="35859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rot="16200000">
                <a:off x="1858320" y="3541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rot="16200000">
                <a:off x="1858320" y="3485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56364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592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660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69396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7680" y="16984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25360" y="169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5308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351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96000" y="1698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078440" y="16984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14936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2048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260600" y="1698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rot="16200000">
                <a:off x="1580760" y="2626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rot="16200000">
                <a:off x="1559520" y="25772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rot="16200000">
                <a:off x="1580760" y="2537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rot="16200000">
                <a:off x="1580760" y="2512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rot="16200000">
                <a:off x="1552680" y="24552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rot="16200000">
                <a:off x="1539000" y="237132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rot="16200000">
                <a:off x="1576800" y="231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rot="16200000">
                <a:off x="1584720" y="22874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rot="16200000">
                <a:off x="1580760" y="2261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rot="16200000">
                <a:off x="1563120" y="2218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rot="16200000">
                <a:off x="424440" y="3565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rot="16200000">
                <a:off x="420840" y="34934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rot="16200000">
                <a:off x="407160" y="3409560"/>
                <a:ext cx="11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rot="16200000">
                <a:off x="444960" y="335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rot="16200000">
                <a:off x="452880" y="33256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rot="16200000">
                <a:off x="448920" y="3299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rot="16200000">
                <a:off x="431280" y="3256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03480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06216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1366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16548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228840" y="54878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29544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3228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398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45240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508560" y="54878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528360" y="54878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57948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07920" y="5487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661920" y="54878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699000" y="54878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769920" y="5487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386320" y="573264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367160" y="5065560"/>
                <a:ext cx="1019160" cy="690840"/>
              </a:xfrm>
              <a:custGeom>
                <a:avLst/>
                <a:gdLst/>
                <a:ahLst/>
                <a:rect l="l" t="t" r="r" b="b"/>
                <a:pathLst>
                  <a:path w="642" h="435">
                    <a:moveTo>
                      <a:pt x="642" y="435"/>
                    </a:moveTo>
                    <a:lnTo>
                      <a:pt x="129" y="435"/>
                    </a:lnTo>
                    <a:lnTo>
                      <a:pt x="129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54640" y="51912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4" y="33"/>
                    </a:moveTo>
                    <a:lnTo>
                      <a:pt x="19" y="33"/>
                    </a:lnTo>
                    <a:lnTo>
                      <a:pt x="19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2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378400" y="559908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3" y="32"/>
                    </a:lnTo>
                    <a:lnTo>
                      <a:pt x="33" y="17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189840" y="52545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67160" y="5376960"/>
                <a:ext cx="655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70400" y="5211720"/>
                <a:ext cx="64944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367160" y="4915080"/>
                <a:ext cx="1040040" cy="711000"/>
              </a:xfrm>
              <a:custGeom>
                <a:avLst/>
                <a:gdLst/>
                <a:ahLst/>
                <a:rect l="l" t="t" r="r" b="b"/>
                <a:pathLst>
                  <a:path w="655" h="448">
                    <a:moveTo>
                      <a:pt x="0" y="0"/>
                    </a:moveTo>
                    <a:lnTo>
                      <a:pt x="182" y="3"/>
                    </a:lnTo>
                    <a:lnTo>
                      <a:pt x="182" y="448"/>
                    </a:lnTo>
                    <a:lnTo>
                      <a:pt x="655" y="4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261040" y="5278320"/>
                <a:ext cx="944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987560" y="2081160"/>
                <a:ext cx="173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034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061800" y="525456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125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15252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1813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25080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27960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35088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40632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465720" y="5254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484080" y="5254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536640" y="5254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563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619080" y="52545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651120" y="52545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25640" y="5254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034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061800" y="5084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125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15252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1813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25080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27960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35088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40632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465720" y="508464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484080" y="50846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536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563640" y="50846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619080" y="5084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651120" y="5084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725640" y="50846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034800" y="4938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061800" y="49388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125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15252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1813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25080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27960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35088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40632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465720" y="49388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484080" y="493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536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563640" y="493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619080" y="49388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651120" y="4938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725640" y="4938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034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061800" y="47847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125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15252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1813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5080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7960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35088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40632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465720" y="478476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4840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536640" y="478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563640" y="478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19080" y="4784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651120" y="4784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725280" y="478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78200" y="5638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749480" y="5638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78200" y="5504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49120" y="5504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78200" y="52545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749480" y="5254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78200" y="50767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749480" y="5076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82920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8929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95916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98364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067520" y="5129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29800" y="51292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2133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3744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3083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5912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15280" y="51292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433640" y="5129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481520" y="5129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50996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561080" y="5129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593120" y="51292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64040" y="51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82956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90876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975720" y="55548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0545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083720" y="55548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173720" y="5554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24032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26444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353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3911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442280" y="5554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462080" y="5554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509960" y="5554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53696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588080" y="5554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620120" y="5554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691040" y="555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Mario Cortes</cp:lastModifiedBy>
  <cp:lastPrinted>1997-08-29T17:57:02Z</cp:lastPrinted>
  <dcterms:modified xsi:type="dcterms:W3CDTF">2004-11-06T14:45:26Z</dcterms:modified>
  <cp:revision>33</cp:revision>
  <dc:subject/>
  <dc:title>Chapter Six</dc:title>
</cp:coreProperties>
</file>